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2DFA9-2383-4BB9-9A76-9C1B97FA6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918B-6617-4B21-95BF-CE1229C99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7771A-00DB-48FE-8780-4DF0ADFD0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ED6A6-B5AE-4255-BA91-2BD008700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7925A-0492-4189-9717-001FC283B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B1235-147F-4212-8E97-BE4819843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1DEFB-C44F-4B39-9D06-98021BFD1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9DF9D-405C-4419-AFAA-329073223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4C4D5-83FF-4C6D-B41C-9E2B4555B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78EC5-387A-4E85-A51A-95B5F205C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964FC-33A1-408E-94DF-A12381FD3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80B3E-3001-4E98-B960-67505BCC6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23EEF-455D-48DA-B1FF-39B44126D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6951-7EAE-4517-B3C7-3BEC9FC9C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0268D-B95B-499A-891E-E4384628B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1A05F-0A42-49B8-8731-0DB961158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1C126-5D64-4CDB-A12D-9867DD2C1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48DD9D-5C5A-45BF-8D01-A5D3822759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6B6A49-B588-4E0D-8380-91A5E67D3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90AEC-BCC3-48F4-A9DC-AC92217F03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015FA-793D-4504-99AD-983E51A55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9F121-8C1C-442A-A707-9D7EED241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B16A-C4F4-4E1D-B6FE-2DAE64720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F3DB45-BED6-4D62-B8A3-7D4EB0C72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AC9A2-04EB-4E0E-B561-667849688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FDB10-25BE-4AB0-A6BD-CEC7FF2AD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6FC48-4369-4E49-9872-7F94B61CD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5A9D4-F2A7-490A-9705-6F219DB74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5D44DC-06E6-4340-A282-160B6549AB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9055E6-51F1-4645-9B52-1B25847D8A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125644-A2DE-4BCA-8C38-0777F5E66B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513C74-D568-4850-82A9-4F5F34E7F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B99E9-3229-49B7-821C-43BB493BC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709D7-0C26-4FD3-8F48-9231601EC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EF61AB-DEA6-4AB6-B7C3-B06F2ADCE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B32CB7-A076-448E-A2D2-E5722E358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AE7EC-7FCE-4AF9-B1D3-13DA51518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AAEC5-4B37-4BB6-A9DA-A76B47B01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8965D-FCEB-4D1F-8066-C52E8CC4A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F138A-EFBC-4FAA-84EC-AD7132C80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011066-938D-4E76-A3DD-8A9EA0A8C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BDBEB6-F873-4320-A3FE-FEBAF98E3F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EF3EB7-A487-4301-9D0C-E39C969828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AE648E-3E8D-4497-B596-96915F7826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40FF0-1DB7-4527-8F15-0E5F1D9A8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AF935-05EA-4EE2-AEA4-599C49B68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85686-2A0B-4EEF-B8D5-6CDAFDA669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11088C-1A27-4D8B-BA60-AA75FC427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89394B-3364-440E-81D3-BCA70BA6D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EFB0E-47F3-4CDD-8A17-38AD3DF8A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D6B1D-4D53-468B-8621-FFFC484A9E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4F3E5-84CA-459A-94EC-265955569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66515-372D-4E97-B701-CD40287A5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33BF34-2097-4B24-B8DD-528906233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633738-BC80-47CB-8B99-D749132531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D7607-BC43-4D6C-A407-344056D1D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9B83E4-993E-4E12-9BF7-7B095EE31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14040B-3EC9-484B-8A7B-E789DFFBCA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54664-B31C-4101-822C-AE32D931EF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ED4416-E21B-43FD-A58C-EEB8BA123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2E58A-831D-4BFD-9D88-3CDBF8E540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E0EFD9-F39F-42E0-BACF-177C9292C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5F933F-98D6-4749-9340-47E9F6535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3EA95-7A9F-4C35-B5E9-A1210E391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5D22B-D286-43A2-BEBE-F4C00069E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D0C8E-BD97-4993-B03E-65EE528F1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C6E0F-34B0-45C9-AE61-9A10A8C62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51DCD-70E1-4FBA-B6D2-84CAC35991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0AB34C-090A-421F-BB33-D7B7B28F78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B3300A-1763-4A44-888C-FD3F709B1A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2CA12-78B9-4F6F-89A1-9EED7BAB2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9B42-007F-4B6A-8DDF-E62EA1897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C228-379C-4608-B927-418B662CE623}" type="slidenum">
              <a:rPr b="0" lang="en-C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CB2B-2345-4C26-A4DD-FE03F5E5AECA}" type="slidenum">
              <a:rPr b="0" lang="en-C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D26F-E8E0-4C0F-919F-F773C9376A74}" type="slidenum">
              <a:rPr b="0" lang="en-C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C4C0-3D03-4F08-AD56-924B953E5FC3}" type="slidenum">
              <a:rPr b="0" lang="en-C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2EC9-FC2B-49FB-ADE2-606E1F5240C4}" type="slidenum">
              <a:rPr b="0" lang="en-C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B638-E855-40CA-A552-67E9E69F44BA}" type="slidenum">
              <a:rPr b="0" lang="en-C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pril 20</a:t>
            </a:r>
            <a:r>
              <a:rPr b="0" lang="en-CA" sz="2000" spc="-1" strike="noStrike" baseline="30000">
                <a:solidFill>
                  <a:srgbClr val="ffffff"/>
                </a:solidFill>
                <a:latin typeface="Arial"/>
              </a:rPr>
              <a:t>th</a:t>
            </a:r>
            <a:r>
              <a:rPr b="0" lang="en-CA" sz="2000" spc="-1" strike="noStrike">
                <a:solidFill>
                  <a:srgbClr val="ffffff"/>
                </a:solidFill>
                <a:latin typeface="Arial"/>
              </a:rPr>
              <a:t>, 201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Solution.</a:t>
            </a:r>
            <a:endParaRPr b="0" lang="en-US" sz="4600" spc="-1" strike="noStrike">
              <a:solidFill>
                <a:srgbClr val="ffffff"/>
              </a:solidFill>
              <a:latin typeface="Franklin Gothic Book"/>
            </a:endParaRPr>
          </a:p>
        </p:txBody>
      </p:sp>
      <p:sp>
        <p:nvSpPr>
          <p:cNvPr id="326" name=""/>
          <p:cNvSpPr txBox="1"/>
          <p:nvPr/>
        </p:nvSpPr>
        <p:spPr>
          <a:xfrm>
            <a:off x="456840" y="1600200"/>
            <a:ext cx="7467480" cy="5068800"/>
          </a:xfrm>
          <a:prstGeom prst="rect">
            <a:avLst/>
          </a:prstGeom>
          <a:noFill/>
          <a:ln w="0">
            <a:noFill/>
          </a:ln>
        </p:spPr>
        <p:txBody>
          <a:bodyPr lIns="90000" rIns="90000" tIns="46800" bIns="46800" anchor="t">
            <a:normAutofit fontScale="99000"/>
          </a:bodyPr>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ki</a:t>
            </a:r>
            <a:r>
              <a:rPr b="0" lang="en-US" sz="2800" spc="-1" strike="noStrike">
                <a:solidFill>
                  <a:srgbClr val="ffffff"/>
                </a:solidFill>
                <a:latin typeface="Arial"/>
              </a:rPr>
              <a:t> + E</a:t>
            </a:r>
            <a:r>
              <a:rPr b="0" lang="en-US" sz="2800" spc="-1" strike="noStrike" baseline="-25000">
                <a:solidFill>
                  <a:srgbClr val="ffffff"/>
                </a:solidFill>
                <a:latin typeface="Arial"/>
              </a:rPr>
              <a:t>pi</a:t>
            </a:r>
            <a:r>
              <a:rPr b="0" lang="en-US" sz="2800" spc="-1" strike="noStrike">
                <a:solidFill>
                  <a:srgbClr val="ffffff"/>
                </a:solidFill>
                <a:latin typeface="Arial"/>
              </a:rPr>
              <a:t> = E</a:t>
            </a:r>
            <a:r>
              <a:rPr b="0" lang="en-US" sz="2800" spc="-1" strike="noStrike" baseline="-25000">
                <a:solidFill>
                  <a:srgbClr val="ffffff"/>
                </a:solidFill>
                <a:latin typeface="Arial"/>
              </a:rPr>
              <a:t>kf </a:t>
            </a:r>
            <a:r>
              <a:rPr b="0" lang="en-US" sz="2800" spc="-1" strike="noStrike">
                <a:solidFill>
                  <a:srgbClr val="ffffff"/>
                </a:solidFill>
                <a:latin typeface="Arial"/>
              </a:rPr>
              <a:t>+ E</a:t>
            </a:r>
            <a:r>
              <a:rPr b="0" lang="en-US" sz="2800" spc="-1" strike="noStrike" baseline="-25000">
                <a:solidFill>
                  <a:srgbClr val="ffffff"/>
                </a:solidFill>
                <a:latin typeface="Arial"/>
              </a:rPr>
              <a:t>pf</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mv</a:t>
            </a:r>
            <a:r>
              <a:rPr b="0" lang="en-US" sz="2800" spc="-1" strike="noStrike" baseline="30000">
                <a:solidFill>
                  <a:srgbClr val="ffffff"/>
                </a:solidFill>
                <a:latin typeface="Arial"/>
              </a:rPr>
              <a:t>2</a:t>
            </a:r>
            <a:r>
              <a:rPr b="0" lang="en-US" sz="2800" spc="-1" strike="noStrike">
                <a:solidFill>
                  <a:srgbClr val="ffffff"/>
                </a:solidFill>
                <a:latin typeface="Arial"/>
              </a:rPr>
              <a:t> + mgh = 1/2mv</a:t>
            </a:r>
            <a:r>
              <a:rPr b="0" lang="en-US" sz="2800" spc="-1" strike="noStrike" baseline="30000">
                <a:solidFill>
                  <a:srgbClr val="ffffff"/>
                </a:solidFill>
                <a:latin typeface="Arial"/>
              </a:rPr>
              <a:t>2</a:t>
            </a:r>
            <a:r>
              <a:rPr b="0" lang="en-US" sz="2800" spc="-1" strike="noStrike">
                <a:solidFill>
                  <a:srgbClr val="ffffff"/>
                </a:solidFill>
                <a:latin typeface="Arial"/>
              </a:rPr>
              <a:t> + mgh</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m is in each term it can be cancelled!</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v</a:t>
            </a:r>
            <a:r>
              <a:rPr b="0" lang="en-US" sz="2800" spc="-1" strike="noStrike" baseline="30000">
                <a:solidFill>
                  <a:srgbClr val="ffffff"/>
                </a:solidFill>
                <a:latin typeface="Arial"/>
              </a:rPr>
              <a:t>2</a:t>
            </a:r>
            <a:r>
              <a:rPr b="0" lang="en-US" sz="2800" spc="-1" strike="noStrike">
                <a:solidFill>
                  <a:srgbClr val="ffffff"/>
                </a:solidFill>
                <a:latin typeface="Arial"/>
              </a:rPr>
              <a:t> +gh = 1/2v</a:t>
            </a:r>
            <a:r>
              <a:rPr b="0" lang="en-US" sz="2800" spc="-1" strike="noStrike" baseline="30000">
                <a:solidFill>
                  <a:srgbClr val="ffffff"/>
                </a:solidFill>
                <a:latin typeface="Arial"/>
              </a:rPr>
              <a:t>2</a:t>
            </a:r>
            <a:r>
              <a:rPr b="0" lang="en-US" sz="2800" spc="-1" strike="noStrike">
                <a:solidFill>
                  <a:srgbClr val="ffffff"/>
                </a:solidFill>
                <a:latin typeface="Arial"/>
              </a:rPr>
              <a:t> +gh</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befores on the left and afters on the right</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 + 9.81m/s</a:t>
            </a:r>
            <a:r>
              <a:rPr b="0" lang="en-US" sz="2800" spc="-1" strike="noStrike" baseline="30000">
                <a:solidFill>
                  <a:srgbClr val="ffffff"/>
                </a:solidFill>
                <a:latin typeface="Arial"/>
              </a:rPr>
              <a:t>2</a:t>
            </a:r>
            <a:r>
              <a:rPr b="0" lang="en-US" sz="2800" spc="-1" strike="noStrike">
                <a:solidFill>
                  <a:srgbClr val="ffffff"/>
                </a:solidFill>
                <a:latin typeface="Arial"/>
              </a:rPr>
              <a:t>x53m = 1/2v</a:t>
            </a:r>
            <a:r>
              <a:rPr b="0" lang="en-US" sz="2800" spc="-1" strike="noStrike" baseline="30000">
                <a:solidFill>
                  <a:srgbClr val="ffffff"/>
                </a:solidFill>
                <a:latin typeface="Arial"/>
              </a:rPr>
              <a:t>2</a:t>
            </a:r>
            <a:r>
              <a:rPr b="0" lang="en-US" sz="2800" spc="-1" strike="noStrike">
                <a:solidFill>
                  <a:srgbClr val="ffffff"/>
                </a:solidFill>
                <a:latin typeface="Arial"/>
              </a:rPr>
              <a:t> + 9.81m/s</a:t>
            </a:r>
            <a:r>
              <a:rPr b="0" lang="en-US" sz="2800" spc="-1" strike="noStrike" baseline="30000">
                <a:solidFill>
                  <a:srgbClr val="ffffff"/>
                </a:solidFill>
                <a:latin typeface="Arial"/>
              </a:rPr>
              <a:t>2</a:t>
            </a:r>
            <a:r>
              <a:rPr b="0" lang="en-US" sz="2800" spc="-1" strike="noStrike">
                <a:solidFill>
                  <a:srgbClr val="ffffff"/>
                </a:solidFill>
                <a:latin typeface="Arial"/>
              </a:rPr>
              <a:t>x22m</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9.93 - 215.82 = 1/2v</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04.11) = v</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7m/s = v</a:t>
            </a:r>
            <a:endParaRPr b="0" lang="en-US" sz="2800" spc="-1" strike="noStrike">
              <a:solidFill>
                <a:srgbClr val="ffffff"/>
              </a:solidFill>
              <a:latin typeface="Arial"/>
            </a:endParaRPr>
          </a:p>
          <a:p>
            <a:pPr marL="414720" indent="-378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27" name="Group 7"/>
          <p:cNvGrpSpPr/>
          <p:nvPr/>
        </p:nvGrpSpPr>
        <p:grpSpPr>
          <a:xfrm>
            <a:off x="1463760" y="2046240"/>
            <a:ext cx="3876480" cy="463680"/>
            <a:chOff x="1463760" y="2046240"/>
            <a:chExt cx="3876480" cy="463680"/>
          </a:xfrm>
        </p:grpSpPr>
        <p:sp>
          <p:nvSpPr>
            <p:cNvPr id="328" name="SMARTInkAnnotation0"/>
            <p:cNvSpPr/>
            <p:nvPr/>
          </p:nvSpPr>
          <p:spPr>
            <a:xfrm>
              <a:off x="5152680" y="2116440"/>
              <a:ext cx="187560" cy="393480"/>
            </a:xfrm>
            <a:custGeom>
              <a:avLst/>
              <a:gdLst>
                <a:gd name="textAreaLeft" fmla="*/ 0 w 187560"/>
                <a:gd name="textAreaRight" fmla="*/ 187920 w 187560"/>
                <a:gd name="textAreaTop" fmla="*/ 0 h 393480"/>
                <a:gd name="textAreaBottom" fmla="*/ 393840 h 393480"/>
              </a:gdLst>
              <a:ahLst/>
              <a:rect l="textAreaLeft" t="textAreaTop" r="textAreaRight" b="textAreaBottom"/>
              <a:pathLst>
                <a:path w="187525" h="392908">
                  <a:moveTo>
                    <a:pt x="187524" y="0"/>
                  </a:moveTo>
                  <a:lnTo>
                    <a:pt x="179835" y="0"/>
                  </a:lnTo>
                  <a:lnTo>
                    <a:pt x="179421" y="993"/>
                  </a:lnTo>
                  <a:lnTo>
                    <a:pt x="178626" y="8562"/>
                  </a:lnTo>
                  <a:lnTo>
                    <a:pt x="173864" y="13561"/>
                  </a:lnTo>
                  <a:lnTo>
                    <a:pt x="172463" y="16979"/>
                  </a:lnTo>
                  <a:lnTo>
                    <a:pt x="170909" y="26067"/>
                  </a:lnTo>
                  <a:lnTo>
                    <a:pt x="167571" y="36721"/>
                  </a:lnTo>
                  <a:lnTo>
                    <a:pt x="162781" y="48071"/>
                  </a:lnTo>
                  <a:lnTo>
                    <a:pt x="157344" y="59730"/>
                  </a:lnTo>
                  <a:lnTo>
                    <a:pt x="151622" y="68880"/>
                  </a:lnTo>
                  <a:lnTo>
                    <a:pt x="148706" y="72709"/>
                  </a:lnTo>
                  <a:lnTo>
                    <a:pt x="145770" y="78238"/>
                  </a:lnTo>
                  <a:lnTo>
                    <a:pt x="142821" y="84901"/>
                  </a:lnTo>
                  <a:lnTo>
                    <a:pt x="139863" y="92320"/>
                  </a:lnTo>
                  <a:lnTo>
                    <a:pt x="136898" y="99250"/>
                  </a:lnTo>
                  <a:lnTo>
                    <a:pt x="130958" y="112241"/>
                  </a:lnTo>
                  <a:lnTo>
                    <a:pt x="127985" y="119476"/>
                  </a:lnTo>
                  <a:lnTo>
                    <a:pt x="125011" y="127276"/>
                  </a:lnTo>
                  <a:lnTo>
                    <a:pt x="122036" y="135452"/>
                  </a:lnTo>
                  <a:lnTo>
                    <a:pt x="119060" y="142887"/>
                  </a:lnTo>
                  <a:lnTo>
                    <a:pt x="116085" y="149829"/>
                  </a:lnTo>
                  <a:lnTo>
                    <a:pt x="113109" y="156441"/>
                  </a:lnTo>
                  <a:lnTo>
                    <a:pt x="110133" y="163825"/>
                  </a:lnTo>
                  <a:lnTo>
                    <a:pt x="104180" y="179968"/>
                  </a:lnTo>
                  <a:lnTo>
                    <a:pt x="101203" y="187447"/>
                  </a:lnTo>
                  <a:lnTo>
                    <a:pt x="98227" y="194418"/>
                  </a:lnTo>
                  <a:lnTo>
                    <a:pt x="95251" y="201050"/>
                  </a:lnTo>
                  <a:lnTo>
                    <a:pt x="92274" y="208447"/>
                  </a:lnTo>
                  <a:lnTo>
                    <a:pt x="86321" y="224605"/>
                  </a:lnTo>
                  <a:lnTo>
                    <a:pt x="68462" y="276941"/>
                  </a:lnTo>
                  <a:lnTo>
                    <a:pt x="64493" y="284838"/>
                  </a:lnTo>
                  <a:lnTo>
                    <a:pt x="59863" y="292088"/>
                  </a:lnTo>
                  <a:lnTo>
                    <a:pt x="54791" y="298905"/>
                  </a:lnTo>
                  <a:lnTo>
                    <a:pt x="50418" y="305434"/>
                  </a:lnTo>
                  <a:lnTo>
                    <a:pt x="46511" y="311772"/>
                  </a:lnTo>
                  <a:lnTo>
                    <a:pt x="42913" y="317981"/>
                  </a:lnTo>
                  <a:lnTo>
                    <a:pt x="36270" y="330171"/>
                  </a:lnTo>
                  <a:lnTo>
                    <a:pt x="33111" y="336200"/>
                  </a:lnTo>
                  <a:lnTo>
                    <a:pt x="30011" y="341212"/>
                  </a:lnTo>
                  <a:lnTo>
                    <a:pt x="26953" y="345545"/>
                  </a:lnTo>
                  <a:lnTo>
                    <a:pt x="23921" y="349426"/>
                  </a:lnTo>
                  <a:lnTo>
                    <a:pt x="21901" y="353998"/>
                  </a:lnTo>
                  <a:lnTo>
                    <a:pt x="19656" y="364369"/>
                  </a:lnTo>
                  <a:lnTo>
                    <a:pt x="16012" y="372947"/>
                  </a:lnTo>
                  <a:lnTo>
                    <a:pt x="13652" y="376624"/>
                  </a:lnTo>
                  <a:lnTo>
                    <a:pt x="11086" y="379075"/>
                  </a:lnTo>
                  <a:lnTo>
                    <a:pt x="8383" y="380709"/>
                  </a:lnTo>
                  <a:lnTo>
                    <a:pt x="5589" y="381798"/>
                  </a:lnTo>
                  <a:lnTo>
                    <a:pt x="3726" y="383517"/>
                  </a:lnTo>
                  <a:lnTo>
                    <a:pt x="2484" y="385655"/>
                  </a:lnTo>
                  <a:lnTo>
                    <a:pt x="0" y="392907"/>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SMARTInkAnnotation1"/>
            <p:cNvSpPr/>
            <p:nvPr/>
          </p:nvSpPr>
          <p:spPr>
            <a:xfrm>
              <a:off x="4134600" y="2046240"/>
              <a:ext cx="214200" cy="446040"/>
            </a:xfrm>
            <a:custGeom>
              <a:avLst/>
              <a:gdLst>
                <a:gd name="textAreaLeft" fmla="*/ 0 w 214200"/>
                <a:gd name="textAreaRight" fmla="*/ 214560 w 214200"/>
                <a:gd name="textAreaTop" fmla="*/ 0 h 446040"/>
                <a:gd name="textAreaBottom" fmla="*/ 446400 h 446040"/>
              </a:gdLst>
              <a:ahLst/>
              <a:rect l="textAreaLeft" t="textAreaTop" r="textAreaRight" b="textAreaBottom"/>
              <a:pathLst>
                <a:path w="214313" h="445244">
                  <a:moveTo>
                    <a:pt x="214312" y="7689"/>
                  </a:moveTo>
                  <a:lnTo>
                    <a:pt x="206624" y="0"/>
                  </a:lnTo>
                  <a:lnTo>
                    <a:pt x="206210" y="579"/>
                  </a:lnTo>
                  <a:lnTo>
                    <a:pt x="205492" y="6556"/>
                  </a:lnTo>
                  <a:lnTo>
                    <a:pt x="205416" y="12094"/>
                  </a:lnTo>
                  <a:lnTo>
                    <a:pt x="200652" y="24759"/>
                  </a:lnTo>
                  <a:lnTo>
                    <a:pt x="198319" y="35450"/>
                  </a:lnTo>
                  <a:lnTo>
                    <a:pt x="196291" y="46816"/>
                  </a:lnTo>
                  <a:lnTo>
                    <a:pt x="192081" y="58482"/>
                  </a:lnTo>
                  <a:lnTo>
                    <a:pt x="186903" y="72928"/>
                  </a:lnTo>
                  <a:lnTo>
                    <a:pt x="184133" y="80947"/>
                  </a:lnTo>
                  <a:lnTo>
                    <a:pt x="181294" y="88278"/>
                  </a:lnTo>
                  <a:lnTo>
                    <a:pt x="175495" y="101714"/>
                  </a:lnTo>
                  <a:lnTo>
                    <a:pt x="172559" y="109068"/>
                  </a:lnTo>
                  <a:lnTo>
                    <a:pt x="166651" y="125176"/>
                  </a:lnTo>
                  <a:lnTo>
                    <a:pt x="162694" y="133638"/>
                  </a:lnTo>
                  <a:lnTo>
                    <a:pt x="158072" y="142257"/>
                  </a:lnTo>
                  <a:lnTo>
                    <a:pt x="153006" y="150979"/>
                  </a:lnTo>
                  <a:lnTo>
                    <a:pt x="148637" y="159770"/>
                  </a:lnTo>
                  <a:lnTo>
                    <a:pt x="144732" y="168608"/>
                  </a:lnTo>
                  <a:lnTo>
                    <a:pt x="141136" y="177476"/>
                  </a:lnTo>
                  <a:lnTo>
                    <a:pt x="136755" y="186364"/>
                  </a:lnTo>
                  <a:lnTo>
                    <a:pt x="131850" y="195267"/>
                  </a:lnTo>
                  <a:lnTo>
                    <a:pt x="126595" y="204178"/>
                  </a:lnTo>
                  <a:lnTo>
                    <a:pt x="121108" y="212104"/>
                  </a:lnTo>
                  <a:lnTo>
                    <a:pt x="115465" y="219371"/>
                  </a:lnTo>
                  <a:lnTo>
                    <a:pt x="109719" y="226201"/>
                  </a:lnTo>
                  <a:lnTo>
                    <a:pt x="103904" y="233731"/>
                  </a:lnTo>
                  <a:lnTo>
                    <a:pt x="98042" y="241727"/>
                  </a:lnTo>
                  <a:lnTo>
                    <a:pt x="92151" y="250035"/>
                  </a:lnTo>
                  <a:lnTo>
                    <a:pt x="87231" y="258549"/>
                  </a:lnTo>
                  <a:lnTo>
                    <a:pt x="82959" y="267202"/>
                  </a:lnTo>
                  <a:lnTo>
                    <a:pt x="79118" y="275948"/>
                  </a:lnTo>
                  <a:lnTo>
                    <a:pt x="74574" y="284755"/>
                  </a:lnTo>
                  <a:lnTo>
                    <a:pt x="69560" y="293602"/>
                  </a:lnTo>
                  <a:lnTo>
                    <a:pt x="64233" y="302478"/>
                  </a:lnTo>
                  <a:lnTo>
                    <a:pt x="59689" y="310379"/>
                  </a:lnTo>
                  <a:lnTo>
                    <a:pt x="51995" y="324450"/>
                  </a:lnTo>
                  <a:lnTo>
                    <a:pt x="47561" y="331972"/>
                  </a:lnTo>
                  <a:lnTo>
                    <a:pt x="32833" y="355788"/>
                  </a:lnTo>
                  <a:lnTo>
                    <a:pt x="28834" y="362786"/>
                  </a:lnTo>
                  <a:lnTo>
                    <a:pt x="25176" y="369436"/>
                  </a:lnTo>
                  <a:lnTo>
                    <a:pt x="21745" y="374861"/>
                  </a:lnTo>
                  <a:lnTo>
                    <a:pt x="15287" y="383535"/>
                  </a:lnTo>
                  <a:lnTo>
                    <a:pt x="13168" y="388230"/>
                  </a:lnTo>
                  <a:lnTo>
                    <a:pt x="9193" y="404318"/>
                  </a:lnTo>
                  <a:lnTo>
                    <a:pt x="4747" y="415809"/>
                  </a:lnTo>
                  <a:lnTo>
                    <a:pt x="1407" y="428695"/>
                  </a:lnTo>
                  <a:lnTo>
                    <a:pt x="625" y="435573"/>
                  </a:lnTo>
                  <a:lnTo>
                    <a:pt x="0" y="445243"/>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SMARTInkAnnotation2"/>
            <p:cNvSpPr/>
            <p:nvPr/>
          </p:nvSpPr>
          <p:spPr>
            <a:xfrm>
              <a:off x="2508840" y="2134440"/>
              <a:ext cx="196200" cy="357840"/>
            </a:xfrm>
            <a:custGeom>
              <a:avLst/>
              <a:gdLst>
                <a:gd name="textAreaLeft" fmla="*/ 0 w 196200"/>
                <a:gd name="textAreaRight" fmla="*/ 196560 w 196200"/>
                <a:gd name="textAreaTop" fmla="*/ 0 h 357840"/>
                <a:gd name="textAreaBottom" fmla="*/ 358200 h 357840"/>
              </a:gdLst>
              <a:ahLst/>
              <a:rect l="textAreaLeft" t="textAreaTop" r="textAreaRight" b="textAreaBottom"/>
              <a:pathLst>
                <a:path w="196454" h="357188">
                  <a:moveTo>
                    <a:pt x="196453" y="0"/>
                  </a:moveTo>
                  <a:lnTo>
                    <a:pt x="196453" y="4740"/>
                  </a:lnTo>
                  <a:lnTo>
                    <a:pt x="195461" y="7129"/>
                  </a:lnTo>
                  <a:lnTo>
                    <a:pt x="190316" y="15231"/>
                  </a:lnTo>
                  <a:lnTo>
                    <a:pt x="188764" y="20991"/>
                  </a:lnTo>
                  <a:lnTo>
                    <a:pt x="188075" y="29504"/>
                  </a:lnTo>
                  <a:lnTo>
                    <a:pt x="187891" y="34552"/>
                  </a:lnTo>
                  <a:lnTo>
                    <a:pt x="185041" y="45453"/>
                  </a:lnTo>
                  <a:lnTo>
                    <a:pt x="182891" y="51138"/>
                  </a:lnTo>
                  <a:lnTo>
                    <a:pt x="181459" y="56912"/>
                  </a:lnTo>
                  <a:lnTo>
                    <a:pt x="180504" y="62746"/>
                  </a:lnTo>
                  <a:lnTo>
                    <a:pt x="179867" y="68620"/>
                  </a:lnTo>
                  <a:lnTo>
                    <a:pt x="178451" y="75512"/>
                  </a:lnTo>
                  <a:lnTo>
                    <a:pt x="176514" y="83084"/>
                  </a:lnTo>
                  <a:lnTo>
                    <a:pt x="174230" y="91108"/>
                  </a:lnTo>
                  <a:lnTo>
                    <a:pt x="170724" y="98442"/>
                  </a:lnTo>
                  <a:lnTo>
                    <a:pt x="166402" y="105315"/>
                  </a:lnTo>
                  <a:lnTo>
                    <a:pt x="161536" y="111882"/>
                  </a:lnTo>
                  <a:lnTo>
                    <a:pt x="157300" y="119236"/>
                  </a:lnTo>
                  <a:lnTo>
                    <a:pt x="153484" y="127116"/>
                  </a:lnTo>
                  <a:lnTo>
                    <a:pt x="149947" y="135346"/>
                  </a:lnTo>
                  <a:lnTo>
                    <a:pt x="145605" y="143808"/>
                  </a:lnTo>
                  <a:lnTo>
                    <a:pt x="140726" y="152427"/>
                  </a:lnTo>
                  <a:lnTo>
                    <a:pt x="135489" y="161149"/>
                  </a:lnTo>
                  <a:lnTo>
                    <a:pt x="124379" y="178778"/>
                  </a:lnTo>
                  <a:lnTo>
                    <a:pt x="65473" y="267894"/>
                  </a:lnTo>
                  <a:lnTo>
                    <a:pt x="59524" y="275830"/>
                  </a:lnTo>
                  <a:lnTo>
                    <a:pt x="53573" y="283105"/>
                  </a:lnTo>
                  <a:lnTo>
                    <a:pt x="47622" y="289940"/>
                  </a:lnTo>
                  <a:lnTo>
                    <a:pt x="41669" y="297473"/>
                  </a:lnTo>
                  <a:lnTo>
                    <a:pt x="35717" y="305471"/>
                  </a:lnTo>
                  <a:lnTo>
                    <a:pt x="29764" y="313780"/>
                  </a:lnTo>
                  <a:lnTo>
                    <a:pt x="24804" y="321304"/>
                  </a:lnTo>
                  <a:lnTo>
                    <a:pt x="20504" y="328304"/>
                  </a:lnTo>
                  <a:lnTo>
                    <a:pt x="16646" y="334955"/>
                  </a:lnTo>
                  <a:lnTo>
                    <a:pt x="13082" y="340382"/>
                  </a:lnTo>
                  <a:lnTo>
                    <a:pt x="9713" y="344991"/>
                  </a:lnTo>
                  <a:lnTo>
                    <a:pt x="0" y="357187"/>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SMARTInkAnnotation3"/>
            <p:cNvSpPr/>
            <p:nvPr/>
          </p:nvSpPr>
          <p:spPr>
            <a:xfrm>
              <a:off x="1463760" y="2107440"/>
              <a:ext cx="267840" cy="402480"/>
            </a:xfrm>
            <a:custGeom>
              <a:avLst/>
              <a:gdLst>
                <a:gd name="textAreaLeft" fmla="*/ 0 w 267840"/>
                <a:gd name="textAreaRight" fmla="*/ 268200 w 267840"/>
                <a:gd name="textAreaTop" fmla="*/ 0 h 402480"/>
                <a:gd name="textAreaBottom" fmla="*/ 402840 h 402480"/>
              </a:gdLst>
              <a:ahLst/>
              <a:rect l="textAreaLeft" t="textAreaTop" r="textAreaRight" b="textAreaBottom"/>
              <a:pathLst>
                <a:path w="267892" h="401837">
                  <a:moveTo>
                    <a:pt x="267891" y="0"/>
                  </a:moveTo>
                  <a:lnTo>
                    <a:pt x="267891" y="4740"/>
                  </a:lnTo>
                  <a:lnTo>
                    <a:pt x="266899" y="6137"/>
                  </a:lnTo>
                  <a:lnTo>
                    <a:pt x="265245" y="7068"/>
                  </a:lnTo>
                  <a:lnTo>
                    <a:pt x="263150" y="7688"/>
                  </a:lnTo>
                  <a:lnTo>
                    <a:pt x="258177" y="11024"/>
                  </a:lnTo>
                  <a:lnTo>
                    <a:pt x="255462" y="13302"/>
                  </a:lnTo>
                  <a:lnTo>
                    <a:pt x="253652" y="16806"/>
                  </a:lnTo>
                  <a:lnTo>
                    <a:pt x="251641" y="25990"/>
                  </a:lnTo>
                  <a:lnTo>
                    <a:pt x="249120" y="30225"/>
                  </a:lnTo>
                  <a:lnTo>
                    <a:pt x="241027" y="37577"/>
                  </a:lnTo>
                  <a:lnTo>
                    <a:pt x="233462" y="49443"/>
                  </a:lnTo>
                  <a:lnTo>
                    <a:pt x="230055" y="56774"/>
                  </a:lnTo>
                  <a:lnTo>
                    <a:pt x="225800" y="63646"/>
                  </a:lnTo>
                  <a:lnTo>
                    <a:pt x="220979" y="70212"/>
                  </a:lnTo>
                  <a:lnTo>
                    <a:pt x="215780" y="76574"/>
                  </a:lnTo>
                  <a:lnTo>
                    <a:pt x="210330" y="83791"/>
                  </a:lnTo>
                  <a:lnTo>
                    <a:pt x="176698" y="130207"/>
                  </a:lnTo>
                  <a:lnTo>
                    <a:pt x="169392" y="141375"/>
                  </a:lnTo>
                  <a:lnTo>
                    <a:pt x="162538" y="152789"/>
                  </a:lnTo>
                  <a:lnTo>
                    <a:pt x="155983" y="164367"/>
                  </a:lnTo>
                  <a:lnTo>
                    <a:pt x="148637" y="176055"/>
                  </a:lnTo>
                  <a:lnTo>
                    <a:pt x="140764" y="187815"/>
                  </a:lnTo>
                  <a:lnTo>
                    <a:pt x="124077" y="211466"/>
                  </a:lnTo>
                  <a:lnTo>
                    <a:pt x="106739" y="235206"/>
                  </a:lnTo>
                  <a:lnTo>
                    <a:pt x="97949" y="248085"/>
                  </a:lnTo>
                  <a:lnTo>
                    <a:pt x="80244" y="275624"/>
                  </a:lnTo>
                  <a:lnTo>
                    <a:pt x="53542" y="319020"/>
                  </a:lnTo>
                  <a:lnTo>
                    <a:pt x="45616" y="332735"/>
                  </a:lnTo>
                  <a:lnTo>
                    <a:pt x="31519" y="358557"/>
                  </a:lnTo>
                  <a:lnTo>
                    <a:pt x="24981" y="369014"/>
                  </a:lnTo>
                  <a:lnTo>
                    <a:pt x="18639" y="377970"/>
                  </a:lnTo>
                  <a:lnTo>
                    <a:pt x="0" y="401836"/>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omework</a:t>
            </a:r>
            <a:endParaRPr b="0" lang="en-US" sz="4600" spc="-1" strike="noStrike">
              <a:solidFill>
                <a:srgbClr val="ffffff"/>
              </a:solidFill>
              <a:latin typeface="Franklin Gothic Book"/>
            </a:endParaRPr>
          </a:p>
        </p:txBody>
      </p:sp>
      <p:sp>
        <p:nvSpPr>
          <p:cNvPr id="33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g. 287 # 1, 2, 3, 4, 6</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Class activity.</a:t>
            </a:r>
            <a:endParaRPr b="0" lang="en-US" sz="4600" spc="-1" strike="noStrike">
              <a:solidFill>
                <a:srgbClr val="ffffff"/>
              </a:solidFill>
              <a:latin typeface="Franklin Gothic Book"/>
            </a:endParaRPr>
          </a:p>
        </p:txBody>
      </p:sp>
      <p:sp>
        <p:nvSpPr>
          <p:cNvPr id="33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In your groups,  you must determine the necessary gravitational energy necessary for the ball to gain enough velocity to roll off the table and into the cup. Choose the distance you wish for the ball to travel.Once you have determined the gravitational energy you must then show you calculations to determine the velocity of the ba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hat you need to pass in.</a:t>
            </a:r>
            <a:endParaRPr b="0" lang="en-US" sz="4600" spc="-1" strike="noStrike">
              <a:solidFill>
                <a:srgbClr val="ffffff"/>
              </a:solidFill>
              <a:latin typeface="Franklin Gothic Book"/>
            </a:endParaRPr>
          </a:p>
        </p:txBody>
      </p:sp>
      <p:sp>
        <p:nvSpPr>
          <p:cNvPr id="33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must show all you calculations, a diagram of your set up, write your own purpose and the solution to your purpos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Mechanical Energy</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Mechanical energy is the energy which is possessed by an object due to its motion or its stored energy of position. Mechanical energy can be either kinetic energy (energy of motion) or potential energy (stored energy of posi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Continued.</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The total amount of mechanical energy is merely the sum of the potential energy and the kinetic energy. This sum is simply referred to as the total mechanical energ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Conservation of Energy.</a:t>
            </a:r>
            <a:endParaRPr b="0" lang="en-US" sz="46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t is sometimes said that the mechanical energy is "conserved."</a:t>
            </a:r>
            <a:r>
              <a:rPr b="0" lang="en-CA" sz="2800" spc="-1" strike="noStrike">
                <a:solidFill>
                  <a:srgbClr val="ffffff"/>
                </a:solidFill>
                <a:latin typeface="Verdana"/>
              </a:rPr>
              <a:t>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ematically this can be seen in the following equation:</a:t>
            </a:r>
            <a:endParaRPr b="0" lang="en-US" sz="2800" spc="-1" strike="noStrike">
              <a:solidFill>
                <a:srgbClr val="ffffff"/>
              </a:solidFill>
              <a:latin typeface="Arial"/>
            </a:endParaRPr>
          </a:p>
          <a:p>
            <a:pPr lvl="1" marL="72216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ff"/>
                </a:solidFill>
                <a:latin typeface="Arial"/>
              </a:rPr>
              <a:t>E</a:t>
            </a:r>
            <a:r>
              <a:rPr b="1" lang="en-CA" sz="2600" spc="-1" strike="noStrike" baseline="-25000">
                <a:solidFill>
                  <a:srgbClr val="ffffff"/>
                </a:solidFill>
                <a:latin typeface="Arial"/>
              </a:rPr>
              <a:t>K</a:t>
            </a:r>
            <a:r>
              <a:rPr b="1" lang="en-CA" sz="2600" spc="-1" strike="noStrike" baseline="-30000">
                <a:solidFill>
                  <a:srgbClr val="ffffff"/>
                </a:solidFill>
                <a:latin typeface="Arial"/>
              </a:rPr>
              <a:t>i</a:t>
            </a:r>
            <a:r>
              <a:rPr b="1" lang="en-CA" sz="2600" spc="-1" strike="noStrike">
                <a:solidFill>
                  <a:srgbClr val="ffffff"/>
                </a:solidFill>
                <a:latin typeface="Arial"/>
              </a:rPr>
              <a:t> + E</a:t>
            </a:r>
            <a:r>
              <a:rPr b="1" lang="en-CA" sz="2600" spc="-1" strike="noStrike" baseline="-25000">
                <a:solidFill>
                  <a:srgbClr val="ffffff"/>
                </a:solidFill>
                <a:latin typeface="Arial"/>
              </a:rPr>
              <a:t>P</a:t>
            </a:r>
            <a:r>
              <a:rPr b="1" lang="en-CA" sz="2600" spc="-1" strike="noStrike" baseline="-30000">
                <a:solidFill>
                  <a:srgbClr val="ffffff"/>
                </a:solidFill>
                <a:latin typeface="Arial"/>
              </a:rPr>
              <a:t>i</a:t>
            </a:r>
            <a:r>
              <a:rPr b="1" lang="en-CA" sz="2600" spc="-1" strike="noStrike">
                <a:solidFill>
                  <a:srgbClr val="ffffff"/>
                </a:solidFill>
                <a:latin typeface="Arial"/>
              </a:rPr>
              <a:t> = E</a:t>
            </a:r>
            <a:r>
              <a:rPr b="1" lang="en-CA" sz="2600" spc="-1" strike="noStrike" baseline="-25000">
                <a:solidFill>
                  <a:srgbClr val="ffffff"/>
                </a:solidFill>
                <a:latin typeface="Arial"/>
              </a:rPr>
              <a:t>K</a:t>
            </a:r>
            <a:r>
              <a:rPr b="1" lang="en-CA" sz="2600" spc="-1" strike="noStrike" baseline="-30000">
                <a:solidFill>
                  <a:srgbClr val="ffffff"/>
                </a:solidFill>
                <a:latin typeface="Arial"/>
              </a:rPr>
              <a:t>f</a:t>
            </a:r>
            <a:r>
              <a:rPr b="1" lang="en-CA" sz="2600" spc="-1" strike="noStrike">
                <a:solidFill>
                  <a:srgbClr val="ffffff"/>
                </a:solidFill>
                <a:latin typeface="Arial"/>
              </a:rPr>
              <a:t> + E</a:t>
            </a:r>
            <a:r>
              <a:rPr b="1" lang="en-CA" sz="2600" spc="-1" strike="noStrike" baseline="-25000">
                <a:solidFill>
                  <a:srgbClr val="ffffff"/>
                </a:solidFill>
                <a:latin typeface="Arial"/>
              </a:rPr>
              <a:t>Pf</a:t>
            </a:r>
            <a:r>
              <a:rPr b="0" lang="en-CA" sz="2600" spc="-1" strike="noStrike">
                <a:solidFill>
                  <a:srgbClr val="ffffff"/>
                </a:solidFill>
                <a:latin typeface="Verdana"/>
              </a:rPr>
              <a:t> </a:t>
            </a:r>
            <a:endParaRPr b="0" lang="en-US" sz="26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 these situations, the sum of the kinetic and potential energy is the same on each side of the eq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100" spc="-1" strike="noStrike">
                <a:solidFill>
                  <a:srgbClr val="ffffff"/>
                </a:solidFill>
                <a:latin typeface="Franklin Gothic Book"/>
              </a:rPr>
              <a:t>Ex of when Mechanical Energy is conserved.</a:t>
            </a:r>
            <a:endParaRPr b="0" lang="en-US" sz="4100" spc="-1" strike="noStrike">
              <a:solidFill>
                <a:srgbClr val="ffffff"/>
              </a:solidFill>
              <a:latin typeface="Franklin Gothic Book"/>
            </a:endParaRPr>
          </a:p>
        </p:txBody>
      </p:sp>
      <p:pic>
        <p:nvPicPr>
          <p:cNvPr id="263" name="Picture 5" descr="skiing"/>
          <p:cNvPicPr/>
          <p:nvPr/>
        </p:nvPicPr>
        <p:blipFill>
          <a:blip r:embed="rId1"/>
          <a:stretch/>
        </p:blipFill>
        <p:spPr>
          <a:xfrm>
            <a:off x="758880" y="1484280"/>
            <a:ext cx="7126200" cy="48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Ex.2</a:t>
            </a:r>
            <a:endParaRPr b="0" lang="en-US" sz="4600" spc="-1" strike="noStrike">
              <a:solidFill>
                <a:srgbClr val="ffffff"/>
              </a:solidFill>
              <a:latin typeface="Franklin Gothic Book"/>
            </a:endParaRPr>
          </a:p>
        </p:txBody>
      </p:sp>
      <p:pic>
        <p:nvPicPr>
          <p:cNvPr id="265" name="Picture 4" descr="conserving energy"/>
          <p:cNvPicPr/>
          <p:nvPr/>
        </p:nvPicPr>
        <p:blipFill>
          <a:blip r:embed="rId1"/>
          <a:stretch/>
        </p:blipFill>
        <p:spPr>
          <a:xfrm>
            <a:off x="79200" y="1773360"/>
            <a:ext cx="8780760" cy="44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Examples....</a:t>
            </a:r>
            <a:endParaRPr b="0" lang="en-US" sz="46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 whether energy is transferred from PE to KE or vise versa.</a:t>
            </a:r>
            <a:endParaRPr b="0" lang="en-US" sz="28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all falls from the height of 2m in the absence of air resistance</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kier glides from location A to B</a:t>
            </a: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 friction free ice.</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ll travels upwards to a man in the bleachers</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ngee cord begins to exert an upward</a:t>
            </a: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upon a falling bungee jumper</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8" name="Group 8"/>
          <p:cNvGrpSpPr/>
          <p:nvPr/>
        </p:nvGrpSpPr>
        <p:grpSpPr>
          <a:xfrm>
            <a:off x="6419880" y="2857680"/>
            <a:ext cx="1054080" cy="1000080"/>
            <a:chOff x="6419880" y="2857680"/>
            <a:chExt cx="1054080" cy="1000080"/>
          </a:xfrm>
        </p:grpSpPr>
        <p:sp>
          <p:nvSpPr>
            <p:cNvPr id="269" name="SMARTInkAnnotation4"/>
            <p:cNvSpPr/>
            <p:nvPr/>
          </p:nvSpPr>
          <p:spPr>
            <a:xfrm>
              <a:off x="6419880" y="3098880"/>
              <a:ext cx="884520" cy="758880"/>
            </a:xfrm>
            <a:custGeom>
              <a:avLst/>
              <a:gdLst>
                <a:gd name="textAreaLeft" fmla="*/ 0 w 884520"/>
                <a:gd name="textAreaRight" fmla="*/ 884880 w 884520"/>
                <a:gd name="textAreaTop" fmla="*/ 0 h 758880"/>
                <a:gd name="textAreaBottom" fmla="*/ 759240 h 758880"/>
              </a:gdLst>
              <a:ahLst/>
              <a:rect l="textAreaLeft" t="textAreaTop" r="textAreaRight" b="textAreaBottom"/>
              <a:pathLst>
                <a:path w="884040" h="758647">
                  <a:moveTo>
                    <a:pt x="0" y="71060"/>
                  </a:moveTo>
                  <a:lnTo>
                    <a:pt x="4740" y="66319"/>
                  </a:lnTo>
                  <a:lnTo>
                    <a:pt x="7128" y="64923"/>
                  </a:lnTo>
                  <a:lnTo>
                    <a:pt x="15231" y="61965"/>
                  </a:lnTo>
                  <a:lnTo>
                    <a:pt x="26858" y="52580"/>
                  </a:lnTo>
                  <a:lnTo>
                    <a:pt x="29812" y="49810"/>
                  </a:lnTo>
                  <a:lnTo>
                    <a:pt x="32773" y="47964"/>
                  </a:lnTo>
                  <a:lnTo>
                    <a:pt x="41681" y="44373"/>
                  </a:lnTo>
                  <a:lnTo>
                    <a:pt x="53580" y="34773"/>
                  </a:lnTo>
                  <a:lnTo>
                    <a:pt x="56556" y="31986"/>
                  </a:lnTo>
                  <a:lnTo>
                    <a:pt x="59532" y="30128"/>
                  </a:lnTo>
                  <a:lnTo>
                    <a:pt x="68462" y="26520"/>
                  </a:lnTo>
                  <a:lnTo>
                    <a:pt x="77391" y="20601"/>
                  </a:lnTo>
                  <a:lnTo>
                    <a:pt x="101387" y="11618"/>
                  </a:lnTo>
                  <a:lnTo>
                    <a:pt x="108892" y="9915"/>
                  </a:lnTo>
                  <a:lnTo>
                    <a:pt x="127931" y="7829"/>
                  </a:lnTo>
                  <a:lnTo>
                    <a:pt x="139990" y="2495"/>
                  </a:lnTo>
                  <a:lnTo>
                    <a:pt x="161341" y="190"/>
                  </a:lnTo>
                  <a:lnTo>
                    <a:pt x="167091" y="0"/>
                  </a:lnTo>
                  <a:lnTo>
                    <a:pt x="171917" y="867"/>
                  </a:lnTo>
                  <a:lnTo>
                    <a:pt x="184443" y="5834"/>
                  </a:lnTo>
                  <a:lnTo>
                    <a:pt x="205950" y="8015"/>
                  </a:lnTo>
                  <a:lnTo>
                    <a:pt x="211714" y="8194"/>
                  </a:lnTo>
                  <a:lnTo>
                    <a:pt x="223409" y="11038"/>
                  </a:lnTo>
                  <a:lnTo>
                    <a:pt x="247089" y="20949"/>
                  </a:lnTo>
                  <a:lnTo>
                    <a:pt x="270874" y="32461"/>
                  </a:lnTo>
                  <a:lnTo>
                    <a:pt x="282776" y="38361"/>
                  </a:lnTo>
                  <a:lnTo>
                    <a:pt x="287737" y="42315"/>
                  </a:lnTo>
                  <a:lnTo>
                    <a:pt x="300449" y="56369"/>
                  </a:lnTo>
                  <a:lnTo>
                    <a:pt x="315351" y="68250"/>
                  </a:lnTo>
                  <a:lnTo>
                    <a:pt x="332424" y="89540"/>
                  </a:lnTo>
                  <a:lnTo>
                    <a:pt x="346212" y="106963"/>
                  </a:lnTo>
                  <a:lnTo>
                    <a:pt x="359761" y="130627"/>
                  </a:lnTo>
                  <a:lnTo>
                    <a:pt x="378128" y="160547"/>
                  </a:lnTo>
                  <a:lnTo>
                    <a:pt x="389079" y="181359"/>
                  </a:lnTo>
                  <a:lnTo>
                    <a:pt x="398607" y="204944"/>
                  </a:lnTo>
                  <a:lnTo>
                    <a:pt x="407715" y="225933"/>
                  </a:lnTo>
                  <a:lnTo>
                    <a:pt x="413709" y="242087"/>
                  </a:lnTo>
                  <a:lnTo>
                    <a:pt x="428620" y="285552"/>
                  </a:lnTo>
                  <a:lnTo>
                    <a:pt x="434576" y="302319"/>
                  </a:lnTo>
                  <a:lnTo>
                    <a:pt x="442515" y="323907"/>
                  </a:lnTo>
                  <a:lnTo>
                    <a:pt x="444720" y="340202"/>
                  </a:lnTo>
                  <a:lnTo>
                    <a:pt x="450703" y="361370"/>
                  </a:lnTo>
                  <a:lnTo>
                    <a:pt x="458758" y="384950"/>
                  </a:lnTo>
                  <a:lnTo>
                    <a:pt x="473322" y="421357"/>
                  </a:lnTo>
                  <a:lnTo>
                    <a:pt x="482218" y="444065"/>
                  </a:lnTo>
                  <a:lnTo>
                    <a:pt x="491137" y="466007"/>
                  </a:lnTo>
                  <a:lnTo>
                    <a:pt x="496096" y="481740"/>
                  </a:lnTo>
                  <a:lnTo>
                    <a:pt x="499879" y="501754"/>
                  </a:lnTo>
                  <a:lnTo>
                    <a:pt x="506843" y="520252"/>
                  </a:lnTo>
                  <a:lnTo>
                    <a:pt x="515191" y="537308"/>
                  </a:lnTo>
                  <a:lnTo>
                    <a:pt x="529860" y="560446"/>
                  </a:lnTo>
                  <a:lnTo>
                    <a:pt x="541740" y="582280"/>
                  </a:lnTo>
                  <a:lnTo>
                    <a:pt x="556619" y="605137"/>
                  </a:lnTo>
                  <a:lnTo>
                    <a:pt x="565547" y="617360"/>
                  </a:lnTo>
                  <a:lnTo>
                    <a:pt x="587498" y="640515"/>
                  </a:lnTo>
                  <a:lnTo>
                    <a:pt x="626782" y="679978"/>
                  </a:lnTo>
                  <a:lnTo>
                    <a:pt x="653490" y="699002"/>
                  </a:lnTo>
                  <a:lnTo>
                    <a:pt x="668113" y="708011"/>
                  </a:lnTo>
                  <a:lnTo>
                    <a:pt x="676616" y="711336"/>
                  </a:lnTo>
                  <a:lnTo>
                    <a:pt x="684695" y="713807"/>
                  </a:lnTo>
                  <a:lnTo>
                    <a:pt x="700400" y="719784"/>
                  </a:lnTo>
                  <a:lnTo>
                    <a:pt x="716628" y="722987"/>
                  </a:lnTo>
                  <a:lnTo>
                    <a:pt x="729155" y="728788"/>
                  </a:lnTo>
                  <a:lnTo>
                    <a:pt x="744992" y="730947"/>
                  </a:lnTo>
                  <a:lnTo>
                    <a:pt x="762252" y="732579"/>
                  </a:lnTo>
                  <a:lnTo>
                    <a:pt x="785863" y="738871"/>
                  </a:lnTo>
                  <a:lnTo>
                    <a:pt x="809448" y="740534"/>
                  </a:lnTo>
                  <a:lnTo>
                    <a:pt x="819799" y="740674"/>
                  </a:lnTo>
                  <a:lnTo>
                    <a:pt x="831013" y="743382"/>
                  </a:lnTo>
                  <a:lnTo>
                    <a:pt x="845838" y="747840"/>
                  </a:lnTo>
                  <a:lnTo>
                    <a:pt x="869011" y="749606"/>
                  </a:lnTo>
                  <a:lnTo>
                    <a:pt x="872036" y="750635"/>
                  </a:lnTo>
                  <a:lnTo>
                    <a:pt x="884039" y="758646"/>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SMARTInkAnnotation5"/>
            <p:cNvSpPr/>
            <p:nvPr/>
          </p:nvSpPr>
          <p:spPr>
            <a:xfrm>
              <a:off x="6518160" y="2857680"/>
              <a:ext cx="98280" cy="214200"/>
            </a:xfrm>
            <a:custGeom>
              <a:avLst/>
              <a:gdLst>
                <a:gd name="textAreaLeft" fmla="*/ 0 w 98280"/>
                <a:gd name="textAreaRight" fmla="*/ 98640 w 98280"/>
                <a:gd name="textAreaTop" fmla="*/ 0 h 214200"/>
                <a:gd name="textAreaBottom" fmla="*/ 214560 h 214200"/>
              </a:gdLst>
              <a:ahLst/>
              <a:rect l="textAreaLeft" t="textAreaTop" r="textAreaRight" b="textAreaBottom"/>
              <a:pathLst>
                <a:path w="98227" h="214187">
                  <a:moveTo>
                    <a:pt x="35718" y="71315"/>
                  </a:moveTo>
                  <a:lnTo>
                    <a:pt x="35718" y="105867"/>
                  </a:lnTo>
                  <a:lnTo>
                    <a:pt x="34727" y="110225"/>
                  </a:lnTo>
                  <a:lnTo>
                    <a:pt x="33073" y="114122"/>
                  </a:lnTo>
                  <a:lnTo>
                    <a:pt x="30978" y="117712"/>
                  </a:lnTo>
                  <a:lnTo>
                    <a:pt x="29582" y="122090"/>
                  </a:lnTo>
                  <a:lnTo>
                    <a:pt x="28651" y="126993"/>
                  </a:lnTo>
                  <a:lnTo>
                    <a:pt x="28029" y="132246"/>
                  </a:lnTo>
                  <a:lnTo>
                    <a:pt x="27616" y="136741"/>
                  </a:lnTo>
                  <a:lnTo>
                    <a:pt x="27340" y="140729"/>
                  </a:lnTo>
                  <a:lnTo>
                    <a:pt x="27157" y="144380"/>
                  </a:lnTo>
                  <a:lnTo>
                    <a:pt x="26042" y="148798"/>
                  </a:lnTo>
                  <a:lnTo>
                    <a:pt x="24306" y="153728"/>
                  </a:lnTo>
                  <a:lnTo>
                    <a:pt x="22157" y="158999"/>
                  </a:lnTo>
                  <a:lnTo>
                    <a:pt x="20724" y="163506"/>
                  </a:lnTo>
                  <a:lnTo>
                    <a:pt x="19769" y="167502"/>
                  </a:lnTo>
                  <a:lnTo>
                    <a:pt x="19133" y="171159"/>
                  </a:lnTo>
                  <a:lnTo>
                    <a:pt x="17716" y="175581"/>
                  </a:lnTo>
                  <a:lnTo>
                    <a:pt x="15780" y="180513"/>
                  </a:lnTo>
                  <a:lnTo>
                    <a:pt x="13496" y="185786"/>
                  </a:lnTo>
                  <a:lnTo>
                    <a:pt x="11975" y="190293"/>
                  </a:lnTo>
                  <a:lnTo>
                    <a:pt x="10959" y="194290"/>
                  </a:lnTo>
                  <a:lnTo>
                    <a:pt x="10282" y="197947"/>
                  </a:lnTo>
                  <a:lnTo>
                    <a:pt x="9831" y="201377"/>
                  </a:lnTo>
                  <a:lnTo>
                    <a:pt x="9331" y="207834"/>
                  </a:lnTo>
                  <a:lnTo>
                    <a:pt x="8204" y="209952"/>
                  </a:lnTo>
                  <a:lnTo>
                    <a:pt x="6461" y="211365"/>
                  </a:lnTo>
                  <a:lnTo>
                    <a:pt x="23" y="214180"/>
                  </a:lnTo>
                  <a:lnTo>
                    <a:pt x="10" y="214186"/>
                  </a:lnTo>
                  <a:lnTo>
                    <a:pt x="0" y="193199"/>
                  </a:lnTo>
                  <a:lnTo>
                    <a:pt x="993" y="189282"/>
                  </a:lnTo>
                  <a:lnTo>
                    <a:pt x="2647" y="184686"/>
                  </a:lnTo>
                  <a:lnTo>
                    <a:pt x="4741" y="179638"/>
                  </a:lnTo>
                  <a:lnTo>
                    <a:pt x="6137" y="174288"/>
                  </a:lnTo>
                  <a:lnTo>
                    <a:pt x="7068" y="168737"/>
                  </a:lnTo>
                  <a:lnTo>
                    <a:pt x="7688" y="163052"/>
                  </a:lnTo>
                  <a:lnTo>
                    <a:pt x="8103" y="157278"/>
                  </a:lnTo>
                  <a:lnTo>
                    <a:pt x="8378" y="151444"/>
                  </a:lnTo>
                  <a:lnTo>
                    <a:pt x="8562" y="145570"/>
                  </a:lnTo>
                  <a:lnTo>
                    <a:pt x="9676" y="139670"/>
                  </a:lnTo>
                  <a:lnTo>
                    <a:pt x="11413" y="133752"/>
                  </a:lnTo>
                  <a:lnTo>
                    <a:pt x="13561" y="127823"/>
                  </a:lnTo>
                  <a:lnTo>
                    <a:pt x="15986" y="122877"/>
                  </a:lnTo>
                  <a:lnTo>
                    <a:pt x="18595" y="118588"/>
                  </a:lnTo>
                  <a:lnTo>
                    <a:pt x="21326" y="114737"/>
                  </a:lnTo>
                  <a:lnTo>
                    <a:pt x="23147" y="110185"/>
                  </a:lnTo>
                  <a:lnTo>
                    <a:pt x="24361" y="105166"/>
                  </a:lnTo>
                  <a:lnTo>
                    <a:pt x="25170" y="99835"/>
                  </a:lnTo>
                  <a:lnTo>
                    <a:pt x="26702" y="94298"/>
                  </a:lnTo>
                  <a:lnTo>
                    <a:pt x="28715" y="88621"/>
                  </a:lnTo>
                  <a:lnTo>
                    <a:pt x="31049" y="82852"/>
                  </a:lnTo>
                  <a:lnTo>
                    <a:pt x="32606" y="78014"/>
                  </a:lnTo>
                  <a:lnTo>
                    <a:pt x="33644" y="73797"/>
                  </a:lnTo>
                  <a:lnTo>
                    <a:pt x="34335" y="69993"/>
                  </a:lnTo>
                  <a:lnTo>
                    <a:pt x="35789" y="65473"/>
                  </a:lnTo>
                  <a:lnTo>
                    <a:pt x="37749" y="60475"/>
                  </a:lnTo>
                  <a:lnTo>
                    <a:pt x="40049" y="55159"/>
                  </a:lnTo>
                  <a:lnTo>
                    <a:pt x="41582" y="50622"/>
                  </a:lnTo>
                  <a:lnTo>
                    <a:pt x="42605" y="46606"/>
                  </a:lnTo>
                  <a:lnTo>
                    <a:pt x="43286" y="42936"/>
                  </a:lnTo>
                  <a:lnTo>
                    <a:pt x="43740" y="39497"/>
                  </a:lnTo>
                  <a:lnTo>
                    <a:pt x="44244" y="33031"/>
                  </a:lnTo>
                  <a:lnTo>
                    <a:pt x="45372" y="29917"/>
                  </a:lnTo>
                  <a:lnTo>
                    <a:pt x="47114" y="26849"/>
                  </a:lnTo>
                  <a:lnTo>
                    <a:pt x="49269" y="23812"/>
                  </a:lnTo>
                  <a:lnTo>
                    <a:pt x="51663" y="17791"/>
                  </a:lnTo>
                  <a:lnTo>
                    <a:pt x="52301" y="14796"/>
                  </a:lnTo>
                  <a:lnTo>
                    <a:pt x="53719" y="12800"/>
                  </a:lnTo>
                  <a:lnTo>
                    <a:pt x="55656" y="11469"/>
                  </a:lnTo>
                  <a:lnTo>
                    <a:pt x="57940" y="10582"/>
                  </a:lnTo>
                  <a:lnTo>
                    <a:pt x="59462" y="8998"/>
                  </a:lnTo>
                  <a:lnTo>
                    <a:pt x="60477" y="6950"/>
                  </a:lnTo>
                  <a:lnTo>
                    <a:pt x="62107" y="1275"/>
                  </a:lnTo>
                  <a:lnTo>
                    <a:pt x="63232" y="809"/>
                  </a:lnTo>
                  <a:lnTo>
                    <a:pt x="64975" y="498"/>
                  </a:lnTo>
                  <a:lnTo>
                    <a:pt x="70161" y="0"/>
                  </a:lnTo>
                  <a:lnTo>
                    <a:pt x="70587" y="951"/>
                  </a:lnTo>
                  <a:lnTo>
                    <a:pt x="71324" y="7577"/>
                  </a:lnTo>
                  <a:lnTo>
                    <a:pt x="72355" y="7987"/>
                  </a:lnTo>
                  <a:lnTo>
                    <a:pt x="74034" y="8260"/>
                  </a:lnTo>
                  <a:lnTo>
                    <a:pt x="76144" y="8443"/>
                  </a:lnTo>
                  <a:lnTo>
                    <a:pt x="77552" y="9556"/>
                  </a:lnTo>
                  <a:lnTo>
                    <a:pt x="78490" y="11291"/>
                  </a:lnTo>
                  <a:lnTo>
                    <a:pt x="79533" y="15864"/>
                  </a:lnTo>
                  <a:lnTo>
                    <a:pt x="79996" y="21204"/>
                  </a:lnTo>
                  <a:lnTo>
                    <a:pt x="81112" y="24017"/>
                  </a:lnTo>
                  <a:lnTo>
                    <a:pt x="82848" y="26885"/>
                  </a:lnTo>
                  <a:lnTo>
                    <a:pt x="84997" y="29789"/>
                  </a:lnTo>
                  <a:lnTo>
                    <a:pt x="86431" y="33709"/>
                  </a:lnTo>
                  <a:lnTo>
                    <a:pt x="87386" y="38307"/>
                  </a:lnTo>
                  <a:lnTo>
                    <a:pt x="88023" y="43356"/>
                  </a:lnTo>
                  <a:lnTo>
                    <a:pt x="88447" y="47715"/>
                  </a:lnTo>
                  <a:lnTo>
                    <a:pt x="88730" y="51613"/>
                  </a:lnTo>
                  <a:lnTo>
                    <a:pt x="88919" y="55204"/>
                  </a:lnTo>
                  <a:lnTo>
                    <a:pt x="89129" y="64485"/>
                  </a:lnTo>
                  <a:lnTo>
                    <a:pt x="89287" y="96492"/>
                  </a:lnTo>
                  <a:lnTo>
                    <a:pt x="90282" y="101990"/>
                  </a:lnTo>
                  <a:lnTo>
                    <a:pt x="91937" y="107640"/>
                  </a:lnTo>
                  <a:lnTo>
                    <a:pt x="94034" y="113391"/>
                  </a:lnTo>
                  <a:lnTo>
                    <a:pt x="95431" y="118217"/>
                  </a:lnTo>
                  <a:lnTo>
                    <a:pt x="96362" y="122427"/>
                  </a:lnTo>
                  <a:lnTo>
                    <a:pt x="96984" y="126225"/>
                  </a:lnTo>
                  <a:lnTo>
                    <a:pt x="97398" y="130742"/>
                  </a:lnTo>
                  <a:lnTo>
                    <a:pt x="97674" y="135738"/>
                  </a:lnTo>
                  <a:lnTo>
                    <a:pt x="97981" y="146580"/>
                  </a:lnTo>
                  <a:lnTo>
                    <a:pt x="98226" y="196331"/>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SMARTInkAnnotation6"/>
            <p:cNvSpPr/>
            <p:nvPr/>
          </p:nvSpPr>
          <p:spPr>
            <a:xfrm>
              <a:off x="6509160" y="2973600"/>
              <a:ext cx="62280" cy="8640"/>
            </a:xfrm>
            <a:custGeom>
              <a:avLst/>
              <a:gdLst>
                <a:gd name="textAreaLeft" fmla="*/ 0 w 62280"/>
                <a:gd name="textAreaRight" fmla="*/ 62640 w 62280"/>
                <a:gd name="textAreaTop" fmla="*/ 0 h 8640"/>
                <a:gd name="textAreaBottom" fmla="*/ 8640 h 8640"/>
              </a:gdLst>
              <a:ahLst/>
              <a:rect l="textAreaLeft" t="textAreaTop" r="textAreaRight" b="textAreaBottom"/>
              <a:pathLst>
                <a:path w="62509" h="8931">
                  <a:moveTo>
                    <a:pt x="0" y="0"/>
                  </a:moveTo>
                  <a:lnTo>
                    <a:pt x="21250" y="0"/>
                  </a:lnTo>
                  <a:lnTo>
                    <a:pt x="24088" y="993"/>
                  </a:lnTo>
                  <a:lnTo>
                    <a:pt x="26973" y="2646"/>
                  </a:lnTo>
                  <a:lnTo>
                    <a:pt x="29889" y="4741"/>
                  </a:lnTo>
                  <a:lnTo>
                    <a:pt x="-31720" y="6137"/>
                  </a:lnTo>
                  <a:lnTo>
                    <a:pt x="-27117" y="7068"/>
                  </a:lnTo>
                  <a:lnTo>
                    <a:pt x="-22064" y="7689"/>
                  </a:lnTo>
                  <a:lnTo>
                    <a:pt x="-17703" y="8103"/>
                  </a:lnTo>
                  <a:lnTo>
                    <a:pt x="-13804" y="8379"/>
                  </a:lnTo>
                  <a:lnTo>
                    <a:pt x="-3028" y="8930"/>
                  </a:lnTo>
                </a:path>
              </a:pathLst>
            </a:custGeom>
            <a:noFill/>
            <a:ln w="38160">
              <a:solidFill>
                <a:srgbClr val="0000ff"/>
              </a:solidFill>
              <a:round/>
            </a:ln>
          </p:spPr>
          <p:style>
            <a:lnRef idx="0"/>
            <a:fillRef idx="0"/>
            <a:effectRef idx="0"/>
            <a:fontRef idx="minor"/>
          </p:style>
          <p:txBody>
            <a:bodyPr lIns="90000" rIns="90000" tIns="-38160" bIns="-38160" anchor="ctr">
              <a:noAutofit/>
            </a:bodyPr>
            <a:p>
              <a:endParaRPr b="0" lang="en-US" sz="1800" spc="-1" strike="noStrike">
                <a:solidFill>
                  <a:srgbClr val="ffffff"/>
                </a:solidFill>
                <a:latin typeface="Arial"/>
              </a:endParaRPr>
            </a:p>
          </p:txBody>
        </p:sp>
        <p:sp>
          <p:nvSpPr>
            <p:cNvPr id="272" name="SMARTInkAnnotation7"/>
            <p:cNvSpPr/>
            <p:nvPr/>
          </p:nvSpPr>
          <p:spPr>
            <a:xfrm>
              <a:off x="7358040" y="3616560"/>
              <a:ext cx="53280" cy="223200"/>
            </a:xfrm>
            <a:custGeom>
              <a:avLst/>
              <a:gdLst>
                <a:gd name="textAreaLeft" fmla="*/ 0 w 53280"/>
                <a:gd name="textAreaRight" fmla="*/ 53640 w 53280"/>
                <a:gd name="textAreaTop" fmla="*/ 0 h 223200"/>
                <a:gd name="textAreaBottom" fmla="*/ 223560 h 223200"/>
              </a:gdLst>
              <a:ahLst/>
              <a:rect l="textAreaLeft" t="textAreaTop" r="textAreaRight" b="textAreaBottom"/>
              <a:pathLst>
                <a:path w="53579" h="223244">
                  <a:moveTo>
                    <a:pt x="53578" y="0"/>
                  </a:moveTo>
                  <a:lnTo>
                    <a:pt x="31455" y="0"/>
                  </a:lnTo>
                  <a:lnTo>
                    <a:pt x="29900" y="992"/>
                  </a:lnTo>
                  <a:lnTo>
                    <a:pt x="28863" y="2646"/>
                  </a:lnTo>
                  <a:lnTo>
                    <a:pt x="27711" y="7129"/>
                  </a:lnTo>
                  <a:lnTo>
                    <a:pt x="27199" y="12429"/>
                  </a:lnTo>
                  <a:lnTo>
                    <a:pt x="26070" y="16224"/>
                  </a:lnTo>
                  <a:lnTo>
                    <a:pt x="24325" y="20737"/>
                  </a:lnTo>
                  <a:lnTo>
                    <a:pt x="22170" y="25731"/>
                  </a:lnTo>
                  <a:lnTo>
                    <a:pt x="20734" y="31045"/>
                  </a:lnTo>
                  <a:lnTo>
                    <a:pt x="19775" y="36571"/>
                  </a:lnTo>
                  <a:lnTo>
                    <a:pt x="19137" y="42240"/>
                  </a:lnTo>
                  <a:lnTo>
                    <a:pt x="18711" y="48004"/>
                  </a:lnTo>
                  <a:lnTo>
                    <a:pt x="18428" y="53831"/>
                  </a:lnTo>
                  <a:lnTo>
                    <a:pt x="18112" y="65597"/>
                  </a:lnTo>
                  <a:lnTo>
                    <a:pt x="17973" y="77441"/>
                  </a:lnTo>
                  <a:lnTo>
                    <a:pt x="16942" y="83377"/>
                  </a:lnTo>
                  <a:lnTo>
                    <a:pt x="15263" y="89319"/>
                  </a:lnTo>
                  <a:lnTo>
                    <a:pt x="13153" y="95265"/>
                  </a:lnTo>
                  <a:lnTo>
                    <a:pt x="11745" y="101213"/>
                  </a:lnTo>
                  <a:lnTo>
                    <a:pt x="10806" y="107163"/>
                  </a:lnTo>
                  <a:lnTo>
                    <a:pt x="10181" y="113114"/>
                  </a:lnTo>
                  <a:lnTo>
                    <a:pt x="9765" y="119066"/>
                  </a:lnTo>
                  <a:lnTo>
                    <a:pt x="9486" y="125018"/>
                  </a:lnTo>
                  <a:lnTo>
                    <a:pt x="9178" y="136923"/>
                  </a:lnTo>
                  <a:lnTo>
                    <a:pt x="8940" y="184547"/>
                  </a:lnTo>
                  <a:lnTo>
                    <a:pt x="7944" y="190500"/>
                  </a:lnTo>
                  <a:lnTo>
                    <a:pt x="6289" y="196453"/>
                  </a:lnTo>
                  <a:lnTo>
                    <a:pt x="4193" y="202407"/>
                  </a:lnTo>
                  <a:lnTo>
                    <a:pt x="2795" y="207368"/>
                  </a:lnTo>
                  <a:lnTo>
                    <a:pt x="1863" y="211667"/>
                  </a:lnTo>
                  <a:lnTo>
                    <a:pt x="0" y="223243"/>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SMARTInkAnnotation8"/>
            <p:cNvSpPr/>
            <p:nvPr/>
          </p:nvSpPr>
          <p:spPr>
            <a:xfrm>
              <a:off x="7340400" y="3589920"/>
              <a:ext cx="133560" cy="267840"/>
            </a:xfrm>
            <a:custGeom>
              <a:avLst/>
              <a:gdLst>
                <a:gd name="textAreaLeft" fmla="*/ 0 w 133560"/>
                <a:gd name="textAreaRight" fmla="*/ 133920 w 133560"/>
                <a:gd name="textAreaTop" fmla="*/ 0 h 267840"/>
                <a:gd name="textAreaBottom" fmla="*/ 268200 h 267840"/>
              </a:gdLst>
              <a:ahLst/>
              <a:rect l="textAreaLeft" t="textAreaTop" r="textAreaRight" b="textAreaBottom"/>
              <a:pathLst>
                <a:path w="133791" h="267856">
                  <a:moveTo>
                    <a:pt x="8929" y="53542"/>
                  </a:moveTo>
                  <a:lnTo>
                    <a:pt x="8929" y="48802"/>
                  </a:lnTo>
                  <a:lnTo>
                    <a:pt x="9922" y="46413"/>
                  </a:lnTo>
                  <a:lnTo>
                    <a:pt x="13669" y="41113"/>
                  </a:lnTo>
                  <a:lnTo>
                    <a:pt x="15067" y="38311"/>
                  </a:lnTo>
                  <a:lnTo>
                    <a:pt x="16618" y="32551"/>
                  </a:lnTo>
                  <a:lnTo>
                    <a:pt x="19953" y="26684"/>
                  </a:lnTo>
                  <a:lnTo>
                    <a:pt x="22232" y="23731"/>
                  </a:lnTo>
                  <a:lnTo>
                    <a:pt x="24744" y="20769"/>
                  </a:lnTo>
                  <a:lnTo>
                    <a:pt x="27410" y="17803"/>
                  </a:lnTo>
                  <a:lnTo>
                    <a:pt x="30179" y="14834"/>
                  </a:lnTo>
                  <a:lnTo>
                    <a:pt x="33018" y="12853"/>
                  </a:lnTo>
                  <a:lnTo>
                    <a:pt x="35903" y="11534"/>
                  </a:lnTo>
                  <a:lnTo>
                    <a:pt x="38818" y="10654"/>
                  </a:lnTo>
                  <a:lnTo>
                    <a:pt x="41754" y="9075"/>
                  </a:lnTo>
                  <a:lnTo>
                    <a:pt x="44702" y="7030"/>
                  </a:lnTo>
                  <a:lnTo>
                    <a:pt x="47661" y="4674"/>
                  </a:lnTo>
                  <a:lnTo>
                    <a:pt x="50626" y="3104"/>
                  </a:lnTo>
                  <a:lnTo>
                    <a:pt x="53594" y="2058"/>
                  </a:lnTo>
                  <a:lnTo>
                    <a:pt x="56565" y="1360"/>
                  </a:lnTo>
                  <a:lnTo>
                    <a:pt x="59539" y="894"/>
                  </a:lnTo>
                  <a:lnTo>
                    <a:pt x="62512" y="584"/>
                  </a:lnTo>
                  <a:lnTo>
                    <a:pt x="65487" y="378"/>
                  </a:lnTo>
                  <a:lnTo>
                    <a:pt x="69454" y="240"/>
                  </a:lnTo>
                  <a:lnTo>
                    <a:pt x="87435" y="19"/>
                  </a:lnTo>
                  <a:lnTo>
                    <a:pt x="91033" y="0"/>
                  </a:lnTo>
                  <a:lnTo>
                    <a:pt x="94423" y="980"/>
                  </a:lnTo>
                  <a:lnTo>
                    <a:pt x="97675" y="2626"/>
                  </a:lnTo>
                  <a:lnTo>
                    <a:pt x="100835" y="4715"/>
                  </a:lnTo>
                  <a:lnTo>
                    <a:pt x="103934" y="6108"/>
                  </a:lnTo>
                  <a:lnTo>
                    <a:pt x="106992" y="7036"/>
                  </a:lnTo>
                  <a:lnTo>
                    <a:pt x="110024" y="7656"/>
                  </a:lnTo>
                  <a:lnTo>
                    <a:pt x="113037" y="9060"/>
                  </a:lnTo>
                  <a:lnTo>
                    <a:pt x="116037" y="10989"/>
                  </a:lnTo>
                  <a:lnTo>
                    <a:pt x="119030" y="13267"/>
                  </a:lnTo>
                  <a:lnTo>
                    <a:pt x="122017" y="15778"/>
                  </a:lnTo>
                  <a:lnTo>
                    <a:pt x="125001" y="18444"/>
                  </a:lnTo>
                  <a:lnTo>
                    <a:pt x="127982" y="21214"/>
                  </a:lnTo>
                  <a:lnTo>
                    <a:pt x="129969" y="24052"/>
                  </a:lnTo>
                  <a:lnTo>
                    <a:pt x="132178" y="29852"/>
                  </a:lnTo>
                  <a:lnTo>
                    <a:pt x="132767" y="33780"/>
                  </a:lnTo>
                  <a:lnTo>
                    <a:pt x="133159" y="38383"/>
                  </a:lnTo>
                  <a:lnTo>
                    <a:pt x="133596" y="47797"/>
                  </a:lnTo>
                  <a:lnTo>
                    <a:pt x="133790" y="55288"/>
                  </a:lnTo>
                  <a:lnTo>
                    <a:pt x="132850" y="58675"/>
                  </a:lnTo>
                  <a:lnTo>
                    <a:pt x="129158" y="65084"/>
                  </a:lnTo>
                  <a:lnTo>
                    <a:pt x="126784" y="68182"/>
                  </a:lnTo>
                  <a:lnTo>
                    <a:pt x="124211" y="71239"/>
                  </a:lnTo>
                  <a:lnTo>
                    <a:pt x="121502" y="74270"/>
                  </a:lnTo>
                  <a:lnTo>
                    <a:pt x="115848" y="80283"/>
                  </a:lnTo>
                  <a:lnTo>
                    <a:pt x="104132" y="92228"/>
                  </a:lnTo>
                  <a:lnTo>
                    <a:pt x="101171" y="94215"/>
                  </a:lnTo>
                  <a:lnTo>
                    <a:pt x="98205" y="95541"/>
                  </a:lnTo>
                  <a:lnTo>
                    <a:pt x="95236" y="96424"/>
                  </a:lnTo>
                  <a:lnTo>
                    <a:pt x="91272" y="98005"/>
                  </a:lnTo>
                  <a:lnTo>
                    <a:pt x="86644" y="100051"/>
                  </a:lnTo>
                  <a:lnTo>
                    <a:pt x="81575" y="102407"/>
                  </a:lnTo>
                  <a:lnTo>
                    <a:pt x="77203" y="103978"/>
                  </a:lnTo>
                  <a:lnTo>
                    <a:pt x="73297" y="105026"/>
                  </a:lnTo>
                  <a:lnTo>
                    <a:pt x="69701" y="105724"/>
                  </a:lnTo>
                  <a:lnTo>
                    <a:pt x="66310" y="107181"/>
                  </a:lnTo>
                  <a:lnTo>
                    <a:pt x="63059" y="109146"/>
                  </a:lnTo>
                  <a:lnTo>
                    <a:pt x="59898" y="111447"/>
                  </a:lnTo>
                  <a:lnTo>
                    <a:pt x="56800" y="112981"/>
                  </a:lnTo>
                  <a:lnTo>
                    <a:pt x="53741" y="114004"/>
                  </a:lnTo>
                  <a:lnTo>
                    <a:pt x="50710" y="114686"/>
                  </a:lnTo>
                  <a:lnTo>
                    <a:pt x="47697" y="115141"/>
                  </a:lnTo>
                  <a:lnTo>
                    <a:pt x="44697" y="115444"/>
                  </a:lnTo>
                  <a:lnTo>
                    <a:pt x="37492" y="115930"/>
                  </a:lnTo>
                  <a:lnTo>
                    <a:pt x="33861" y="115996"/>
                  </a:lnTo>
                  <a:lnTo>
                    <a:pt x="26800" y="116050"/>
                  </a:lnTo>
                  <a:lnTo>
                    <a:pt x="31532" y="116050"/>
                  </a:lnTo>
                  <a:lnTo>
                    <a:pt x="33920" y="117042"/>
                  </a:lnTo>
                  <a:lnTo>
                    <a:pt x="36504" y="118696"/>
                  </a:lnTo>
                  <a:lnTo>
                    <a:pt x="39219" y="120791"/>
                  </a:lnTo>
                  <a:lnTo>
                    <a:pt x="42020" y="122187"/>
                  </a:lnTo>
                  <a:lnTo>
                    <a:pt x="44881" y="123118"/>
                  </a:lnTo>
                  <a:lnTo>
                    <a:pt x="47780" y="123738"/>
                  </a:lnTo>
                  <a:lnTo>
                    <a:pt x="50704" y="124152"/>
                  </a:lnTo>
                  <a:lnTo>
                    <a:pt x="53646" y="124428"/>
                  </a:lnTo>
                  <a:lnTo>
                    <a:pt x="56600" y="124612"/>
                  </a:lnTo>
                  <a:lnTo>
                    <a:pt x="59562" y="125727"/>
                  </a:lnTo>
                  <a:lnTo>
                    <a:pt x="62528" y="127462"/>
                  </a:lnTo>
                  <a:lnTo>
                    <a:pt x="65498" y="129611"/>
                  </a:lnTo>
                  <a:lnTo>
                    <a:pt x="68470" y="131044"/>
                  </a:lnTo>
                  <a:lnTo>
                    <a:pt x="71443" y="131999"/>
                  </a:lnTo>
                  <a:lnTo>
                    <a:pt x="74417" y="132636"/>
                  </a:lnTo>
                  <a:lnTo>
                    <a:pt x="77393" y="134052"/>
                  </a:lnTo>
                  <a:lnTo>
                    <a:pt x="80369" y="135989"/>
                  </a:lnTo>
                  <a:lnTo>
                    <a:pt x="83345" y="138272"/>
                  </a:lnTo>
                  <a:lnTo>
                    <a:pt x="86321" y="140787"/>
                  </a:lnTo>
                  <a:lnTo>
                    <a:pt x="89297" y="143455"/>
                  </a:lnTo>
                  <a:lnTo>
                    <a:pt x="95250" y="149066"/>
                  </a:lnTo>
                  <a:lnTo>
                    <a:pt x="101202" y="154867"/>
                  </a:lnTo>
                  <a:lnTo>
                    <a:pt x="104179" y="156811"/>
                  </a:lnTo>
                  <a:lnTo>
                    <a:pt x="107156" y="158107"/>
                  </a:lnTo>
                  <a:lnTo>
                    <a:pt x="110132" y="158970"/>
                  </a:lnTo>
                  <a:lnTo>
                    <a:pt x="113109" y="160539"/>
                  </a:lnTo>
                  <a:lnTo>
                    <a:pt x="116086" y="162577"/>
                  </a:lnTo>
                  <a:lnTo>
                    <a:pt x="119061" y="164927"/>
                  </a:lnTo>
                  <a:lnTo>
                    <a:pt x="121047" y="167486"/>
                  </a:lnTo>
                  <a:lnTo>
                    <a:pt x="122370" y="170184"/>
                  </a:lnTo>
                  <a:lnTo>
                    <a:pt x="123839" y="175828"/>
                  </a:lnTo>
                  <a:lnTo>
                    <a:pt x="124666" y="183591"/>
                  </a:lnTo>
                  <a:lnTo>
                    <a:pt x="124970" y="191715"/>
                  </a:lnTo>
                  <a:lnTo>
                    <a:pt x="123992" y="194274"/>
                  </a:lnTo>
                  <a:lnTo>
                    <a:pt x="120261" y="199764"/>
                  </a:lnTo>
                  <a:lnTo>
                    <a:pt x="117878" y="202617"/>
                  </a:lnTo>
                  <a:lnTo>
                    <a:pt x="115295" y="205511"/>
                  </a:lnTo>
                  <a:lnTo>
                    <a:pt x="109781" y="211373"/>
                  </a:lnTo>
                  <a:lnTo>
                    <a:pt x="104024" y="217285"/>
                  </a:lnTo>
                  <a:lnTo>
                    <a:pt x="101099" y="219259"/>
                  </a:lnTo>
                  <a:lnTo>
                    <a:pt x="98157" y="220575"/>
                  </a:lnTo>
                  <a:lnTo>
                    <a:pt x="95203" y="221452"/>
                  </a:lnTo>
                  <a:lnTo>
                    <a:pt x="91250" y="223029"/>
                  </a:lnTo>
                  <a:lnTo>
                    <a:pt x="86630" y="225072"/>
                  </a:lnTo>
                  <a:lnTo>
                    <a:pt x="81565" y="227427"/>
                  </a:lnTo>
                  <a:lnTo>
                    <a:pt x="77197" y="229989"/>
                  </a:lnTo>
                  <a:lnTo>
                    <a:pt x="73294" y="232689"/>
                  </a:lnTo>
                  <a:lnTo>
                    <a:pt x="69698" y="235481"/>
                  </a:lnTo>
                  <a:lnTo>
                    <a:pt x="66310" y="238335"/>
                  </a:lnTo>
                  <a:lnTo>
                    <a:pt x="63057" y="241229"/>
                  </a:lnTo>
                  <a:lnTo>
                    <a:pt x="59898" y="244151"/>
                  </a:lnTo>
                  <a:lnTo>
                    <a:pt x="55806" y="247091"/>
                  </a:lnTo>
                  <a:lnTo>
                    <a:pt x="51095" y="250044"/>
                  </a:lnTo>
                  <a:lnTo>
                    <a:pt x="45970" y="253004"/>
                  </a:lnTo>
                  <a:lnTo>
                    <a:pt x="41560" y="254977"/>
                  </a:lnTo>
                  <a:lnTo>
                    <a:pt x="37628" y="256294"/>
                  </a:lnTo>
                  <a:lnTo>
                    <a:pt x="34015" y="257171"/>
                  </a:lnTo>
                  <a:lnTo>
                    <a:pt x="30614" y="257755"/>
                  </a:lnTo>
                  <a:lnTo>
                    <a:pt x="27355" y="258145"/>
                  </a:lnTo>
                  <a:lnTo>
                    <a:pt x="24190" y="258405"/>
                  </a:lnTo>
                  <a:lnTo>
                    <a:pt x="21087" y="259570"/>
                  </a:lnTo>
                  <a:lnTo>
                    <a:pt x="18026" y="261339"/>
                  </a:lnTo>
                  <a:lnTo>
                    <a:pt x="10727" y="266567"/>
                  </a:lnTo>
                  <a:lnTo>
                    <a:pt x="7082" y="267282"/>
                  </a:lnTo>
                  <a:lnTo>
                    <a:pt x="0" y="267855"/>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Solutions...</a:t>
            </a:r>
            <a:endParaRPr b="0" lang="en-US" sz="4600" spc="-1" strike="noStrike">
              <a:solidFill>
                <a:srgbClr val="ffffff"/>
              </a:solidFill>
              <a:latin typeface="Franklin Gothic Book"/>
            </a:endParaRPr>
          </a:p>
        </p:txBody>
      </p:sp>
      <p:sp>
        <p:nvSpPr>
          <p:cNvPr id="275" name=""/>
          <p:cNvSpPr txBox="1"/>
          <p:nvPr/>
        </p:nvSpPr>
        <p:spPr>
          <a:xfrm>
            <a:off x="456840" y="1599840"/>
            <a:ext cx="7467480" cy="525780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 to KE: The ball is loosing height and falling while gaining speed.  Thus gravity transforms the PE to K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 to KE: The skier is loosing height and gaining speed.  Thus the internal force (gravity) changes PE (height) into KE (speed)</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 to PE: The ball is gaining height but loosing speed.  Thus the KE (speed) is turning into PE (height)</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 to PE: The jumper is loosing speed while the cord is stretching. However this one can be argued the other way too.</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400" y="28548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Ex. 1</a:t>
            </a:r>
            <a:endParaRPr b="0" lang="en-US" sz="4600" spc="-1" strike="noStrike">
              <a:solidFill>
                <a:srgbClr val="ffffff"/>
              </a:solidFill>
              <a:latin typeface="Franklin Gothic Book"/>
            </a:endParaRPr>
          </a:p>
        </p:txBody>
      </p:sp>
      <p:sp>
        <p:nvSpPr>
          <p:cNvPr id="27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4.0kg baseball is dropped from a height of 53.0m.  What is the velocity when the baseball is 22.0m from the groun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SMARTInkAnnotation23"/>
          <p:cNvSpPr/>
          <p:nvPr/>
        </p:nvSpPr>
        <p:spPr>
          <a:xfrm>
            <a:off x="6207120" y="512640"/>
            <a:ext cx="320760" cy="379440"/>
          </a:xfrm>
          <a:custGeom>
            <a:avLst/>
            <a:gdLst>
              <a:gd name="textAreaLeft" fmla="*/ 0 w 320760"/>
              <a:gd name="textAreaRight" fmla="*/ 321120 w 320760"/>
              <a:gd name="textAreaTop" fmla="*/ 0 h 379440"/>
              <a:gd name="textAreaBottom" fmla="*/ 379800 h 379440"/>
            </a:gdLst>
            <a:ahLst/>
            <a:rect l="textAreaLeft" t="textAreaTop" r="textAreaRight" b="textAreaBottom"/>
            <a:pathLst>
              <a:path w="321268" h="378611">
                <a:moveTo>
                  <a:pt x="321267" y="14002"/>
                </a:moveTo>
                <a:lnTo>
                  <a:pt x="321267" y="9262"/>
                </a:lnTo>
                <a:lnTo>
                  <a:pt x="320275" y="7865"/>
                </a:lnTo>
                <a:lnTo>
                  <a:pt x="318621" y="6934"/>
                </a:lnTo>
                <a:lnTo>
                  <a:pt x="313578" y="5440"/>
                </a:lnTo>
                <a:lnTo>
                  <a:pt x="307965" y="441"/>
                </a:lnTo>
                <a:lnTo>
                  <a:pt x="304462" y="0"/>
                </a:lnTo>
                <a:lnTo>
                  <a:pt x="295278" y="2157"/>
                </a:lnTo>
                <a:lnTo>
                  <a:pt x="290050" y="3129"/>
                </a:lnTo>
                <a:lnTo>
                  <a:pt x="284581" y="3776"/>
                </a:lnTo>
                <a:lnTo>
                  <a:pt x="278949" y="4208"/>
                </a:lnTo>
                <a:lnTo>
                  <a:pt x="273211" y="5489"/>
                </a:lnTo>
                <a:lnTo>
                  <a:pt x="267403" y="7334"/>
                </a:lnTo>
                <a:lnTo>
                  <a:pt x="261545" y="9557"/>
                </a:lnTo>
                <a:lnTo>
                  <a:pt x="255656" y="12031"/>
                </a:lnTo>
                <a:lnTo>
                  <a:pt x="249745" y="14672"/>
                </a:lnTo>
                <a:lnTo>
                  <a:pt x="243820" y="17425"/>
                </a:lnTo>
                <a:lnTo>
                  <a:pt x="236894" y="19261"/>
                </a:lnTo>
                <a:lnTo>
                  <a:pt x="229300" y="20484"/>
                </a:lnTo>
                <a:lnTo>
                  <a:pt x="221260" y="21300"/>
                </a:lnTo>
                <a:lnTo>
                  <a:pt x="212924" y="22836"/>
                </a:lnTo>
                <a:lnTo>
                  <a:pt x="204390" y="24853"/>
                </a:lnTo>
                <a:lnTo>
                  <a:pt x="195724" y="27189"/>
                </a:lnTo>
                <a:lnTo>
                  <a:pt x="187962" y="30731"/>
                </a:lnTo>
                <a:lnTo>
                  <a:pt x="180804" y="35076"/>
                </a:lnTo>
                <a:lnTo>
                  <a:pt x="174047" y="39958"/>
                </a:lnTo>
                <a:lnTo>
                  <a:pt x="167557" y="44204"/>
                </a:lnTo>
                <a:lnTo>
                  <a:pt x="161248" y="48028"/>
                </a:lnTo>
                <a:lnTo>
                  <a:pt x="155056" y="51569"/>
                </a:lnTo>
                <a:lnTo>
                  <a:pt x="142885" y="58149"/>
                </a:lnTo>
                <a:lnTo>
                  <a:pt x="136862" y="61293"/>
                </a:lnTo>
                <a:lnTo>
                  <a:pt x="127523" y="67432"/>
                </a:lnTo>
                <a:lnTo>
                  <a:pt x="123644" y="70458"/>
                </a:lnTo>
                <a:lnTo>
                  <a:pt x="121058" y="73467"/>
                </a:lnTo>
                <a:lnTo>
                  <a:pt x="119333" y="76466"/>
                </a:lnTo>
                <a:lnTo>
                  <a:pt x="118184" y="79457"/>
                </a:lnTo>
                <a:lnTo>
                  <a:pt x="114260" y="85427"/>
                </a:lnTo>
                <a:lnTo>
                  <a:pt x="111826" y="88407"/>
                </a:lnTo>
                <a:lnTo>
                  <a:pt x="111195" y="91387"/>
                </a:lnTo>
                <a:lnTo>
                  <a:pt x="111766" y="94365"/>
                </a:lnTo>
                <a:lnTo>
                  <a:pt x="114054" y="100321"/>
                </a:lnTo>
                <a:lnTo>
                  <a:pt x="115071" y="106275"/>
                </a:lnTo>
                <a:lnTo>
                  <a:pt x="116335" y="108259"/>
                </a:lnTo>
                <a:lnTo>
                  <a:pt x="118169" y="109582"/>
                </a:lnTo>
                <a:lnTo>
                  <a:pt x="120384" y="110464"/>
                </a:lnTo>
                <a:lnTo>
                  <a:pt x="128242" y="116446"/>
                </a:lnTo>
                <a:lnTo>
                  <a:pt x="136590" y="121710"/>
                </a:lnTo>
                <a:lnTo>
                  <a:pt x="145923" y="126364"/>
                </a:lnTo>
                <a:lnTo>
                  <a:pt x="153378" y="128433"/>
                </a:lnTo>
                <a:lnTo>
                  <a:pt x="159999" y="131998"/>
                </a:lnTo>
                <a:lnTo>
                  <a:pt x="169209" y="139086"/>
                </a:lnTo>
                <a:lnTo>
                  <a:pt x="173649" y="143347"/>
                </a:lnTo>
                <a:lnTo>
                  <a:pt x="174239" y="145873"/>
                </a:lnTo>
                <a:lnTo>
                  <a:pt x="173638" y="148549"/>
                </a:lnTo>
                <a:lnTo>
                  <a:pt x="172246" y="151325"/>
                </a:lnTo>
                <a:lnTo>
                  <a:pt x="170700" y="157055"/>
                </a:lnTo>
                <a:lnTo>
                  <a:pt x="170288" y="159972"/>
                </a:lnTo>
                <a:lnTo>
                  <a:pt x="167184" y="168505"/>
                </a:lnTo>
                <a:lnTo>
                  <a:pt x="164967" y="173559"/>
                </a:lnTo>
                <a:lnTo>
                  <a:pt x="161504" y="177920"/>
                </a:lnTo>
                <a:lnTo>
                  <a:pt x="152366" y="185412"/>
                </a:lnTo>
                <a:lnTo>
                  <a:pt x="147151" y="189791"/>
                </a:lnTo>
                <a:lnTo>
                  <a:pt x="141690" y="194695"/>
                </a:lnTo>
                <a:lnTo>
                  <a:pt x="136065" y="199948"/>
                </a:lnTo>
                <a:lnTo>
                  <a:pt x="130330" y="204443"/>
                </a:lnTo>
                <a:lnTo>
                  <a:pt x="124523" y="208431"/>
                </a:lnTo>
                <a:lnTo>
                  <a:pt x="111786" y="216501"/>
                </a:lnTo>
                <a:lnTo>
                  <a:pt x="96204" y="226702"/>
                </a:lnTo>
                <a:lnTo>
                  <a:pt x="88873" y="232201"/>
                </a:lnTo>
                <a:lnTo>
                  <a:pt x="82002" y="237851"/>
                </a:lnTo>
                <a:lnTo>
                  <a:pt x="75437" y="243602"/>
                </a:lnTo>
                <a:lnTo>
                  <a:pt x="69075" y="249420"/>
                </a:lnTo>
                <a:lnTo>
                  <a:pt x="56717" y="261176"/>
                </a:lnTo>
                <a:lnTo>
                  <a:pt x="38602" y="278952"/>
                </a:lnTo>
                <a:lnTo>
                  <a:pt x="32612" y="283901"/>
                </a:lnTo>
                <a:lnTo>
                  <a:pt x="26636" y="288192"/>
                </a:lnTo>
                <a:lnTo>
                  <a:pt x="20667" y="292046"/>
                </a:lnTo>
                <a:lnTo>
                  <a:pt x="11389" y="301619"/>
                </a:lnTo>
                <a:lnTo>
                  <a:pt x="7526" y="306950"/>
                </a:lnTo>
                <a:lnTo>
                  <a:pt x="3232" y="318165"/>
                </a:lnTo>
                <a:lnTo>
                  <a:pt x="1325" y="328771"/>
                </a:lnTo>
                <a:lnTo>
                  <a:pt x="252" y="340321"/>
                </a:lnTo>
                <a:lnTo>
                  <a:pt x="0" y="346887"/>
                </a:lnTo>
                <a:lnTo>
                  <a:pt x="2534" y="355758"/>
                </a:lnTo>
                <a:lnTo>
                  <a:pt x="4599" y="360902"/>
                </a:lnTo>
                <a:lnTo>
                  <a:pt x="7960" y="364331"/>
                </a:lnTo>
                <a:lnTo>
                  <a:pt x="12185" y="366617"/>
                </a:lnTo>
                <a:lnTo>
                  <a:pt x="22171" y="370150"/>
                </a:lnTo>
                <a:lnTo>
                  <a:pt x="27612" y="372481"/>
                </a:lnTo>
                <a:lnTo>
                  <a:pt x="33223" y="375027"/>
                </a:lnTo>
                <a:lnTo>
                  <a:pt x="39942" y="376724"/>
                </a:lnTo>
                <a:lnTo>
                  <a:pt x="47397" y="377856"/>
                </a:lnTo>
                <a:lnTo>
                  <a:pt x="55343" y="378610"/>
                </a:lnTo>
                <a:lnTo>
                  <a:pt x="63617" y="378121"/>
                </a:lnTo>
                <a:lnTo>
                  <a:pt x="72110" y="376803"/>
                </a:lnTo>
                <a:lnTo>
                  <a:pt x="80748" y="374932"/>
                </a:lnTo>
                <a:lnTo>
                  <a:pt x="89484" y="373684"/>
                </a:lnTo>
                <a:lnTo>
                  <a:pt x="98285" y="372853"/>
                </a:lnTo>
                <a:lnTo>
                  <a:pt x="107128" y="372298"/>
                </a:lnTo>
                <a:lnTo>
                  <a:pt x="124891" y="371682"/>
                </a:lnTo>
                <a:lnTo>
                  <a:pt x="133795" y="371518"/>
                </a:lnTo>
                <a:lnTo>
                  <a:pt x="142709" y="370416"/>
                </a:lnTo>
                <a:lnTo>
                  <a:pt x="151626" y="368690"/>
                </a:lnTo>
                <a:lnTo>
                  <a:pt x="160548" y="366546"/>
                </a:lnTo>
                <a:lnTo>
                  <a:pt x="168481" y="364125"/>
                </a:lnTo>
                <a:lnTo>
                  <a:pt x="175753" y="361519"/>
                </a:lnTo>
                <a:lnTo>
                  <a:pt x="182586" y="358790"/>
                </a:lnTo>
                <a:lnTo>
                  <a:pt x="189126" y="355978"/>
                </a:lnTo>
                <a:lnTo>
                  <a:pt x="201683" y="350207"/>
                </a:lnTo>
                <a:lnTo>
                  <a:pt x="211233" y="344335"/>
                </a:lnTo>
                <a:lnTo>
                  <a:pt x="223041" y="33547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SMARTInkAnnotation25"/>
          <p:cNvSpPr/>
          <p:nvPr/>
        </p:nvSpPr>
        <p:spPr>
          <a:xfrm>
            <a:off x="6589800" y="512640"/>
            <a:ext cx="231840" cy="211320"/>
          </a:xfrm>
          <a:custGeom>
            <a:avLst/>
            <a:gdLst>
              <a:gd name="textAreaLeft" fmla="*/ 0 w 231840"/>
              <a:gd name="textAreaRight" fmla="*/ 232200 w 231840"/>
              <a:gd name="textAreaTop" fmla="*/ 0 h 211320"/>
              <a:gd name="textAreaBottom" fmla="*/ 211680 h 211320"/>
            </a:gdLst>
            <a:ahLst/>
            <a:rect l="textAreaLeft" t="textAreaTop" r="textAreaRight" b="textAreaBottom"/>
            <a:pathLst>
              <a:path w="232005" h="210122">
                <a:moveTo>
                  <a:pt x="0" y="129811"/>
                </a:moveTo>
                <a:lnTo>
                  <a:pt x="0" y="104953"/>
                </a:lnTo>
                <a:lnTo>
                  <a:pt x="992" y="99349"/>
                </a:lnTo>
                <a:lnTo>
                  <a:pt x="2646" y="93628"/>
                </a:lnTo>
                <a:lnTo>
                  <a:pt x="4740" y="87829"/>
                </a:lnTo>
                <a:lnTo>
                  <a:pt x="7129" y="82972"/>
                </a:lnTo>
                <a:lnTo>
                  <a:pt x="9714" y="78741"/>
                </a:lnTo>
                <a:lnTo>
                  <a:pt x="12429" y="74928"/>
                </a:lnTo>
                <a:lnTo>
                  <a:pt x="15232" y="70402"/>
                </a:lnTo>
                <a:lnTo>
                  <a:pt x="18091" y="65401"/>
                </a:lnTo>
                <a:lnTo>
                  <a:pt x="20991" y="60082"/>
                </a:lnTo>
                <a:lnTo>
                  <a:pt x="23915" y="55543"/>
                </a:lnTo>
                <a:lnTo>
                  <a:pt x="26858" y="51526"/>
                </a:lnTo>
                <a:lnTo>
                  <a:pt x="29811" y="47855"/>
                </a:lnTo>
                <a:lnTo>
                  <a:pt x="33764" y="44416"/>
                </a:lnTo>
                <a:lnTo>
                  <a:pt x="38385" y="41131"/>
                </a:lnTo>
                <a:lnTo>
                  <a:pt x="43449" y="37949"/>
                </a:lnTo>
                <a:lnTo>
                  <a:pt x="47817" y="34835"/>
                </a:lnTo>
                <a:lnTo>
                  <a:pt x="51722" y="31767"/>
                </a:lnTo>
                <a:lnTo>
                  <a:pt x="55317" y="28730"/>
                </a:lnTo>
                <a:lnTo>
                  <a:pt x="59699" y="25713"/>
                </a:lnTo>
                <a:lnTo>
                  <a:pt x="64603" y="22709"/>
                </a:lnTo>
                <a:lnTo>
                  <a:pt x="69858" y="19714"/>
                </a:lnTo>
                <a:lnTo>
                  <a:pt x="80989" y="13741"/>
                </a:lnTo>
                <a:lnTo>
                  <a:pt x="86734" y="10759"/>
                </a:lnTo>
                <a:lnTo>
                  <a:pt x="93541" y="8771"/>
                </a:lnTo>
                <a:lnTo>
                  <a:pt x="101057" y="7446"/>
                </a:lnTo>
                <a:lnTo>
                  <a:pt x="109043" y="6562"/>
                </a:lnTo>
                <a:lnTo>
                  <a:pt x="116352" y="4981"/>
                </a:lnTo>
                <a:lnTo>
                  <a:pt x="123208" y="2935"/>
                </a:lnTo>
                <a:lnTo>
                  <a:pt x="129764" y="578"/>
                </a:lnTo>
                <a:lnTo>
                  <a:pt x="136118" y="0"/>
                </a:lnTo>
                <a:lnTo>
                  <a:pt x="142340" y="606"/>
                </a:lnTo>
                <a:lnTo>
                  <a:pt x="148471" y="2003"/>
                </a:lnTo>
                <a:lnTo>
                  <a:pt x="154543" y="2934"/>
                </a:lnTo>
                <a:lnTo>
                  <a:pt x="160575" y="3554"/>
                </a:lnTo>
                <a:lnTo>
                  <a:pt x="166582" y="3968"/>
                </a:lnTo>
                <a:lnTo>
                  <a:pt x="172570" y="5236"/>
                </a:lnTo>
                <a:lnTo>
                  <a:pt x="178546" y="7073"/>
                </a:lnTo>
                <a:lnTo>
                  <a:pt x="184516" y="9291"/>
                </a:lnTo>
                <a:lnTo>
                  <a:pt x="190480" y="11761"/>
                </a:lnTo>
                <a:lnTo>
                  <a:pt x="196439" y="14400"/>
                </a:lnTo>
                <a:lnTo>
                  <a:pt x="202397" y="17152"/>
                </a:lnTo>
                <a:lnTo>
                  <a:pt x="207361" y="19978"/>
                </a:lnTo>
                <a:lnTo>
                  <a:pt x="211663" y="22855"/>
                </a:lnTo>
                <a:lnTo>
                  <a:pt x="215522" y="25765"/>
                </a:lnTo>
                <a:lnTo>
                  <a:pt x="219088" y="29689"/>
                </a:lnTo>
                <a:lnTo>
                  <a:pt x="222457" y="34290"/>
                </a:lnTo>
                <a:lnTo>
                  <a:pt x="225695" y="39341"/>
                </a:lnTo>
                <a:lnTo>
                  <a:pt x="227855" y="44693"/>
                </a:lnTo>
                <a:lnTo>
                  <a:pt x="229294" y="50245"/>
                </a:lnTo>
                <a:lnTo>
                  <a:pt x="230252" y="55931"/>
                </a:lnTo>
                <a:lnTo>
                  <a:pt x="230893" y="61706"/>
                </a:lnTo>
                <a:lnTo>
                  <a:pt x="231319" y="67541"/>
                </a:lnTo>
                <a:lnTo>
                  <a:pt x="231604" y="73415"/>
                </a:lnTo>
                <a:lnTo>
                  <a:pt x="231919" y="87879"/>
                </a:lnTo>
                <a:lnTo>
                  <a:pt x="232004" y="95903"/>
                </a:lnTo>
                <a:lnTo>
                  <a:pt x="231067" y="103237"/>
                </a:lnTo>
                <a:lnTo>
                  <a:pt x="229452" y="110111"/>
                </a:lnTo>
                <a:lnTo>
                  <a:pt x="227381" y="116677"/>
                </a:lnTo>
                <a:lnTo>
                  <a:pt x="224017" y="124032"/>
                </a:lnTo>
                <a:lnTo>
                  <a:pt x="219790" y="131911"/>
                </a:lnTo>
                <a:lnTo>
                  <a:pt x="214988" y="140141"/>
                </a:lnTo>
                <a:lnTo>
                  <a:pt x="209803" y="147612"/>
                </a:lnTo>
                <a:lnTo>
                  <a:pt x="204360" y="154577"/>
                </a:lnTo>
                <a:lnTo>
                  <a:pt x="198748" y="161204"/>
                </a:lnTo>
                <a:lnTo>
                  <a:pt x="194014" y="166615"/>
                </a:lnTo>
                <a:lnTo>
                  <a:pt x="186109" y="175272"/>
                </a:lnTo>
                <a:lnTo>
                  <a:pt x="180628" y="179962"/>
                </a:lnTo>
                <a:lnTo>
                  <a:pt x="173995" y="185073"/>
                </a:lnTo>
                <a:lnTo>
                  <a:pt x="166599" y="190465"/>
                </a:lnTo>
                <a:lnTo>
                  <a:pt x="159683" y="195052"/>
                </a:lnTo>
                <a:lnTo>
                  <a:pt x="153088" y="199102"/>
                </a:lnTo>
                <a:lnTo>
                  <a:pt x="146707" y="202794"/>
                </a:lnTo>
                <a:lnTo>
                  <a:pt x="140469" y="205255"/>
                </a:lnTo>
                <a:lnTo>
                  <a:pt x="134326" y="206896"/>
                </a:lnTo>
                <a:lnTo>
                  <a:pt x="128246" y="207990"/>
                </a:lnTo>
                <a:lnTo>
                  <a:pt x="121216" y="208720"/>
                </a:lnTo>
                <a:lnTo>
                  <a:pt x="113553" y="209206"/>
                </a:lnTo>
                <a:lnTo>
                  <a:pt x="98093" y="209746"/>
                </a:lnTo>
                <a:lnTo>
                  <a:pt x="71999" y="210093"/>
                </a:lnTo>
                <a:lnTo>
                  <a:pt x="65859" y="210121"/>
                </a:lnTo>
                <a:lnTo>
                  <a:pt x="59781" y="209148"/>
                </a:lnTo>
                <a:lnTo>
                  <a:pt x="53745" y="207507"/>
                </a:lnTo>
                <a:lnTo>
                  <a:pt x="47736" y="205421"/>
                </a:lnTo>
                <a:lnTo>
                  <a:pt x="41745" y="203038"/>
                </a:lnTo>
                <a:lnTo>
                  <a:pt x="35768" y="200457"/>
                </a:lnTo>
                <a:lnTo>
                  <a:pt x="29799" y="197744"/>
                </a:lnTo>
                <a:lnTo>
                  <a:pt x="24826" y="195936"/>
                </a:lnTo>
                <a:lnTo>
                  <a:pt x="20520" y="194730"/>
                </a:lnTo>
                <a:lnTo>
                  <a:pt x="16656" y="193926"/>
                </a:lnTo>
                <a:lnTo>
                  <a:pt x="9718" y="193033"/>
                </a:lnTo>
                <a:lnTo>
                  <a:pt x="0" y="19231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SMARTInkAnnotation29"/>
          <p:cNvSpPr/>
          <p:nvPr/>
        </p:nvSpPr>
        <p:spPr>
          <a:xfrm>
            <a:off x="2544840" y="1071720"/>
            <a:ext cx="214200" cy="446040"/>
          </a:xfrm>
          <a:custGeom>
            <a:avLst/>
            <a:gdLst>
              <a:gd name="textAreaLeft" fmla="*/ 0 w 214200"/>
              <a:gd name="textAreaRight" fmla="*/ 214560 w 214200"/>
              <a:gd name="textAreaTop" fmla="*/ 0 h 446040"/>
              <a:gd name="textAreaBottom" fmla="*/ 446400 h 446040"/>
            </a:gdLst>
            <a:ahLst/>
            <a:rect l="textAreaLeft" t="textAreaTop" r="textAreaRight" b="textAreaBottom"/>
            <a:pathLst>
              <a:path w="214314" h="446485">
                <a:moveTo>
                  <a:pt x="214313" y="0"/>
                </a:moveTo>
                <a:lnTo>
                  <a:pt x="209573" y="4740"/>
                </a:lnTo>
                <a:lnTo>
                  <a:pt x="208176" y="8121"/>
                </a:lnTo>
                <a:lnTo>
                  <a:pt x="206624" y="17169"/>
                </a:lnTo>
                <a:lnTo>
                  <a:pt x="205935" y="27805"/>
                </a:lnTo>
                <a:lnTo>
                  <a:pt x="205751" y="33420"/>
                </a:lnTo>
                <a:lnTo>
                  <a:pt x="202901" y="44949"/>
                </a:lnTo>
                <a:lnTo>
                  <a:pt x="198327" y="56688"/>
                </a:lnTo>
                <a:lnTo>
                  <a:pt x="192987" y="68520"/>
                </a:lnTo>
                <a:lnTo>
                  <a:pt x="190174" y="75446"/>
                </a:lnTo>
                <a:lnTo>
                  <a:pt x="187306" y="83039"/>
                </a:lnTo>
                <a:lnTo>
                  <a:pt x="181474" y="99414"/>
                </a:lnTo>
                <a:lnTo>
                  <a:pt x="175574" y="116614"/>
                </a:lnTo>
                <a:lnTo>
                  <a:pt x="171620" y="125368"/>
                </a:lnTo>
                <a:lnTo>
                  <a:pt x="166999" y="134180"/>
                </a:lnTo>
                <a:lnTo>
                  <a:pt x="161935" y="143031"/>
                </a:lnTo>
                <a:lnTo>
                  <a:pt x="157566" y="151909"/>
                </a:lnTo>
                <a:lnTo>
                  <a:pt x="153662" y="160804"/>
                </a:lnTo>
                <a:lnTo>
                  <a:pt x="150066" y="169710"/>
                </a:lnTo>
                <a:lnTo>
                  <a:pt x="145685" y="178625"/>
                </a:lnTo>
                <a:lnTo>
                  <a:pt x="140780" y="187544"/>
                </a:lnTo>
                <a:lnTo>
                  <a:pt x="135525" y="196467"/>
                </a:lnTo>
                <a:lnTo>
                  <a:pt x="131030" y="206384"/>
                </a:lnTo>
                <a:lnTo>
                  <a:pt x="127041" y="216964"/>
                </a:lnTo>
                <a:lnTo>
                  <a:pt x="123390" y="227987"/>
                </a:lnTo>
                <a:lnTo>
                  <a:pt x="118971" y="238311"/>
                </a:lnTo>
                <a:lnTo>
                  <a:pt x="114040" y="248171"/>
                </a:lnTo>
                <a:lnTo>
                  <a:pt x="108770" y="257721"/>
                </a:lnTo>
                <a:lnTo>
                  <a:pt x="97621" y="278915"/>
                </a:lnTo>
                <a:lnTo>
                  <a:pt x="91869" y="290123"/>
                </a:lnTo>
                <a:lnTo>
                  <a:pt x="86051" y="300572"/>
                </a:lnTo>
                <a:lnTo>
                  <a:pt x="80188" y="310514"/>
                </a:lnTo>
                <a:lnTo>
                  <a:pt x="68382" y="329498"/>
                </a:lnTo>
                <a:lnTo>
                  <a:pt x="56520" y="347858"/>
                </a:lnTo>
                <a:lnTo>
                  <a:pt x="51570" y="356921"/>
                </a:lnTo>
                <a:lnTo>
                  <a:pt x="47279" y="365939"/>
                </a:lnTo>
                <a:lnTo>
                  <a:pt x="43426" y="374928"/>
                </a:lnTo>
                <a:lnTo>
                  <a:pt x="36499" y="390208"/>
                </a:lnTo>
                <a:lnTo>
                  <a:pt x="33262" y="397060"/>
                </a:lnTo>
                <a:lnTo>
                  <a:pt x="29120" y="403613"/>
                </a:lnTo>
                <a:lnTo>
                  <a:pt x="24375" y="409966"/>
                </a:lnTo>
                <a:lnTo>
                  <a:pt x="19227" y="416186"/>
                </a:lnTo>
                <a:lnTo>
                  <a:pt x="13507" y="425742"/>
                </a:lnTo>
                <a:lnTo>
                  <a:pt x="9972" y="433297"/>
                </a:lnTo>
                <a:lnTo>
                  <a:pt x="7640" y="436701"/>
                </a:lnTo>
                <a:lnTo>
                  <a:pt x="0" y="44648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SMARTInkAnnotation62"/>
          <p:cNvSpPr/>
          <p:nvPr/>
        </p:nvSpPr>
        <p:spPr>
          <a:xfrm>
            <a:off x="893880" y="3714840"/>
            <a:ext cx="311040" cy="285840"/>
          </a:xfrm>
          <a:custGeom>
            <a:avLst/>
            <a:gdLst>
              <a:gd name="textAreaLeft" fmla="*/ 0 w 311040"/>
              <a:gd name="textAreaRight" fmla="*/ 311400 w 311040"/>
              <a:gd name="textAreaTop" fmla="*/ 0 h 285840"/>
              <a:gd name="textAreaBottom" fmla="*/ 286200 h 285840"/>
            </a:gdLst>
            <a:ahLst/>
            <a:rect l="textAreaLeft" t="textAreaTop" r="textAreaRight" b="textAreaBottom"/>
            <a:pathLst>
              <a:path w="312431" h="285280">
                <a:moveTo>
                  <a:pt x="26680" y="26365"/>
                </a:moveTo>
                <a:lnTo>
                  <a:pt x="26680" y="162000"/>
                </a:lnTo>
                <a:lnTo>
                  <a:pt x="25688" y="169375"/>
                </a:lnTo>
                <a:lnTo>
                  <a:pt x="24035" y="176274"/>
                </a:lnTo>
                <a:lnTo>
                  <a:pt x="21940" y="182859"/>
                </a:lnTo>
                <a:lnTo>
                  <a:pt x="20544" y="189234"/>
                </a:lnTo>
                <a:lnTo>
                  <a:pt x="19613" y="195467"/>
                </a:lnTo>
                <a:lnTo>
                  <a:pt x="18992" y="201608"/>
                </a:lnTo>
                <a:lnTo>
                  <a:pt x="18578" y="207686"/>
                </a:lnTo>
                <a:lnTo>
                  <a:pt x="18302" y="213721"/>
                </a:lnTo>
                <a:lnTo>
                  <a:pt x="17996" y="225720"/>
                </a:lnTo>
                <a:lnTo>
                  <a:pt x="17760" y="260987"/>
                </a:lnTo>
                <a:lnTo>
                  <a:pt x="16765" y="264139"/>
                </a:lnTo>
                <a:lnTo>
                  <a:pt x="13013" y="270287"/>
                </a:lnTo>
                <a:lnTo>
                  <a:pt x="10684" y="276327"/>
                </a:lnTo>
                <a:lnTo>
                  <a:pt x="8831" y="285279"/>
                </a:lnTo>
                <a:lnTo>
                  <a:pt x="8821" y="259593"/>
                </a:lnTo>
                <a:lnTo>
                  <a:pt x="7829" y="255272"/>
                </a:lnTo>
                <a:lnTo>
                  <a:pt x="4081" y="247825"/>
                </a:lnTo>
                <a:lnTo>
                  <a:pt x="2684" y="242466"/>
                </a:lnTo>
                <a:lnTo>
                  <a:pt x="1753" y="235917"/>
                </a:lnTo>
                <a:lnTo>
                  <a:pt x="1133" y="228574"/>
                </a:lnTo>
                <a:lnTo>
                  <a:pt x="719" y="221694"/>
                </a:lnTo>
                <a:lnTo>
                  <a:pt x="259" y="208758"/>
                </a:lnTo>
                <a:lnTo>
                  <a:pt x="0" y="190320"/>
                </a:lnTo>
                <a:lnTo>
                  <a:pt x="956" y="183293"/>
                </a:lnTo>
                <a:lnTo>
                  <a:pt x="2586" y="175632"/>
                </a:lnTo>
                <a:lnTo>
                  <a:pt x="4664" y="167548"/>
                </a:lnTo>
                <a:lnTo>
                  <a:pt x="6050" y="160174"/>
                </a:lnTo>
                <a:lnTo>
                  <a:pt x="6974" y="153274"/>
                </a:lnTo>
                <a:lnTo>
                  <a:pt x="7589" y="146690"/>
                </a:lnTo>
                <a:lnTo>
                  <a:pt x="8000" y="140315"/>
                </a:lnTo>
                <a:lnTo>
                  <a:pt x="8274" y="134082"/>
                </a:lnTo>
                <a:lnTo>
                  <a:pt x="8578" y="120872"/>
                </a:lnTo>
                <a:lnTo>
                  <a:pt x="8713" y="105079"/>
                </a:lnTo>
                <a:lnTo>
                  <a:pt x="9741" y="97692"/>
                </a:lnTo>
                <a:lnTo>
                  <a:pt x="11419" y="90783"/>
                </a:lnTo>
                <a:lnTo>
                  <a:pt x="13529" y="84193"/>
                </a:lnTo>
                <a:lnTo>
                  <a:pt x="14936" y="78807"/>
                </a:lnTo>
                <a:lnTo>
                  <a:pt x="16500" y="70178"/>
                </a:lnTo>
                <a:lnTo>
                  <a:pt x="16917" y="65495"/>
                </a:lnTo>
                <a:lnTo>
                  <a:pt x="17195" y="60389"/>
                </a:lnTo>
                <a:lnTo>
                  <a:pt x="17380" y="55001"/>
                </a:lnTo>
                <a:lnTo>
                  <a:pt x="18496" y="50417"/>
                </a:lnTo>
                <a:lnTo>
                  <a:pt x="22382" y="42676"/>
                </a:lnTo>
                <a:lnTo>
                  <a:pt x="24807" y="38231"/>
                </a:lnTo>
                <a:lnTo>
                  <a:pt x="30147" y="28001"/>
                </a:lnTo>
                <a:lnTo>
                  <a:pt x="35828" y="19485"/>
                </a:lnTo>
                <a:lnTo>
                  <a:pt x="42819" y="10674"/>
                </a:lnTo>
                <a:lnTo>
                  <a:pt x="48770" y="4407"/>
                </a:lnTo>
                <a:lnTo>
                  <a:pt x="51329" y="2797"/>
                </a:lnTo>
                <a:lnTo>
                  <a:pt x="56818" y="1007"/>
                </a:lnTo>
                <a:lnTo>
                  <a:pt x="65486" y="0"/>
                </a:lnTo>
                <a:lnTo>
                  <a:pt x="68426" y="851"/>
                </a:lnTo>
                <a:lnTo>
                  <a:pt x="77304" y="5796"/>
                </a:lnTo>
                <a:lnTo>
                  <a:pt x="86218" y="8695"/>
                </a:lnTo>
                <a:lnTo>
                  <a:pt x="95143" y="15397"/>
                </a:lnTo>
                <a:lnTo>
                  <a:pt x="101095" y="20828"/>
                </a:lnTo>
                <a:lnTo>
                  <a:pt x="107048" y="29196"/>
                </a:lnTo>
                <a:lnTo>
                  <a:pt x="110024" y="34205"/>
                </a:lnTo>
                <a:lnTo>
                  <a:pt x="113001" y="39529"/>
                </a:lnTo>
                <a:lnTo>
                  <a:pt x="118954" y="50736"/>
                </a:lnTo>
                <a:lnTo>
                  <a:pt x="121931" y="55511"/>
                </a:lnTo>
                <a:lnTo>
                  <a:pt x="127884" y="63462"/>
                </a:lnTo>
                <a:lnTo>
                  <a:pt x="130860" y="67963"/>
                </a:lnTo>
                <a:lnTo>
                  <a:pt x="133837" y="72949"/>
                </a:lnTo>
                <a:lnTo>
                  <a:pt x="136813" y="78256"/>
                </a:lnTo>
                <a:lnTo>
                  <a:pt x="138798" y="84771"/>
                </a:lnTo>
                <a:lnTo>
                  <a:pt x="140120" y="92092"/>
                </a:lnTo>
                <a:lnTo>
                  <a:pt x="141003" y="99948"/>
                </a:lnTo>
                <a:lnTo>
                  <a:pt x="142583" y="107170"/>
                </a:lnTo>
                <a:lnTo>
                  <a:pt x="144628" y="113970"/>
                </a:lnTo>
                <a:lnTo>
                  <a:pt x="146984" y="120486"/>
                </a:lnTo>
                <a:lnTo>
                  <a:pt x="149547" y="126816"/>
                </a:lnTo>
                <a:lnTo>
                  <a:pt x="152248" y="133020"/>
                </a:lnTo>
                <a:lnTo>
                  <a:pt x="155040" y="139139"/>
                </a:lnTo>
                <a:lnTo>
                  <a:pt x="156902" y="146196"/>
                </a:lnTo>
                <a:lnTo>
                  <a:pt x="158143" y="153878"/>
                </a:lnTo>
                <a:lnTo>
                  <a:pt x="158971" y="161975"/>
                </a:lnTo>
                <a:lnTo>
                  <a:pt x="159522" y="169357"/>
                </a:lnTo>
                <a:lnTo>
                  <a:pt x="159890" y="176263"/>
                </a:lnTo>
                <a:lnTo>
                  <a:pt x="160299" y="189228"/>
                </a:lnTo>
                <a:lnTo>
                  <a:pt x="160583" y="219730"/>
                </a:lnTo>
                <a:lnTo>
                  <a:pt x="160613" y="232927"/>
                </a:lnTo>
                <a:lnTo>
                  <a:pt x="159625" y="237495"/>
                </a:lnTo>
                <a:lnTo>
                  <a:pt x="157974" y="242524"/>
                </a:lnTo>
                <a:lnTo>
                  <a:pt x="152936" y="255373"/>
                </a:lnTo>
                <a:lnTo>
                  <a:pt x="151941" y="264049"/>
                </a:lnTo>
                <a:lnTo>
                  <a:pt x="151697" y="267454"/>
                </a:lnTo>
                <a:lnTo>
                  <a:pt x="151696" y="255036"/>
                </a:lnTo>
                <a:lnTo>
                  <a:pt x="149050" y="246728"/>
                </a:lnTo>
                <a:lnTo>
                  <a:pt x="146956" y="241734"/>
                </a:lnTo>
                <a:lnTo>
                  <a:pt x="145559" y="236421"/>
                </a:lnTo>
                <a:lnTo>
                  <a:pt x="144628" y="230894"/>
                </a:lnTo>
                <a:lnTo>
                  <a:pt x="144008" y="225226"/>
                </a:lnTo>
                <a:lnTo>
                  <a:pt x="143594" y="220454"/>
                </a:lnTo>
                <a:lnTo>
                  <a:pt x="143134" y="212507"/>
                </a:lnTo>
                <a:lnTo>
                  <a:pt x="142930" y="203021"/>
                </a:lnTo>
                <a:lnTo>
                  <a:pt x="142776" y="163173"/>
                </a:lnTo>
                <a:lnTo>
                  <a:pt x="143765" y="157258"/>
                </a:lnTo>
                <a:lnTo>
                  <a:pt x="145417" y="151330"/>
                </a:lnTo>
                <a:lnTo>
                  <a:pt x="147510" y="145393"/>
                </a:lnTo>
                <a:lnTo>
                  <a:pt x="148905" y="139451"/>
                </a:lnTo>
                <a:lnTo>
                  <a:pt x="149836" y="133506"/>
                </a:lnTo>
                <a:lnTo>
                  <a:pt x="150456" y="127558"/>
                </a:lnTo>
                <a:lnTo>
                  <a:pt x="150869" y="121608"/>
                </a:lnTo>
                <a:lnTo>
                  <a:pt x="151145" y="115657"/>
                </a:lnTo>
                <a:lnTo>
                  <a:pt x="151329" y="109705"/>
                </a:lnTo>
                <a:lnTo>
                  <a:pt x="152443" y="103753"/>
                </a:lnTo>
                <a:lnTo>
                  <a:pt x="154179" y="97801"/>
                </a:lnTo>
                <a:lnTo>
                  <a:pt x="156328" y="91848"/>
                </a:lnTo>
                <a:lnTo>
                  <a:pt x="157760" y="85895"/>
                </a:lnTo>
                <a:lnTo>
                  <a:pt x="158715" y="79942"/>
                </a:lnTo>
                <a:lnTo>
                  <a:pt x="159352" y="73990"/>
                </a:lnTo>
                <a:lnTo>
                  <a:pt x="160769" y="69029"/>
                </a:lnTo>
                <a:lnTo>
                  <a:pt x="164989" y="60871"/>
                </a:lnTo>
                <a:lnTo>
                  <a:pt x="167503" y="56314"/>
                </a:lnTo>
                <a:lnTo>
                  <a:pt x="172943" y="45959"/>
                </a:lnTo>
                <a:lnTo>
                  <a:pt x="178668" y="37389"/>
                </a:lnTo>
                <a:lnTo>
                  <a:pt x="181583" y="33714"/>
                </a:lnTo>
                <a:lnTo>
                  <a:pt x="184519" y="31264"/>
                </a:lnTo>
                <a:lnTo>
                  <a:pt x="187469" y="29631"/>
                </a:lnTo>
                <a:lnTo>
                  <a:pt x="190427" y="28542"/>
                </a:lnTo>
                <a:lnTo>
                  <a:pt x="196360" y="24687"/>
                </a:lnTo>
                <a:lnTo>
                  <a:pt x="199332" y="22269"/>
                </a:lnTo>
                <a:lnTo>
                  <a:pt x="202305" y="20658"/>
                </a:lnTo>
                <a:lnTo>
                  <a:pt x="208254" y="18867"/>
                </a:lnTo>
                <a:lnTo>
                  <a:pt x="217181" y="17859"/>
                </a:lnTo>
                <a:lnTo>
                  <a:pt x="226110" y="17561"/>
                </a:lnTo>
                <a:lnTo>
                  <a:pt x="228095" y="18511"/>
                </a:lnTo>
                <a:lnTo>
                  <a:pt x="229418" y="20137"/>
                </a:lnTo>
                <a:lnTo>
                  <a:pt x="230299" y="22212"/>
                </a:lnTo>
                <a:lnTo>
                  <a:pt x="236571" y="27165"/>
                </a:lnTo>
                <a:lnTo>
                  <a:pt x="244981" y="32673"/>
                </a:lnTo>
                <a:lnTo>
                  <a:pt x="252026" y="38429"/>
                </a:lnTo>
                <a:lnTo>
                  <a:pt x="258464" y="46940"/>
                </a:lnTo>
                <a:lnTo>
                  <a:pt x="261570" y="51988"/>
                </a:lnTo>
                <a:lnTo>
                  <a:pt x="264633" y="57337"/>
                </a:lnTo>
                <a:lnTo>
                  <a:pt x="270682" y="68573"/>
                </a:lnTo>
                <a:lnTo>
                  <a:pt x="279666" y="86055"/>
                </a:lnTo>
                <a:lnTo>
                  <a:pt x="283642" y="91955"/>
                </a:lnTo>
                <a:lnTo>
                  <a:pt x="288277" y="97873"/>
                </a:lnTo>
                <a:lnTo>
                  <a:pt x="293352" y="103802"/>
                </a:lnTo>
                <a:lnTo>
                  <a:pt x="296735" y="109740"/>
                </a:lnTo>
                <a:lnTo>
                  <a:pt x="298990" y="115683"/>
                </a:lnTo>
                <a:lnTo>
                  <a:pt x="300494" y="121629"/>
                </a:lnTo>
                <a:lnTo>
                  <a:pt x="302488" y="128569"/>
                </a:lnTo>
                <a:lnTo>
                  <a:pt x="307350" y="144219"/>
                </a:lnTo>
                <a:lnTo>
                  <a:pt x="309044" y="151567"/>
                </a:lnTo>
                <a:lnTo>
                  <a:pt x="310172" y="158450"/>
                </a:lnTo>
                <a:lnTo>
                  <a:pt x="310925" y="165023"/>
                </a:lnTo>
                <a:lnTo>
                  <a:pt x="311427" y="171389"/>
                </a:lnTo>
                <a:lnTo>
                  <a:pt x="311761" y="177618"/>
                </a:lnTo>
                <a:lnTo>
                  <a:pt x="312232" y="193219"/>
                </a:lnTo>
                <a:lnTo>
                  <a:pt x="312404" y="216679"/>
                </a:lnTo>
                <a:lnTo>
                  <a:pt x="312430" y="24960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SMARTInkAnnotation63"/>
          <p:cNvSpPr/>
          <p:nvPr/>
        </p:nvSpPr>
        <p:spPr>
          <a:xfrm>
            <a:off x="1295280" y="3803760"/>
            <a:ext cx="142920" cy="19080"/>
          </a:xfrm>
          <a:custGeom>
            <a:avLst/>
            <a:gdLst>
              <a:gd name="textAreaLeft" fmla="*/ 0 w 142920"/>
              <a:gd name="textAreaRight" fmla="*/ 143280 w 142920"/>
              <a:gd name="textAreaTop" fmla="*/ 0 h 19080"/>
              <a:gd name="textAreaBottom" fmla="*/ 19440 h 19080"/>
            </a:gdLst>
            <a:ahLst/>
            <a:rect l="textAreaLeft" t="textAreaTop" r="textAreaRight" b="textAreaBottom"/>
            <a:pathLst>
              <a:path w="142876" h="17861">
                <a:moveTo>
                  <a:pt x="0" y="17860"/>
                </a:moveTo>
                <a:lnTo>
                  <a:pt x="4741" y="17860"/>
                </a:lnTo>
                <a:lnTo>
                  <a:pt x="6137" y="16867"/>
                </a:lnTo>
                <a:lnTo>
                  <a:pt x="7068" y="15214"/>
                </a:lnTo>
                <a:lnTo>
                  <a:pt x="7689" y="13119"/>
                </a:lnTo>
                <a:lnTo>
                  <a:pt x="9094" y="11723"/>
                </a:lnTo>
                <a:lnTo>
                  <a:pt x="11024" y="10792"/>
                </a:lnTo>
                <a:lnTo>
                  <a:pt x="13303" y="10171"/>
                </a:lnTo>
                <a:lnTo>
                  <a:pt x="15814" y="9758"/>
                </a:lnTo>
                <a:lnTo>
                  <a:pt x="18480" y="9482"/>
                </a:lnTo>
                <a:lnTo>
                  <a:pt x="21250" y="9297"/>
                </a:lnTo>
                <a:lnTo>
                  <a:pt x="24089" y="8183"/>
                </a:lnTo>
                <a:lnTo>
                  <a:pt x="26973" y="6448"/>
                </a:lnTo>
                <a:lnTo>
                  <a:pt x="29888" y="4299"/>
                </a:lnTo>
                <a:lnTo>
                  <a:pt x="33816" y="2866"/>
                </a:lnTo>
                <a:lnTo>
                  <a:pt x="38419" y="1911"/>
                </a:lnTo>
                <a:lnTo>
                  <a:pt x="43472" y="1274"/>
                </a:lnTo>
                <a:lnTo>
                  <a:pt x="48825" y="849"/>
                </a:lnTo>
                <a:lnTo>
                  <a:pt x="54378" y="566"/>
                </a:lnTo>
                <a:lnTo>
                  <a:pt x="65840" y="252"/>
                </a:lnTo>
                <a:lnTo>
                  <a:pt x="116644" y="5"/>
                </a:lnTo>
                <a:lnTo>
                  <a:pt x="142875" y="0"/>
                </a:lnTo>
              </a:path>
            </a:pathLst>
          </a:custGeom>
          <a:noFill/>
          <a:ln w="38160">
            <a:solidFill>
              <a:srgbClr val="009300"/>
            </a:solidFill>
            <a:round/>
          </a:ln>
        </p:spPr>
        <p:style>
          <a:lnRef idx="0"/>
          <a:fillRef idx="0"/>
          <a:effectRef idx="0"/>
          <a:fontRef idx="minor"/>
        </p:style>
        <p:txBody>
          <a:bodyPr lIns="90000" rIns="90000" tIns="-27360" bIns="-27360" anchor="ctr">
            <a:noAutofit/>
          </a:bodyPr>
          <a:p>
            <a:endParaRPr b="0" lang="en-US" sz="1800" spc="-1" strike="noStrike">
              <a:solidFill>
                <a:srgbClr val="ffffff"/>
              </a:solidFill>
              <a:latin typeface="Arial"/>
            </a:endParaRPr>
          </a:p>
        </p:txBody>
      </p:sp>
      <p:sp>
        <p:nvSpPr>
          <p:cNvPr id="283" name="SMARTInkAnnotation64"/>
          <p:cNvSpPr/>
          <p:nvPr/>
        </p:nvSpPr>
        <p:spPr>
          <a:xfrm>
            <a:off x="1330200" y="3911760"/>
            <a:ext cx="152640" cy="7920"/>
          </a:xfrm>
          <a:custGeom>
            <a:avLst/>
            <a:gdLst>
              <a:gd name="textAreaLeft" fmla="*/ 0 w 152640"/>
              <a:gd name="textAreaRight" fmla="*/ 153000 w 152640"/>
              <a:gd name="textAreaTop" fmla="*/ 0 h 7920"/>
              <a:gd name="textAreaBottom" fmla="*/ 8280 h 7920"/>
            </a:gdLst>
            <a:ahLst/>
            <a:rect l="textAreaLeft" t="textAreaTop" r="textAreaRight" b="textAreaBottom"/>
            <a:pathLst>
              <a:path w="151806" h="8931">
                <a:moveTo>
                  <a:pt x="0" y="8930"/>
                </a:moveTo>
                <a:lnTo>
                  <a:pt x="7688" y="1241"/>
                </a:lnTo>
                <a:lnTo>
                  <a:pt x="9094" y="827"/>
                </a:lnTo>
                <a:lnTo>
                  <a:pt x="11024" y="551"/>
                </a:lnTo>
                <a:lnTo>
                  <a:pt x="13302" y="367"/>
                </a:lnTo>
                <a:lnTo>
                  <a:pt x="15814" y="245"/>
                </a:lnTo>
                <a:lnTo>
                  <a:pt x="21250" y="109"/>
                </a:lnTo>
                <a:lnTo>
                  <a:pt x="127471" y="0"/>
                </a:lnTo>
                <a:lnTo>
                  <a:pt x="130621" y="992"/>
                </a:lnTo>
                <a:lnTo>
                  <a:pt x="133714" y="2645"/>
                </a:lnTo>
                <a:lnTo>
                  <a:pt x="136768" y="4740"/>
                </a:lnTo>
                <a:lnTo>
                  <a:pt x="139795" y="6136"/>
                </a:lnTo>
                <a:lnTo>
                  <a:pt x="142806" y="7068"/>
                </a:lnTo>
                <a:lnTo>
                  <a:pt x="151805" y="8930"/>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284" name="SMARTInkAnnotation65"/>
          <p:cNvSpPr/>
          <p:nvPr/>
        </p:nvSpPr>
        <p:spPr>
          <a:xfrm>
            <a:off x="1527120" y="3652920"/>
            <a:ext cx="204840" cy="150840"/>
          </a:xfrm>
          <a:custGeom>
            <a:avLst/>
            <a:gdLst>
              <a:gd name="textAreaLeft" fmla="*/ 0 w 204840"/>
              <a:gd name="textAreaRight" fmla="*/ 205200 w 204840"/>
              <a:gd name="textAreaTop" fmla="*/ 0 h 150840"/>
              <a:gd name="textAreaBottom" fmla="*/ 151200 h 150840"/>
            </a:gdLst>
            <a:ahLst/>
            <a:rect l="textAreaLeft" t="textAreaTop" r="textAreaRight" b="textAreaBottom"/>
            <a:pathLst>
              <a:path w="204981" h="151795">
                <a:moveTo>
                  <a:pt x="26386" y="0"/>
                </a:moveTo>
                <a:lnTo>
                  <a:pt x="26386" y="43114"/>
                </a:lnTo>
                <a:lnTo>
                  <a:pt x="25394" y="48586"/>
                </a:lnTo>
                <a:lnTo>
                  <a:pt x="23740" y="54219"/>
                </a:lnTo>
                <a:lnTo>
                  <a:pt x="21646" y="59958"/>
                </a:lnTo>
                <a:lnTo>
                  <a:pt x="20249" y="64777"/>
                </a:lnTo>
                <a:lnTo>
                  <a:pt x="19319" y="68982"/>
                </a:lnTo>
                <a:lnTo>
                  <a:pt x="18698" y="72777"/>
                </a:lnTo>
                <a:lnTo>
                  <a:pt x="17292" y="77291"/>
                </a:lnTo>
                <a:lnTo>
                  <a:pt x="15362" y="82285"/>
                </a:lnTo>
                <a:lnTo>
                  <a:pt x="13084" y="87599"/>
                </a:lnTo>
                <a:lnTo>
                  <a:pt x="11565" y="92134"/>
                </a:lnTo>
                <a:lnTo>
                  <a:pt x="10552" y="96149"/>
                </a:lnTo>
                <a:lnTo>
                  <a:pt x="9877" y="99818"/>
                </a:lnTo>
                <a:lnTo>
                  <a:pt x="8435" y="104248"/>
                </a:lnTo>
                <a:lnTo>
                  <a:pt x="6481" y="109187"/>
                </a:lnTo>
                <a:lnTo>
                  <a:pt x="4186" y="114463"/>
                </a:lnTo>
                <a:lnTo>
                  <a:pt x="2657" y="118972"/>
                </a:lnTo>
                <a:lnTo>
                  <a:pt x="1637" y="122972"/>
                </a:lnTo>
                <a:lnTo>
                  <a:pt x="0" y="131778"/>
                </a:lnTo>
                <a:lnTo>
                  <a:pt x="858" y="133492"/>
                </a:lnTo>
                <a:lnTo>
                  <a:pt x="4457" y="138043"/>
                </a:lnTo>
                <a:lnTo>
                  <a:pt x="7321" y="141443"/>
                </a:lnTo>
                <a:lnTo>
                  <a:pt x="10637" y="144885"/>
                </a:lnTo>
                <a:lnTo>
                  <a:pt x="12910" y="147191"/>
                </a:lnTo>
                <a:lnTo>
                  <a:pt x="15418" y="148729"/>
                </a:lnTo>
                <a:lnTo>
                  <a:pt x="20850" y="150437"/>
                </a:lnTo>
                <a:lnTo>
                  <a:pt x="24680" y="150894"/>
                </a:lnTo>
                <a:lnTo>
                  <a:pt x="29217" y="151197"/>
                </a:lnTo>
                <a:lnTo>
                  <a:pt x="34227" y="151399"/>
                </a:lnTo>
                <a:lnTo>
                  <a:pt x="45084" y="151625"/>
                </a:lnTo>
                <a:lnTo>
                  <a:pt x="85966" y="151794"/>
                </a:lnTo>
                <a:lnTo>
                  <a:pt x="91903" y="150805"/>
                </a:lnTo>
                <a:lnTo>
                  <a:pt x="97845" y="149154"/>
                </a:lnTo>
                <a:lnTo>
                  <a:pt x="103791" y="147061"/>
                </a:lnTo>
                <a:lnTo>
                  <a:pt x="109740" y="145666"/>
                </a:lnTo>
                <a:lnTo>
                  <a:pt x="115689" y="144736"/>
                </a:lnTo>
                <a:lnTo>
                  <a:pt x="121641" y="144115"/>
                </a:lnTo>
                <a:lnTo>
                  <a:pt x="128584" y="143702"/>
                </a:lnTo>
                <a:lnTo>
                  <a:pt x="144237" y="143242"/>
                </a:lnTo>
                <a:lnTo>
                  <a:pt x="179036" y="142907"/>
                </a:lnTo>
                <a:lnTo>
                  <a:pt x="204980" y="14287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SMARTInkAnnotation66"/>
          <p:cNvSpPr/>
          <p:nvPr/>
        </p:nvSpPr>
        <p:spPr>
          <a:xfrm>
            <a:off x="1628640" y="3714840"/>
            <a:ext cx="32040" cy="276120"/>
          </a:xfrm>
          <a:custGeom>
            <a:avLst/>
            <a:gdLst>
              <a:gd name="textAreaLeft" fmla="*/ 0 w 32040"/>
              <a:gd name="textAreaRight" fmla="*/ 32400 w 32040"/>
              <a:gd name="textAreaTop" fmla="*/ 0 h 276120"/>
              <a:gd name="textAreaBottom" fmla="*/ 276480 h 276120"/>
            </a:gdLst>
            <a:ahLst/>
            <a:rect l="textAreaLeft" t="textAreaTop" r="textAreaRight" b="textAreaBottom"/>
            <a:pathLst>
              <a:path w="31473" h="276821">
                <a:moveTo>
                  <a:pt x="22910" y="0"/>
                </a:moveTo>
                <a:lnTo>
                  <a:pt x="22910" y="37499"/>
                </a:lnTo>
                <a:lnTo>
                  <a:pt x="23902" y="41867"/>
                </a:lnTo>
                <a:lnTo>
                  <a:pt x="25555" y="46763"/>
                </a:lnTo>
                <a:lnTo>
                  <a:pt x="27650" y="52011"/>
                </a:lnTo>
                <a:lnTo>
                  <a:pt x="29047" y="57494"/>
                </a:lnTo>
                <a:lnTo>
                  <a:pt x="29978" y="63134"/>
                </a:lnTo>
                <a:lnTo>
                  <a:pt x="30598" y="68878"/>
                </a:lnTo>
                <a:lnTo>
                  <a:pt x="31012" y="75684"/>
                </a:lnTo>
                <a:lnTo>
                  <a:pt x="31472" y="91184"/>
                </a:lnTo>
                <a:lnTo>
                  <a:pt x="30602" y="98492"/>
                </a:lnTo>
                <a:lnTo>
                  <a:pt x="29030" y="105349"/>
                </a:lnTo>
                <a:lnTo>
                  <a:pt x="26990" y="111904"/>
                </a:lnTo>
                <a:lnTo>
                  <a:pt x="25630" y="118259"/>
                </a:lnTo>
                <a:lnTo>
                  <a:pt x="24723" y="124480"/>
                </a:lnTo>
                <a:lnTo>
                  <a:pt x="24119" y="130611"/>
                </a:lnTo>
                <a:lnTo>
                  <a:pt x="23716" y="137676"/>
                </a:lnTo>
                <a:lnTo>
                  <a:pt x="23268" y="153462"/>
                </a:lnTo>
                <a:lnTo>
                  <a:pt x="22156" y="160847"/>
                </a:lnTo>
                <a:lnTo>
                  <a:pt x="20423" y="167755"/>
                </a:lnTo>
                <a:lnTo>
                  <a:pt x="18275" y="174344"/>
                </a:lnTo>
                <a:lnTo>
                  <a:pt x="15851" y="180721"/>
                </a:lnTo>
                <a:lnTo>
                  <a:pt x="13243" y="186957"/>
                </a:lnTo>
                <a:lnTo>
                  <a:pt x="10512" y="193099"/>
                </a:lnTo>
                <a:lnTo>
                  <a:pt x="8692" y="199178"/>
                </a:lnTo>
                <a:lnTo>
                  <a:pt x="7478" y="205215"/>
                </a:lnTo>
                <a:lnTo>
                  <a:pt x="6669" y="211224"/>
                </a:lnTo>
                <a:lnTo>
                  <a:pt x="6129" y="217214"/>
                </a:lnTo>
                <a:lnTo>
                  <a:pt x="5770" y="223192"/>
                </a:lnTo>
                <a:lnTo>
                  <a:pt x="5530" y="229162"/>
                </a:lnTo>
                <a:lnTo>
                  <a:pt x="4378" y="235126"/>
                </a:lnTo>
                <a:lnTo>
                  <a:pt x="2618" y="241087"/>
                </a:lnTo>
                <a:lnTo>
                  <a:pt x="452" y="247044"/>
                </a:lnTo>
                <a:lnTo>
                  <a:pt x="0" y="252009"/>
                </a:lnTo>
                <a:lnTo>
                  <a:pt x="691" y="256310"/>
                </a:lnTo>
                <a:lnTo>
                  <a:pt x="2144" y="260170"/>
                </a:lnTo>
                <a:lnTo>
                  <a:pt x="3113" y="263736"/>
                </a:lnTo>
                <a:lnTo>
                  <a:pt x="3759" y="267105"/>
                </a:lnTo>
                <a:lnTo>
                  <a:pt x="5050" y="27682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SMARTInkAnnotation67"/>
          <p:cNvSpPr/>
          <p:nvPr/>
        </p:nvSpPr>
        <p:spPr>
          <a:xfrm>
            <a:off x="1697040" y="39639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8931" h="1">
                <a:moveTo>
                  <a:pt x="8930" y="0"/>
                </a:moveTo>
                <a:lnTo>
                  <a:pt x="0" y="0"/>
                </a:lnTo>
              </a:path>
            </a:pathLst>
          </a:custGeom>
          <a:noFill/>
          <a:ln w="38160">
            <a:solidFill>
              <a:srgbClr val="009300"/>
            </a:solidFill>
            <a:roun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87" name="SMARTInkAnnotation68"/>
          <p:cNvSpPr/>
          <p:nvPr/>
        </p:nvSpPr>
        <p:spPr>
          <a:xfrm>
            <a:off x="1795320" y="3768840"/>
            <a:ext cx="212760" cy="237960"/>
          </a:xfrm>
          <a:custGeom>
            <a:avLst/>
            <a:gdLst>
              <a:gd name="textAreaLeft" fmla="*/ 0 w 212760"/>
              <a:gd name="textAreaRight" fmla="*/ 213120 w 212760"/>
              <a:gd name="textAreaTop" fmla="*/ 0 h 237960"/>
              <a:gd name="textAreaBottom" fmla="*/ 238320 h 237960"/>
            </a:gdLst>
            <a:ahLst/>
            <a:rect l="textAreaLeft" t="textAreaTop" r="textAreaRight" b="textAreaBottom"/>
            <a:pathLst>
              <a:path w="213721" h="239290">
                <a:moveTo>
                  <a:pt x="151639" y="17859"/>
                </a:moveTo>
                <a:lnTo>
                  <a:pt x="151639" y="10171"/>
                </a:lnTo>
                <a:lnTo>
                  <a:pt x="150647" y="9757"/>
                </a:lnTo>
                <a:lnTo>
                  <a:pt x="146899" y="9297"/>
                </a:lnTo>
                <a:lnTo>
                  <a:pt x="145503" y="8182"/>
                </a:lnTo>
                <a:lnTo>
                  <a:pt x="144572" y="6447"/>
                </a:lnTo>
                <a:lnTo>
                  <a:pt x="143951" y="4298"/>
                </a:lnTo>
                <a:lnTo>
                  <a:pt x="142545" y="2865"/>
                </a:lnTo>
                <a:lnTo>
                  <a:pt x="140616" y="1910"/>
                </a:lnTo>
                <a:lnTo>
                  <a:pt x="138337" y="1273"/>
                </a:lnTo>
                <a:lnTo>
                  <a:pt x="134834" y="1841"/>
                </a:lnTo>
                <a:lnTo>
                  <a:pt x="130514" y="3211"/>
                </a:lnTo>
                <a:lnTo>
                  <a:pt x="125649" y="5118"/>
                </a:lnTo>
                <a:lnTo>
                  <a:pt x="121414" y="6388"/>
                </a:lnTo>
                <a:lnTo>
                  <a:pt x="117599" y="7235"/>
                </a:lnTo>
                <a:lnTo>
                  <a:pt x="114063" y="7800"/>
                </a:lnTo>
                <a:lnTo>
                  <a:pt x="109721" y="9169"/>
                </a:lnTo>
                <a:lnTo>
                  <a:pt x="104842" y="11073"/>
                </a:lnTo>
                <a:lnTo>
                  <a:pt x="99605" y="13335"/>
                </a:lnTo>
                <a:lnTo>
                  <a:pt x="94130" y="16828"/>
                </a:lnTo>
                <a:lnTo>
                  <a:pt x="88495" y="21140"/>
                </a:lnTo>
                <a:lnTo>
                  <a:pt x="82754" y="26000"/>
                </a:lnTo>
                <a:lnTo>
                  <a:pt x="77935" y="30232"/>
                </a:lnTo>
                <a:lnTo>
                  <a:pt x="69934" y="37579"/>
                </a:lnTo>
                <a:lnTo>
                  <a:pt x="65419" y="42912"/>
                </a:lnTo>
                <a:lnTo>
                  <a:pt x="60425" y="49444"/>
                </a:lnTo>
                <a:lnTo>
                  <a:pt x="55111" y="56775"/>
                </a:lnTo>
                <a:lnTo>
                  <a:pt x="50576" y="63647"/>
                </a:lnTo>
                <a:lnTo>
                  <a:pt x="46561" y="70212"/>
                </a:lnTo>
                <a:lnTo>
                  <a:pt x="42892" y="76574"/>
                </a:lnTo>
                <a:lnTo>
                  <a:pt x="38461" y="82799"/>
                </a:lnTo>
                <a:lnTo>
                  <a:pt x="33523" y="88934"/>
                </a:lnTo>
                <a:lnTo>
                  <a:pt x="28247" y="95008"/>
                </a:lnTo>
                <a:lnTo>
                  <a:pt x="23737" y="102034"/>
                </a:lnTo>
                <a:lnTo>
                  <a:pt x="19738" y="109694"/>
                </a:lnTo>
                <a:lnTo>
                  <a:pt x="12650" y="125152"/>
                </a:lnTo>
                <a:lnTo>
                  <a:pt x="6191" y="138635"/>
                </a:lnTo>
                <a:lnTo>
                  <a:pt x="4073" y="146002"/>
                </a:lnTo>
                <a:lnTo>
                  <a:pt x="2660" y="153889"/>
                </a:lnTo>
                <a:lnTo>
                  <a:pt x="1718" y="162124"/>
                </a:lnTo>
                <a:lnTo>
                  <a:pt x="1090" y="169598"/>
                </a:lnTo>
                <a:lnTo>
                  <a:pt x="672" y="176565"/>
                </a:lnTo>
                <a:lnTo>
                  <a:pt x="207" y="189599"/>
                </a:lnTo>
                <a:lnTo>
                  <a:pt x="0" y="202005"/>
                </a:lnTo>
                <a:lnTo>
                  <a:pt x="937" y="207100"/>
                </a:lnTo>
                <a:lnTo>
                  <a:pt x="2554" y="211488"/>
                </a:lnTo>
                <a:lnTo>
                  <a:pt x="4624" y="215406"/>
                </a:lnTo>
                <a:lnTo>
                  <a:pt x="9570" y="222405"/>
                </a:lnTo>
                <a:lnTo>
                  <a:pt x="12278" y="225661"/>
                </a:lnTo>
                <a:lnTo>
                  <a:pt x="16068" y="228823"/>
                </a:lnTo>
                <a:lnTo>
                  <a:pt x="20579" y="231924"/>
                </a:lnTo>
                <a:lnTo>
                  <a:pt x="25570" y="234983"/>
                </a:lnTo>
                <a:lnTo>
                  <a:pt x="29890" y="237022"/>
                </a:lnTo>
                <a:lnTo>
                  <a:pt x="33762" y="238382"/>
                </a:lnTo>
                <a:lnTo>
                  <a:pt x="37336" y="239289"/>
                </a:lnTo>
                <a:lnTo>
                  <a:pt x="42695" y="238901"/>
                </a:lnTo>
                <a:lnTo>
                  <a:pt x="49244" y="237650"/>
                </a:lnTo>
                <a:lnTo>
                  <a:pt x="56587" y="235824"/>
                </a:lnTo>
                <a:lnTo>
                  <a:pt x="63466" y="234606"/>
                </a:lnTo>
                <a:lnTo>
                  <a:pt x="70037" y="233795"/>
                </a:lnTo>
                <a:lnTo>
                  <a:pt x="76402" y="233254"/>
                </a:lnTo>
                <a:lnTo>
                  <a:pt x="82629" y="230909"/>
                </a:lnTo>
                <a:lnTo>
                  <a:pt x="88765" y="227361"/>
                </a:lnTo>
                <a:lnTo>
                  <a:pt x="94841" y="223011"/>
                </a:lnTo>
                <a:lnTo>
                  <a:pt x="100875" y="218127"/>
                </a:lnTo>
                <a:lnTo>
                  <a:pt x="106882" y="212887"/>
                </a:lnTo>
                <a:lnTo>
                  <a:pt x="112872" y="207409"/>
                </a:lnTo>
                <a:lnTo>
                  <a:pt x="124818" y="196031"/>
                </a:lnTo>
                <a:lnTo>
                  <a:pt x="130782" y="190219"/>
                </a:lnTo>
                <a:lnTo>
                  <a:pt x="136742" y="183367"/>
                </a:lnTo>
                <a:lnTo>
                  <a:pt x="142700" y="175823"/>
                </a:lnTo>
                <a:lnTo>
                  <a:pt x="148656" y="167817"/>
                </a:lnTo>
                <a:lnTo>
                  <a:pt x="160566" y="150983"/>
                </a:lnTo>
                <a:lnTo>
                  <a:pt x="184381" y="115924"/>
                </a:lnTo>
                <a:lnTo>
                  <a:pt x="189342" y="108040"/>
                </a:lnTo>
                <a:lnTo>
                  <a:pt x="193642" y="100800"/>
                </a:lnTo>
                <a:lnTo>
                  <a:pt x="197500" y="93989"/>
                </a:lnTo>
                <a:lnTo>
                  <a:pt x="200073" y="86472"/>
                </a:lnTo>
                <a:lnTo>
                  <a:pt x="201788" y="78484"/>
                </a:lnTo>
                <a:lnTo>
                  <a:pt x="202931" y="70182"/>
                </a:lnTo>
                <a:lnTo>
                  <a:pt x="204685" y="63655"/>
                </a:lnTo>
                <a:lnTo>
                  <a:pt x="206847" y="58312"/>
                </a:lnTo>
                <a:lnTo>
                  <a:pt x="209281" y="53758"/>
                </a:lnTo>
                <a:lnTo>
                  <a:pt x="210903" y="48736"/>
                </a:lnTo>
                <a:lnTo>
                  <a:pt x="211984" y="43405"/>
                </a:lnTo>
                <a:lnTo>
                  <a:pt x="212705" y="37866"/>
                </a:lnTo>
                <a:lnTo>
                  <a:pt x="213186" y="33182"/>
                </a:lnTo>
                <a:lnTo>
                  <a:pt x="213506" y="29066"/>
                </a:lnTo>
                <a:lnTo>
                  <a:pt x="213720" y="25330"/>
                </a:lnTo>
                <a:lnTo>
                  <a:pt x="212870" y="21848"/>
                </a:lnTo>
                <a:lnTo>
                  <a:pt x="209280" y="15332"/>
                </a:lnTo>
                <a:lnTo>
                  <a:pt x="205028" y="9202"/>
                </a:lnTo>
                <a:lnTo>
                  <a:pt x="200834" y="4751"/>
                </a:lnTo>
                <a:lnTo>
                  <a:pt x="198326" y="3167"/>
                </a:lnTo>
                <a:lnTo>
                  <a:pt x="192894" y="1408"/>
                </a:lnTo>
                <a:lnTo>
                  <a:pt x="188999" y="417"/>
                </a:lnTo>
                <a:lnTo>
                  <a:pt x="185441" y="185"/>
                </a:lnTo>
                <a:lnTo>
                  <a:pt x="178428" y="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SMARTInkAnnotation69"/>
          <p:cNvSpPr/>
          <p:nvPr/>
        </p:nvSpPr>
        <p:spPr>
          <a:xfrm>
            <a:off x="2035080" y="3643200"/>
            <a:ext cx="90720" cy="411120"/>
          </a:xfrm>
          <a:custGeom>
            <a:avLst/>
            <a:gdLst>
              <a:gd name="textAreaLeft" fmla="*/ 0 w 90720"/>
              <a:gd name="textAreaRight" fmla="*/ 91080 w 90720"/>
              <a:gd name="textAreaTop" fmla="*/ 0 h 411120"/>
              <a:gd name="textAreaBottom" fmla="*/ 411480 h 411120"/>
            </a:gdLst>
            <a:ahLst/>
            <a:rect l="textAreaLeft" t="textAreaTop" r="textAreaRight" b="textAreaBottom"/>
            <a:pathLst>
              <a:path w="89298" h="410767">
                <a:moveTo>
                  <a:pt x="89297" y="0"/>
                </a:moveTo>
                <a:lnTo>
                  <a:pt x="89297" y="12429"/>
                </a:lnTo>
                <a:lnTo>
                  <a:pt x="88305" y="15232"/>
                </a:lnTo>
                <a:lnTo>
                  <a:pt x="86651" y="18092"/>
                </a:lnTo>
                <a:lnTo>
                  <a:pt x="84557" y="20991"/>
                </a:lnTo>
                <a:lnTo>
                  <a:pt x="82229" y="32150"/>
                </a:lnTo>
                <a:lnTo>
                  <a:pt x="81609" y="39292"/>
                </a:lnTo>
                <a:lnTo>
                  <a:pt x="81195" y="46039"/>
                </a:lnTo>
                <a:lnTo>
                  <a:pt x="80735" y="58826"/>
                </a:lnTo>
                <a:lnTo>
                  <a:pt x="79620" y="66007"/>
                </a:lnTo>
                <a:lnTo>
                  <a:pt x="77885" y="73770"/>
                </a:lnTo>
                <a:lnTo>
                  <a:pt x="75736" y="81923"/>
                </a:lnTo>
                <a:lnTo>
                  <a:pt x="73311" y="90334"/>
                </a:lnTo>
                <a:lnTo>
                  <a:pt x="67971" y="107617"/>
                </a:lnTo>
                <a:lnTo>
                  <a:pt x="66150" y="116393"/>
                </a:lnTo>
                <a:lnTo>
                  <a:pt x="64936" y="125220"/>
                </a:lnTo>
                <a:lnTo>
                  <a:pt x="64127" y="134082"/>
                </a:lnTo>
                <a:lnTo>
                  <a:pt x="62595" y="143959"/>
                </a:lnTo>
                <a:lnTo>
                  <a:pt x="60582" y="154511"/>
                </a:lnTo>
                <a:lnTo>
                  <a:pt x="58247" y="165515"/>
                </a:lnTo>
                <a:lnTo>
                  <a:pt x="55699" y="175828"/>
                </a:lnTo>
                <a:lnTo>
                  <a:pt x="53008" y="185680"/>
                </a:lnTo>
                <a:lnTo>
                  <a:pt x="47372" y="204564"/>
                </a:lnTo>
                <a:lnTo>
                  <a:pt x="41559" y="222878"/>
                </a:lnTo>
                <a:lnTo>
                  <a:pt x="38621" y="232922"/>
                </a:lnTo>
                <a:lnTo>
                  <a:pt x="29744" y="265026"/>
                </a:lnTo>
                <a:lnTo>
                  <a:pt x="23803" y="284477"/>
                </a:lnTo>
                <a:lnTo>
                  <a:pt x="21822" y="293831"/>
                </a:lnTo>
                <a:lnTo>
                  <a:pt x="20501" y="303044"/>
                </a:lnTo>
                <a:lnTo>
                  <a:pt x="19621" y="312162"/>
                </a:lnTo>
                <a:lnTo>
                  <a:pt x="18042" y="321217"/>
                </a:lnTo>
                <a:lnTo>
                  <a:pt x="15996" y="330231"/>
                </a:lnTo>
                <a:lnTo>
                  <a:pt x="13641" y="339217"/>
                </a:lnTo>
                <a:lnTo>
                  <a:pt x="11078" y="347192"/>
                </a:lnTo>
                <a:lnTo>
                  <a:pt x="8378" y="354492"/>
                </a:lnTo>
                <a:lnTo>
                  <a:pt x="5585" y="361344"/>
                </a:lnTo>
                <a:lnTo>
                  <a:pt x="3723" y="366904"/>
                </a:lnTo>
                <a:lnTo>
                  <a:pt x="1103" y="379469"/>
                </a:lnTo>
                <a:lnTo>
                  <a:pt x="327" y="389477"/>
                </a:lnTo>
                <a:lnTo>
                  <a:pt x="65" y="401747"/>
                </a:lnTo>
                <a:lnTo>
                  <a:pt x="0" y="41076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SMARTInkAnnotation70"/>
          <p:cNvSpPr/>
          <p:nvPr/>
        </p:nvSpPr>
        <p:spPr>
          <a:xfrm>
            <a:off x="2062080" y="3768840"/>
            <a:ext cx="206280" cy="133200"/>
          </a:xfrm>
          <a:custGeom>
            <a:avLst/>
            <a:gdLst>
              <a:gd name="textAreaLeft" fmla="*/ 0 w 206280"/>
              <a:gd name="textAreaRight" fmla="*/ 206640 w 206280"/>
              <a:gd name="textAreaTop" fmla="*/ 0 h 133200"/>
              <a:gd name="textAreaBottom" fmla="*/ 133560 h 133200"/>
            </a:gdLst>
            <a:ahLst/>
            <a:rect l="textAreaLeft" t="textAreaTop" r="textAreaRight" b="textAreaBottom"/>
            <a:pathLst>
              <a:path w="205384" h="133946">
                <a:moveTo>
                  <a:pt x="0" y="133945"/>
                </a:moveTo>
                <a:lnTo>
                  <a:pt x="0" y="129204"/>
                </a:lnTo>
                <a:lnTo>
                  <a:pt x="993" y="126816"/>
                </a:lnTo>
                <a:lnTo>
                  <a:pt x="2646" y="124231"/>
                </a:lnTo>
                <a:lnTo>
                  <a:pt x="4741" y="121516"/>
                </a:lnTo>
                <a:lnTo>
                  <a:pt x="7130" y="118714"/>
                </a:lnTo>
                <a:lnTo>
                  <a:pt x="9714" y="115853"/>
                </a:lnTo>
                <a:lnTo>
                  <a:pt x="15232" y="110029"/>
                </a:lnTo>
                <a:lnTo>
                  <a:pt x="20991" y="104133"/>
                </a:lnTo>
                <a:lnTo>
                  <a:pt x="24908" y="101172"/>
                </a:lnTo>
                <a:lnTo>
                  <a:pt x="29504" y="98206"/>
                </a:lnTo>
                <a:lnTo>
                  <a:pt x="34552" y="95236"/>
                </a:lnTo>
                <a:lnTo>
                  <a:pt x="39902" y="92264"/>
                </a:lnTo>
                <a:lnTo>
                  <a:pt x="51138" y="86316"/>
                </a:lnTo>
                <a:lnTo>
                  <a:pt x="56913" y="82348"/>
                </a:lnTo>
                <a:lnTo>
                  <a:pt x="62746" y="77719"/>
                </a:lnTo>
                <a:lnTo>
                  <a:pt x="68620" y="72649"/>
                </a:lnTo>
                <a:lnTo>
                  <a:pt x="74520" y="69268"/>
                </a:lnTo>
                <a:lnTo>
                  <a:pt x="80438" y="67015"/>
                </a:lnTo>
                <a:lnTo>
                  <a:pt x="86368" y="65512"/>
                </a:lnTo>
                <a:lnTo>
                  <a:pt x="92305" y="62526"/>
                </a:lnTo>
                <a:lnTo>
                  <a:pt x="98248" y="58551"/>
                </a:lnTo>
                <a:lnTo>
                  <a:pt x="104194" y="53916"/>
                </a:lnTo>
                <a:lnTo>
                  <a:pt x="110142" y="49835"/>
                </a:lnTo>
                <a:lnTo>
                  <a:pt x="116092" y="46122"/>
                </a:lnTo>
                <a:lnTo>
                  <a:pt x="122043" y="42654"/>
                </a:lnTo>
                <a:lnTo>
                  <a:pt x="127995" y="39350"/>
                </a:lnTo>
                <a:lnTo>
                  <a:pt x="139900" y="33033"/>
                </a:lnTo>
                <a:lnTo>
                  <a:pt x="175618" y="14908"/>
                </a:lnTo>
                <a:lnTo>
                  <a:pt x="180579" y="11923"/>
                </a:lnTo>
                <a:lnTo>
                  <a:pt x="184878" y="8941"/>
                </a:lnTo>
                <a:lnTo>
                  <a:pt x="188736" y="5961"/>
                </a:lnTo>
                <a:lnTo>
                  <a:pt x="192301" y="3973"/>
                </a:lnTo>
                <a:lnTo>
                  <a:pt x="195670" y="2649"/>
                </a:lnTo>
                <a:lnTo>
                  <a:pt x="205383" y="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SMARTInkAnnotation71"/>
          <p:cNvSpPr/>
          <p:nvPr/>
        </p:nvSpPr>
        <p:spPr>
          <a:xfrm>
            <a:off x="2116080" y="3830760"/>
            <a:ext cx="44640" cy="160200"/>
          </a:xfrm>
          <a:custGeom>
            <a:avLst/>
            <a:gdLst>
              <a:gd name="textAreaLeft" fmla="*/ 0 w 44640"/>
              <a:gd name="textAreaRight" fmla="*/ 45000 w 44640"/>
              <a:gd name="textAreaTop" fmla="*/ 0 h 160200"/>
              <a:gd name="textAreaBottom" fmla="*/ 160560 h 160200"/>
            </a:gdLst>
            <a:ahLst/>
            <a:rect l="textAreaLeft" t="textAreaTop" r="textAreaRight" b="textAreaBottom"/>
            <a:pathLst>
              <a:path w="44650" h="160736">
                <a:moveTo>
                  <a:pt x="0" y="0"/>
                </a:moveTo>
                <a:lnTo>
                  <a:pt x="0" y="77806"/>
                </a:lnTo>
                <a:lnTo>
                  <a:pt x="993" y="82629"/>
                </a:lnTo>
                <a:lnTo>
                  <a:pt x="2646" y="86836"/>
                </a:lnTo>
                <a:lnTo>
                  <a:pt x="4741" y="90633"/>
                </a:lnTo>
                <a:lnTo>
                  <a:pt x="6137" y="94157"/>
                </a:lnTo>
                <a:lnTo>
                  <a:pt x="7069" y="97498"/>
                </a:lnTo>
                <a:lnTo>
                  <a:pt x="7689" y="100717"/>
                </a:lnTo>
                <a:lnTo>
                  <a:pt x="9095" y="104848"/>
                </a:lnTo>
                <a:lnTo>
                  <a:pt x="11025" y="109586"/>
                </a:lnTo>
                <a:lnTo>
                  <a:pt x="13303" y="114730"/>
                </a:lnTo>
                <a:lnTo>
                  <a:pt x="15814" y="119151"/>
                </a:lnTo>
                <a:lnTo>
                  <a:pt x="18481" y="123090"/>
                </a:lnTo>
                <a:lnTo>
                  <a:pt x="21250" y="126709"/>
                </a:lnTo>
                <a:lnTo>
                  <a:pt x="24089" y="130113"/>
                </a:lnTo>
                <a:lnTo>
                  <a:pt x="26974" y="133375"/>
                </a:lnTo>
                <a:lnTo>
                  <a:pt x="29889" y="136542"/>
                </a:lnTo>
                <a:lnTo>
                  <a:pt x="31832" y="139645"/>
                </a:lnTo>
                <a:lnTo>
                  <a:pt x="33128" y="142706"/>
                </a:lnTo>
                <a:lnTo>
                  <a:pt x="33992" y="145739"/>
                </a:lnTo>
                <a:lnTo>
                  <a:pt x="35560" y="148753"/>
                </a:lnTo>
                <a:lnTo>
                  <a:pt x="37597" y="151755"/>
                </a:lnTo>
                <a:lnTo>
                  <a:pt x="44649" y="16073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SMARTInkAnnotation72"/>
          <p:cNvSpPr/>
          <p:nvPr/>
        </p:nvSpPr>
        <p:spPr>
          <a:xfrm>
            <a:off x="2187720" y="3867120"/>
            <a:ext cx="223560" cy="311040"/>
          </a:xfrm>
          <a:custGeom>
            <a:avLst/>
            <a:gdLst>
              <a:gd name="textAreaLeft" fmla="*/ 0 w 223560"/>
              <a:gd name="textAreaRight" fmla="*/ 223920 w 223560"/>
              <a:gd name="textAreaTop" fmla="*/ 0 h 311040"/>
              <a:gd name="textAreaBottom" fmla="*/ 311400 h 311040"/>
            </a:gdLst>
            <a:ahLst/>
            <a:rect l="textAreaLeft" t="textAreaTop" r="textAreaRight" b="textAreaBottom"/>
            <a:pathLst>
              <a:path w="223229" h="312348">
                <a:moveTo>
                  <a:pt x="160720" y="8897"/>
                </a:moveTo>
                <a:lnTo>
                  <a:pt x="155980" y="8897"/>
                </a:lnTo>
                <a:lnTo>
                  <a:pt x="154584" y="7904"/>
                </a:lnTo>
                <a:lnTo>
                  <a:pt x="153652" y="6251"/>
                </a:lnTo>
                <a:lnTo>
                  <a:pt x="152158" y="1209"/>
                </a:lnTo>
                <a:lnTo>
                  <a:pt x="151044" y="795"/>
                </a:lnTo>
                <a:lnTo>
                  <a:pt x="144734" y="212"/>
                </a:lnTo>
                <a:lnTo>
                  <a:pt x="139394" y="76"/>
                </a:lnTo>
                <a:lnTo>
                  <a:pt x="130809" y="0"/>
                </a:lnTo>
                <a:lnTo>
                  <a:pt x="127881" y="981"/>
                </a:lnTo>
                <a:lnTo>
                  <a:pt x="121982" y="4717"/>
                </a:lnTo>
                <a:lnTo>
                  <a:pt x="118028" y="7103"/>
                </a:lnTo>
                <a:lnTo>
                  <a:pt x="113407" y="9685"/>
                </a:lnTo>
                <a:lnTo>
                  <a:pt x="108342" y="12399"/>
                </a:lnTo>
                <a:lnTo>
                  <a:pt x="103973" y="15200"/>
                </a:lnTo>
                <a:lnTo>
                  <a:pt x="100069" y="18060"/>
                </a:lnTo>
                <a:lnTo>
                  <a:pt x="96473" y="20959"/>
                </a:lnTo>
                <a:lnTo>
                  <a:pt x="92092" y="24876"/>
                </a:lnTo>
                <a:lnTo>
                  <a:pt x="81932" y="34519"/>
                </a:lnTo>
                <a:lnTo>
                  <a:pt x="69797" y="46365"/>
                </a:lnTo>
                <a:lnTo>
                  <a:pt x="63094" y="55646"/>
                </a:lnTo>
                <a:lnTo>
                  <a:pt x="59917" y="60899"/>
                </a:lnTo>
                <a:lnTo>
                  <a:pt x="56807" y="66385"/>
                </a:lnTo>
                <a:lnTo>
                  <a:pt x="50706" y="77773"/>
                </a:lnTo>
                <a:lnTo>
                  <a:pt x="47333" y="86803"/>
                </a:lnTo>
                <a:lnTo>
                  <a:pt x="45834" y="94123"/>
                </a:lnTo>
                <a:lnTo>
                  <a:pt x="44990" y="103823"/>
                </a:lnTo>
                <a:lnTo>
                  <a:pt x="44740" y="112980"/>
                </a:lnTo>
                <a:lnTo>
                  <a:pt x="44681" y="118987"/>
                </a:lnTo>
                <a:lnTo>
                  <a:pt x="45658" y="120985"/>
                </a:lnTo>
                <a:lnTo>
                  <a:pt x="47301" y="122318"/>
                </a:lnTo>
                <a:lnTo>
                  <a:pt x="49389" y="123207"/>
                </a:lnTo>
                <a:lnTo>
                  <a:pt x="54355" y="124193"/>
                </a:lnTo>
                <a:lnTo>
                  <a:pt x="59868" y="124632"/>
                </a:lnTo>
                <a:lnTo>
                  <a:pt x="65627" y="124827"/>
                </a:lnTo>
                <a:lnTo>
                  <a:pt x="69544" y="123887"/>
                </a:lnTo>
                <a:lnTo>
                  <a:pt x="74139" y="122268"/>
                </a:lnTo>
                <a:lnTo>
                  <a:pt x="79187" y="120196"/>
                </a:lnTo>
                <a:lnTo>
                  <a:pt x="83544" y="117823"/>
                </a:lnTo>
                <a:lnTo>
                  <a:pt x="87442" y="115249"/>
                </a:lnTo>
                <a:lnTo>
                  <a:pt x="91032" y="112540"/>
                </a:lnTo>
                <a:lnTo>
                  <a:pt x="95410" y="109742"/>
                </a:lnTo>
                <a:lnTo>
                  <a:pt x="100313" y="106885"/>
                </a:lnTo>
                <a:lnTo>
                  <a:pt x="105566" y="103988"/>
                </a:lnTo>
                <a:lnTo>
                  <a:pt x="110060" y="100072"/>
                </a:lnTo>
                <a:lnTo>
                  <a:pt x="114049" y="95477"/>
                </a:lnTo>
                <a:lnTo>
                  <a:pt x="117700" y="90430"/>
                </a:lnTo>
                <a:lnTo>
                  <a:pt x="122118" y="86072"/>
                </a:lnTo>
                <a:lnTo>
                  <a:pt x="127048" y="82176"/>
                </a:lnTo>
                <a:lnTo>
                  <a:pt x="132319" y="78585"/>
                </a:lnTo>
                <a:lnTo>
                  <a:pt x="136825" y="75199"/>
                </a:lnTo>
                <a:lnTo>
                  <a:pt x="140822" y="71950"/>
                </a:lnTo>
                <a:lnTo>
                  <a:pt x="144478" y="68792"/>
                </a:lnTo>
                <a:lnTo>
                  <a:pt x="151186" y="62637"/>
                </a:lnTo>
                <a:lnTo>
                  <a:pt x="154364" y="59607"/>
                </a:lnTo>
                <a:lnTo>
                  <a:pt x="156483" y="56594"/>
                </a:lnTo>
                <a:lnTo>
                  <a:pt x="158837" y="50601"/>
                </a:lnTo>
                <a:lnTo>
                  <a:pt x="160457" y="48606"/>
                </a:lnTo>
                <a:lnTo>
                  <a:pt x="162529" y="47276"/>
                </a:lnTo>
                <a:lnTo>
                  <a:pt x="164903" y="46389"/>
                </a:lnTo>
                <a:lnTo>
                  <a:pt x="166485" y="44806"/>
                </a:lnTo>
                <a:lnTo>
                  <a:pt x="167540" y="42758"/>
                </a:lnTo>
                <a:lnTo>
                  <a:pt x="169613" y="35808"/>
                </a:lnTo>
                <a:lnTo>
                  <a:pt x="169647" y="48126"/>
                </a:lnTo>
                <a:lnTo>
                  <a:pt x="168656" y="50925"/>
                </a:lnTo>
                <a:lnTo>
                  <a:pt x="164909" y="56680"/>
                </a:lnTo>
                <a:lnTo>
                  <a:pt x="162581" y="65191"/>
                </a:lnTo>
                <a:lnTo>
                  <a:pt x="161961" y="70239"/>
                </a:lnTo>
                <a:lnTo>
                  <a:pt x="160555" y="75589"/>
                </a:lnTo>
                <a:lnTo>
                  <a:pt x="158626" y="81139"/>
                </a:lnTo>
                <a:lnTo>
                  <a:pt x="156348" y="86824"/>
                </a:lnTo>
                <a:lnTo>
                  <a:pt x="151170" y="101078"/>
                </a:lnTo>
                <a:lnTo>
                  <a:pt x="148401" y="109047"/>
                </a:lnTo>
                <a:lnTo>
                  <a:pt x="145562" y="116343"/>
                </a:lnTo>
                <a:lnTo>
                  <a:pt x="142677" y="123192"/>
                </a:lnTo>
                <a:lnTo>
                  <a:pt x="139762" y="129742"/>
                </a:lnTo>
                <a:lnTo>
                  <a:pt x="136826" y="137085"/>
                </a:lnTo>
                <a:lnTo>
                  <a:pt x="130918" y="153182"/>
                </a:lnTo>
                <a:lnTo>
                  <a:pt x="113092" y="205474"/>
                </a:lnTo>
                <a:lnTo>
                  <a:pt x="110117" y="213370"/>
                </a:lnTo>
                <a:lnTo>
                  <a:pt x="107141" y="220619"/>
                </a:lnTo>
                <a:lnTo>
                  <a:pt x="104165" y="227435"/>
                </a:lnTo>
                <a:lnTo>
                  <a:pt x="101188" y="234957"/>
                </a:lnTo>
                <a:lnTo>
                  <a:pt x="95236" y="251251"/>
                </a:lnTo>
                <a:lnTo>
                  <a:pt x="91267" y="258771"/>
                </a:lnTo>
                <a:lnTo>
                  <a:pt x="86637" y="265768"/>
                </a:lnTo>
                <a:lnTo>
                  <a:pt x="81566" y="272418"/>
                </a:lnTo>
                <a:lnTo>
                  <a:pt x="77193" y="277844"/>
                </a:lnTo>
                <a:lnTo>
                  <a:pt x="73286" y="282453"/>
                </a:lnTo>
                <a:lnTo>
                  <a:pt x="69688" y="286518"/>
                </a:lnTo>
                <a:lnTo>
                  <a:pt x="63045" y="293679"/>
                </a:lnTo>
                <a:lnTo>
                  <a:pt x="53728" y="303290"/>
                </a:lnTo>
                <a:lnTo>
                  <a:pt x="50697" y="306362"/>
                </a:lnTo>
                <a:lnTo>
                  <a:pt x="47684" y="308410"/>
                </a:lnTo>
                <a:lnTo>
                  <a:pt x="41690" y="310686"/>
                </a:lnTo>
                <a:lnTo>
                  <a:pt x="35719" y="311697"/>
                </a:lnTo>
                <a:lnTo>
                  <a:pt x="29758" y="312147"/>
                </a:lnTo>
                <a:lnTo>
                  <a:pt x="23802" y="312347"/>
                </a:lnTo>
                <a:lnTo>
                  <a:pt x="20824" y="311408"/>
                </a:lnTo>
                <a:lnTo>
                  <a:pt x="14870" y="307719"/>
                </a:lnTo>
                <a:lnTo>
                  <a:pt x="8916" y="302772"/>
                </a:lnTo>
                <a:lnTo>
                  <a:pt x="5939" y="300064"/>
                </a:lnTo>
                <a:lnTo>
                  <a:pt x="3955" y="297266"/>
                </a:lnTo>
                <a:lnTo>
                  <a:pt x="1750" y="291511"/>
                </a:lnTo>
                <a:lnTo>
                  <a:pt x="509" y="282694"/>
                </a:lnTo>
                <a:lnTo>
                  <a:pt x="141" y="273797"/>
                </a:lnTo>
                <a:lnTo>
                  <a:pt x="6" y="258926"/>
                </a:lnTo>
                <a:lnTo>
                  <a:pt x="0" y="255951"/>
                </a:lnTo>
                <a:lnTo>
                  <a:pt x="2638" y="247352"/>
                </a:lnTo>
                <a:lnTo>
                  <a:pt x="4731" y="242281"/>
                </a:lnTo>
                <a:lnTo>
                  <a:pt x="7118" y="238901"/>
                </a:lnTo>
                <a:lnTo>
                  <a:pt x="9702" y="236647"/>
                </a:lnTo>
                <a:lnTo>
                  <a:pt x="15218" y="233150"/>
                </a:lnTo>
                <a:lnTo>
                  <a:pt x="20977" y="228289"/>
                </a:lnTo>
                <a:lnTo>
                  <a:pt x="26844" y="222822"/>
                </a:lnTo>
                <a:lnTo>
                  <a:pt x="33751" y="217084"/>
                </a:lnTo>
                <a:lnTo>
                  <a:pt x="38371" y="214165"/>
                </a:lnTo>
                <a:lnTo>
                  <a:pt x="43435" y="211227"/>
                </a:lnTo>
                <a:lnTo>
                  <a:pt x="47804" y="209268"/>
                </a:lnTo>
                <a:lnTo>
                  <a:pt x="51708" y="207962"/>
                </a:lnTo>
                <a:lnTo>
                  <a:pt x="55304" y="207091"/>
                </a:lnTo>
                <a:lnTo>
                  <a:pt x="59685" y="206511"/>
                </a:lnTo>
                <a:lnTo>
                  <a:pt x="64590" y="206124"/>
                </a:lnTo>
                <a:lnTo>
                  <a:pt x="69844" y="205866"/>
                </a:lnTo>
                <a:lnTo>
                  <a:pt x="80974" y="205579"/>
                </a:lnTo>
                <a:lnTo>
                  <a:pt x="114373" y="205364"/>
                </a:lnTo>
                <a:lnTo>
                  <a:pt x="119900" y="204367"/>
                </a:lnTo>
                <a:lnTo>
                  <a:pt x="125570" y="202711"/>
                </a:lnTo>
                <a:lnTo>
                  <a:pt x="131333" y="200614"/>
                </a:lnTo>
                <a:lnTo>
                  <a:pt x="137160" y="199216"/>
                </a:lnTo>
                <a:lnTo>
                  <a:pt x="143029" y="198284"/>
                </a:lnTo>
                <a:lnTo>
                  <a:pt x="148926" y="197663"/>
                </a:lnTo>
                <a:lnTo>
                  <a:pt x="153850" y="197249"/>
                </a:lnTo>
                <a:lnTo>
                  <a:pt x="158124" y="196973"/>
                </a:lnTo>
                <a:lnTo>
                  <a:pt x="161966" y="196789"/>
                </a:lnTo>
                <a:lnTo>
                  <a:pt x="171527" y="196584"/>
                </a:lnTo>
                <a:lnTo>
                  <a:pt x="176854" y="196530"/>
                </a:lnTo>
                <a:lnTo>
                  <a:pt x="181398" y="195501"/>
                </a:lnTo>
                <a:lnTo>
                  <a:pt x="185420" y="193823"/>
                </a:lnTo>
                <a:lnTo>
                  <a:pt x="189093" y="191712"/>
                </a:lnTo>
                <a:lnTo>
                  <a:pt x="195820" y="189367"/>
                </a:lnTo>
                <a:lnTo>
                  <a:pt x="202117" y="188325"/>
                </a:lnTo>
                <a:lnTo>
                  <a:pt x="208223" y="187861"/>
                </a:lnTo>
                <a:lnTo>
                  <a:pt x="214244" y="187655"/>
                </a:lnTo>
                <a:lnTo>
                  <a:pt x="223228" y="18749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SMARTInkAnnotation73"/>
          <p:cNvSpPr/>
          <p:nvPr/>
        </p:nvSpPr>
        <p:spPr>
          <a:xfrm>
            <a:off x="1009800" y="4160880"/>
            <a:ext cx="150840" cy="447480"/>
          </a:xfrm>
          <a:custGeom>
            <a:avLst/>
            <a:gdLst>
              <a:gd name="textAreaLeft" fmla="*/ 0 w 150840"/>
              <a:gd name="textAreaRight" fmla="*/ 151200 w 150840"/>
              <a:gd name="textAreaTop" fmla="*/ 0 h 447480"/>
              <a:gd name="textAreaBottom" fmla="*/ 447840 h 447480"/>
            </a:gdLst>
            <a:ahLst/>
            <a:rect l="textAreaLeft" t="textAreaTop" r="textAreaRight" b="textAreaBottom"/>
            <a:pathLst>
              <a:path w="151806" h="446485">
                <a:moveTo>
                  <a:pt x="0" y="0"/>
                </a:moveTo>
                <a:lnTo>
                  <a:pt x="0" y="43449"/>
                </a:lnTo>
                <a:lnTo>
                  <a:pt x="2646" y="54369"/>
                </a:lnTo>
                <a:lnTo>
                  <a:pt x="4741" y="60058"/>
                </a:lnTo>
                <a:lnTo>
                  <a:pt x="6137" y="66828"/>
                </a:lnTo>
                <a:lnTo>
                  <a:pt x="7068" y="74318"/>
                </a:lnTo>
                <a:lnTo>
                  <a:pt x="7689" y="82287"/>
                </a:lnTo>
                <a:lnTo>
                  <a:pt x="8102" y="89585"/>
                </a:lnTo>
                <a:lnTo>
                  <a:pt x="8562" y="102985"/>
                </a:lnTo>
                <a:lnTo>
                  <a:pt x="8881" y="143502"/>
                </a:lnTo>
                <a:lnTo>
                  <a:pt x="8930" y="436119"/>
                </a:lnTo>
                <a:lnTo>
                  <a:pt x="8930" y="342258"/>
                </a:lnTo>
                <a:lnTo>
                  <a:pt x="11576" y="330378"/>
                </a:lnTo>
                <a:lnTo>
                  <a:pt x="15067" y="317491"/>
                </a:lnTo>
                <a:lnTo>
                  <a:pt x="15998" y="309887"/>
                </a:lnTo>
                <a:lnTo>
                  <a:pt x="17032" y="295485"/>
                </a:lnTo>
                <a:lnTo>
                  <a:pt x="17492" y="285777"/>
                </a:lnTo>
                <a:lnTo>
                  <a:pt x="20342" y="275510"/>
                </a:lnTo>
                <a:lnTo>
                  <a:pt x="23924" y="264331"/>
                </a:lnTo>
                <a:lnTo>
                  <a:pt x="25516" y="252749"/>
                </a:lnTo>
                <a:lnTo>
                  <a:pt x="28869" y="243633"/>
                </a:lnTo>
                <a:lnTo>
                  <a:pt x="31152" y="239812"/>
                </a:lnTo>
                <a:lnTo>
                  <a:pt x="33667" y="236273"/>
                </a:lnTo>
                <a:lnTo>
                  <a:pt x="36335" y="232922"/>
                </a:lnTo>
                <a:lnTo>
                  <a:pt x="39106" y="229695"/>
                </a:lnTo>
                <a:lnTo>
                  <a:pt x="40954" y="226552"/>
                </a:lnTo>
                <a:lnTo>
                  <a:pt x="44546" y="217388"/>
                </a:lnTo>
                <a:lnTo>
                  <a:pt x="48903" y="211380"/>
                </a:lnTo>
                <a:lnTo>
                  <a:pt x="52193" y="207160"/>
                </a:lnTo>
                <a:lnTo>
                  <a:pt x="53647" y="206567"/>
                </a:lnTo>
                <a:lnTo>
                  <a:pt x="57908" y="205909"/>
                </a:lnTo>
                <a:lnTo>
                  <a:pt x="60434" y="205734"/>
                </a:lnTo>
                <a:lnTo>
                  <a:pt x="63109" y="205617"/>
                </a:lnTo>
                <a:lnTo>
                  <a:pt x="69793" y="205429"/>
                </a:lnTo>
                <a:lnTo>
                  <a:pt x="75691" y="205396"/>
                </a:lnTo>
                <a:lnTo>
                  <a:pt x="78242" y="206384"/>
                </a:lnTo>
                <a:lnTo>
                  <a:pt x="80935" y="208035"/>
                </a:lnTo>
                <a:lnTo>
                  <a:pt x="83722" y="210127"/>
                </a:lnTo>
                <a:lnTo>
                  <a:pt x="87565" y="213507"/>
                </a:lnTo>
                <a:lnTo>
                  <a:pt x="92111" y="217744"/>
                </a:lnTo>
                <a:lnTo>
                  <a:pt x="97126" y="222553"/>
                </a:lnTo>
                <a:lnTo>
                  <a:pt x="100470" y="227744"/>
                </a:lnTo>
                <a:lnTo>
                  <a:pt x="104185" y="238803"/>
                </a:lnTo>
                <a:lnTo>
                  <a:pt x="108481" y="250333"/>
                </a:lnTo>
                <a:lnTo>
                  <a:pt x="111016" y="256185"/>
                </a:lnTo>
                <a:lnTo>
                  <a:pt x="116479" y="267980"/>
                </a:lnTo>
                <a:lnTo>
                  <a:pt x="121222" y="279836"/>
                </a:lnTo>
                <a:lnTo>
                  <a:pt x="123329" y="291721"/>
                </a:lnTo>
                <a:lnTo>
                  <a:pt x="126912" y="300971"/>
                </a:lnTo>
                <a:lnTo>
                  <a:pt x="129257" y="304827"/>
                </a:lnTo>
                <a:lnTo>
                  <a:pt x="131862" y="317049"/>
                </a:lnTo>
                <a:lnTo>
                  <a:pt x="133019" y="330418"/>
                </a:lnTo>
                <a:lnTo>
                  <a:pt x="133534" y="339668"/>
                </a:lnTo>
                <a:lnTo>
                  <a:pt x="136409" y="349732"/>
                </a:lnTo>
                <a:lnTo>
                  <a:pt x="140001" y="360819"/>
                </a:lnTo>
                <a:lnTo>
                  <a:pt x="141598" y="372361"/>
                </a:lnTo>
                <a:lnTo>
                  <a:pt x="142308" y="384106"/>
                </a:lnTo>
                <a:lnTo>
                  <a:pt x="142707" y="399228"/>
                </a:lnTo>
                <a:lnTo>
                  <a:pt x="142872" y="431556"/>
                </a:lnTo>
                <a:lnTo>
                  <a:pt x="142874" y="440518"/>
                </a:lnTo>
                <a:lnTo>
                  <a:pt x="143867" y="442507"/>
                </a:lnTo>
                <a:lnTo>
                  <a:pt x="145521" y="443833"/>
                </a:lnTo>
                <a:lnTo>
                  <a:pt x="151805" y="44648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SMARTInkAnnotation74"/>
          <p:cNvSpPr/>
          <p:nvPr/>
        </p:nvSpPr>
        <p:spPr>
          <a:xfrm>
            <a:off x="1206360" y="4599000"/>
            <a:ext cx="52560" cy="88920"/>
          </a:xfrm>
          <a:custGeom>
            <a:avLst/>
            <a:gdLst>
              <a:gd name="textAreaLeft" fmla="*/ 0 w 52560"/>
              <a:gd name="textAreaRight" fmla="*/ 52920 w 52560"/>
              <a:gd name="textAreaTop" fmla="*/ 0 h 88920"/>
              <a:gd name="textAreaBottom" fmla="*/ 89280 h 88920"/>
            </a:gdLst>
            <a:ahLst/>
            <a:rect l="textAreaLeft" t="textAreaTop" r="textAreaRight" b="textAreaBottom"/>
            <a:pathLst>
              <a:path w="52337" h="89297">
                <a:moveTo>
                  <a:pt x="7688" y="0"/>
                </a:moveTo>
                <a:lnTo>
                  <a:pt x="7688" y="17169"/>
                </a:lnTo>
                <a:lnTo>
                  <a:pt x="6696" y="21368"/>
                </a:lnTo>
                <a:lnTo>
                  <a:pt x="5042" y="25159"/>
                </a:lnTo>
                <a:lnTo>
                  <a:pt x="2947" y="28679"/>
                </a:lnTo>
                <a:lnTo>
                  <a:pt x="1551" y="32018"/>
                </a:lnTo>
                <a:lnTo>
                  <a:pt x="620" y="35235"/>
                </a:lnTo>
                <a:lnTo>
                  <a:pt x="0" y="38373"/>
                </a:lnTo>
                <a:lnTo>
                  <a:pt x="578" y="41457"/>
                </a:lnTo>
                <a:lnTo>
                  <a:pt x="1956" y="44505"/>
                </a:lnTo>
                <a:lnTo>
                  <a:pt x="3867" y="47530"/>
                </a:lnTo>
                <a:lnTo>
                  <a:pt x="5140" y="50538"/>
                </a:lnTo>
                <a:lnTo>
                  <a:pt x="5990" y="53536"/>
                </a:lnTo>
                <a:lnTo>
                  <a:pt x="6556" y="56526"/>
                </a:lnTo>
                <a:lnTo>
                  <a:pt x="7925" y="59512"/>
                </a:lnTo>
                <a:lnTo>
                  <a:pt x="9831" y="62495"/>
                </a:lnTo>
                <a:lnTo>
                  <a:pt x="12093" y="65476"/>
                </a:lnTo>
                <a:lnTo>
                  <a:pt x="13601" y="68455"/>
                </a:lnTo>
                <a:lnTo>
                  <a:pt x="14607" y="71433"/>
                </a:lnTo>
                <a:lnTo>
                  <a:pt x="15277" y="74411"/>
                </a:lnTo>
                <a:lnTo>
                  <a:pt x="16716" y="76396"/>
                </a:lnTo>
                <a:lnTo>
                  <a:pt x="18668" y="77719"/>
                </a:lnTo>
                <a:lnTo>
                  <a:pt x="20961" y="78602"/>
                </a:lnTo>
                <a:lnTo>
                  <a:pt x="23482" y="80183"/>
                </a:lnTo>
                <a:lnTo>
                  <a:pt x="26155" y="82228"/>
                </a:lnTo>
                <a:lnTo>
                  <a:pt x="28929" y="84584"/>
                </a:lnTo>
                <a:lnTo>
                  <a:pt x="31771" y="86155"/>
                </a:lnTo>
                <a:lnTo>
                  <a:pt x="34657" y="87202"/>
                </a:lnTo>
                <a:lnTo>
                  <a:pt x="37574" y="87900"/>
                </a:lnTo>
                <a:lnTo>
                  <a:pt x="40510" y="88366"/>
                </a:lnTo>
                <a:lnTo>
                  <a:pt x="43460" y="88676"/>
                </a:lnTo>
                <a:lnTo>
                  <a:pt x="52336" y="89296"/>
                </a:lnTo>
              </a:path>
            </a:pathLst>
          </a:custGeom>
          <a:noFill/>
          <a:ln w="38160">
            <a:solidFill>
              <a:srgbClr val="009300"/>
            </a:solidFill>
            <a:roun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294" name="SMARTInkAnnotation75"/>
          <p:cNvSpPr/>
          <p:nvPr/>
        </p:nvSpPr>
        <p:spPr>
          <a:xfrm>
            <a:off x="1241280" y="4456080"/>
            <a:ext cx="9720" cy="9720"/>
          </a:xfrm>
          <a:custGeom>
            <a:avLst/>
            <a:gdLst>
              <a:gd name="textAreaLeft" fmla="*/ 0 w 9720"/>
              <a:gd name="textAreaRight" fmla="*/ 10080 w 9720"/>
              <a:gd name="textAreaTop" fmla="*/ 0 h 9720"/>
              <a:gd name="textAreaBottom" fmla="*/ 10080 h 9720"/>
            </a:gdLst>
            <a:ahLst/>
            <a:rect l="textAreaLeft" t="textAreaTop" r="textAreaRight" b="textAreaBottom"/>
            <a:pathLst>
              <a:path w="8931" h="8930">
                <a:moveTo>
                  <a:pt x="0" y="8929"/>
                </a:moveTo>
                <a:lnTo>
                  <a:pt x="0" y="1241"/>
                </a:lnTo>
                <a:lnTo>
                  <a:pt x="992" y="827"/>
                </a:lnTo>
                <a:lnTo>
                  <a:pt x="2646" y="551"/>
                </a:lnTo>
                <a:lnTo>
                  <a:pt x="8930" y="0"/>
                </a:lnTo>
              </a:path>
            </a:pathLst>
          </a:custGeom>
          <a:noFill/>
          <a:ln w="38160">
            <a:solidFill>
              <a:srgbClr val="009300"/>
            </a:solidFill>
            <a:round/>
          </a:ln>
        </p:spPr>
        <p:style>
          <a:lnRef idx="0"/>
          <a:fillRef idx="0"/>
          <a:effectRef idx="0"/>
          <a:fontRef idx="minor"/>
        </p:style>
        <p:txBody>
          <a:bodyPr lIns="90000" rIns="90000" tIns="-36720" bIns="-36720" anchor="ctr">
            <a:noAutofit/>
          </a:bodyPr>
          <a:p>
            <a:endParaRPr b="0" lang="en-US" sz="1800" spc="-1" strike="noStrike">
              <a:solidFill>
                <a:srgbClr val="ffffff"/>
              </a:solidFill>
              <a:latin typeface="Arial"/>
            </a:endParaRPr>
          </a:p>
        </p:txBody>
      </p:sp>
      <p:sp>
        <p:nvSpPr>
          <p:cNvPr id="295" name="SMARTInkAnnotation76"/>
          <p:cNvSpPr/>
          <p:nvPr/>
        </p:nvSpPr>
        <p:spPr>
          <a:xfrm>
            <a:off x="1339920" y="4465800"/>
            <a:ext cx="150840" cy="7920"/>
          </a:xfrm>
          <a:custGeom>
            <a:avLst/>
            <a:gdLst>
              <a:gd name="textAreaLeft" fmla="*/ 0 w 150840"/>
              <a:gd name="textAreaRight" fmla="*/ 151200 w 150840"/>
              <a:gd name="textAreaTop" fmla="*/ 0 h 7920"/>
              <a:gd name="textAreaBottom" fmla="*/ 8280 h 7920"/>
            </a:gdLst>
            <a:ahLst/>
            <a:rect l="textAreaLeft" t="textAreaTop" r="textAreaRight" b="textAreaBottom"/>
            <a:pathLst>
              <a:path w="151805" h="8930">
                <a:moveTo>
                  <a:pt x="0" y="8929"/>
                </a:moveTo>
                <a:lnTo>
                  <a:pt x="4740" y="8929"/>
                </a:lnTo>
                <a:lnTo>
                  <a:pt x="7129" y="7937"/>
                </a:lnTo>
                <a:lnTo>
                  <a:pt x="9713" y="6283"/>
                </a:lnTo>
                <a:lnTo>
                  <a:pt x="12429" y="4189"/>
                </a:lnTo>
                <a:lnTo>
                  <a:pt x="15231" y="2792"/>
                </a:lnTo>
                <a:lnTo>
                  <a:pt x="18091" y="1861"/>
                </a:lnTo>
                <a:lnTo>
                  <a:pt x="20991" y="1241"/>
                </a:lnTo>
                <a:lnTo>
                  <a:pt x="23915" y="827"/>
                </a:lnTo>
                <a:lnTo>
                  <a:pt x="26858" y="551"/>
                </a:lnTo>
                <a:lnTo>
                  <a:pt x="29811" y="367"/>
                </a:lnTo>
                <a:lnTo>
                  <a:pt x="38385" y="162"/>
                </a:lnTo>
                <a:lnTo>
                  <a:pt x="104302" y="0"/>
                </a:lnTo>
                <a:lnTo>
                  <a:pt x="109222" y="992"/>
                </a:lnTo>
                <a:lnTo>
                  <a:pt x="113494" y="2646"/>
                </a:lnTo>
                <a:lnTo>
                  <a:pt x="117335" y="4740"/>
                </a:lnTo>
                <a:lnTo>
                  <a:pt x="121879" y="6136"/>
                </a:lnTo>
                <a:lnTo>
                  <a:pt x="126893" y="7067"/>
                </a:lnTo>
                <a:lnTo>
                  <a:pt x="132220" y="7688"/>
                </a:lnTo>
                <a:lnTo>
                  <a:pt x="136764" y="8102"/>
                </a:lnTo>
                <a:lnTo>
                  <a:pt x="140785" y="8377"/>
                </a:lnTo>
                <a:lnTo>
                  <a:pt x="151804" y="8929"/>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296" name="SMARTInkAnnotation77"/>
          <p:cNvSpPr/>
          <p:nvPr/>
        </p:nvSpPr>
        <p:spPr>
          <a:xfrm>
            <a:off x="1330200" y="4554360"/>
            <a:ext cx="160560" cy="360"/>
          </a:xfrm>
          <a:custGeom>
            <a:avLst/>
            <a:gdLst>
              <a:gd name="textAreaLeft" fmla="*/ 0 w 160560"/>
              <a:gd name="textAreaRight" fmla="*/ 160920 w 160560"/>
              <a:gd name="textAreaTop" fmla="*/ 0 h 360"/>
              <a:gd name="textAreaBottom" fmla="*/ 720 h 360"/>
            </a:gdLst>
            <a:ahLst/>
            <a:rect l="textAreaLeft" t="textAreaTop" r="textAreaRight" b="textAreaBottom"/>
            <a:pathLst>
              <a:path w="160735" h="1">
                <a:moveTo>
                  <a:pt x="0" y="0"/>
                </a:moveTo>
                <a:lnTo>
                  <a:pt x="160734" y="0"/>
                </a:lnTo>
              </a:path>
            </a:pathLst>
          </a:custGeom>
          <a:no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297" name="SMARTInkAnnotation78"/>
          <p:cNvSpPr/>
          <p:nvPr/>
        </p:nvSpPr>
        <p:spPr>
          <a:xfrm>
            <a:off x="1608120" y="4348080"/>
            <a:ext cx="139680" cy="339840"/>
          </a:xfrm>
          <a:custGeom>
            <a:avLst/>
            <a:gdLst>
              <a:gd name="textAreaLeft" fmla="*/ 0 w 139680"/>
              <a:gd name="textAreaRight" fmla="*/ 140040 w 139680"/>
              <a:gd name="textAreaTop" fmla="*/ 0 h 339840"/>
              <a:gd name="textAreaBottom" fmla="*/ 339840 h 339840"/>
            </a:gdLst>
            <a:ahLst/>
            <a:rect l="textAreaLeft" t="textAreaTop" r="textAreaRight" b="textAreaBottom"/>
            <a:pathLst>
              <a:path w="141055" h="339206">
                <a:moveTo>
                  <a:pt x="133813" y="0"/>
                </a:moveTo>
                <a:lnTo>
                  <a:pt x="124992" y="0"/>
                </a:lnTo>
                <a:lnTo>
                  <a:pt x="130049" y="0"/>
                </a:lnTo>
                <a:lnTo>
                  <a:pt x="103915" y="0"/>
                </a:lnTo>
                <a:lnTo>
                  <a:pt x="100982" y="992"/>
                </a:lnTo>
                <a:lnTo>
                  <a:pt x="98035" y="2645"/>
                </a:lnTo>
                <a:lnTo>
                  <a:pt x="95078" y="4740"/>
                </a:lnTo>
                <a:lnTo>
                  <a:pt x="92115" y="6136"/>
                </a:lnTo>
                <a:lnTo>
                  <a:pt x="89147" y="7067"/>
                </a:lnTo>
                <a:lnTo>
                  <a:pt x="86176" y="7688"/>
                </a:lnTo>
                <a:lnTo>
                  <a:pt x="83203" y="8102"/>
                </a:lnTo>
                <a:lnTo>
                  <a:pt x="80229" y="8377"/>
                </a:lnTo>
                <a:lnTo>
                  <a:pt x="77254" y="8562"/>
                </a:lnTo>
                <a:lnTo>
                  <a:pt x="74279" y="9676"/>
                </a:lnTo>
                <a:lnTo>
                  <a:pt x="71303" y="11412"/>
                </a:lnTo>
                <a:lnTo>
                  <a:pt x="68327" y="13561"/>
                </a:lnTo>
                <a:lnTo>
                  <a:pt x="64359" y="15986"/>
                </a:lnTo>
                <a:lnTo>
                  <a:pt x="59729" y="18595"/>
                </a:lnTo>
                <a:lnTo>
                  <a:pt x="54658" y="21326"/>
                </a:lnTo>
                <a:lnTo>
                  <a:pt x="50285" y="24139"/>
                </a:lnTo>
                <a:lnTo>
                  <a:pt x="46377" y="27007"/>
                </a:lnTo>
                <a:lnTo>
                  <a:pt x="42780" y="29911"/>
                </a:lnTo>
                <a:lnTo>
                  <a:pt x="39390" y="32839"/>
                </a:lnTo>
                <a:lnTo>
                  <a:pt x="36138" y="35782"/>
                </a:lnTo>
                <a:lnTo>
                  <a:pt x="32977" y="38738"/>
                </a:lnTo>
                <a:lnTo>
                  <a:pt x="28886" y="41700"/>
                </a:lnTo>
                <a:lnTo>
                  <a:pt x="24174" y="44667"/>
                </a:lnTo>
                <a:lnTo>
                  <a:pt x="19048" y="47637"/>
                </a:lnTo>
                <a:lnTo>
                  <a:pt x="15631" y="50609"/>
                </a:lnTo>
                <a:lnTo>
                  <a:pt x="13353" y="53583"/>
                </a:lnTo>
                <a:lnTo>
                  <a:pt x="9830" y="59533"/>
                </a:lnTo>
                <a:lnTo>
                  <a:pt x="7501" y="62509"/>
                </a:lnTo>
                <a:lnTo>
                  <a:pt x="4956" y="65485"/>
                </a:lnTo>
                <a:lnTo>
                  <a:pt x="3260" y="68461"/>
                </a:lnTo>
                <a:lnTo>
                  <a:pt x="1375" y="74414"/>
                </a:lnTo>
                <a:lnTo>
                  <a:pt x="537" y="83013"/>
                </a:lnTo>
                <a:lnTo>
                  <a:pt x="165" y="93449"/>
                </a:lnTo>
                <a:lnTo>
                  <a:pt x="0" y="104702"/>
                </a:lnTo>
                <a:lnTo>
                  <a:pt x="948" y="109489"/>
                </a:lnTo>
                <a:lnTo>
                  <a:pt x="4647" y="117453"/>
                </a:lnTo>
                <a:lnTo>
                  <a:pt x="7022" y="120966"/>
                </a:lnTo>
                <a:lnTo>
                  <a:pt x="9598" y="124300"/>
                </a:lnTo>
                <a:lnTo>
                  <a:pt x="12308" y="127515"/>
                </a:lnTo>
                <a:lnTo>
                  <a:pt x="15106" y="130651"/>
                </a:lnTo>
                <a:lnTo>
                  <a:pt x="20862" y="136780"/>
                </a:lnTo>
                <a:lnTo>
                  <a:pt x="24778" y="139804"/>
                </a:lnTo>
                <a:lnTo>
                  <a:pt x="29372" y="142812"/>
                </a:lnTo>
                <a:lnTo>
                  <a:pt x="34420" y="145810"/>
                </a:lnTo>
                <a:lnTo>
                  <a:pt x="39770" y="149792"/>
                </a:lnTo>
                <a:lnTo>
                  <a:pt x="45320" y="154432"/>
                </a:lnTo>
                <a:lnTo>
                  <a:pt x="55788" y="163886"/>
                </a:lnTo>
                <a:lnTo>
                  <a:pt x="63747" y="171395"/>
                </a:lnTo>
                <a:lnTo>
                  <a:pt x="68250" y="174787"/>
                </a:lnTo>
                <a:lnTo>
                  <a:pt x="73237" y="178040"/>
                </a:lnTo>
                <a:lnTo>
                  <a:pt x="78546" y="181201"/>
                </a:lnTo>
                <a:lnTo>
                  <a:pt x="83078" y="185293"/>
                </a:lnTo>
                <a:lnTo>
                  <a:pt x="87091" y="190005"/>
                </a:lnTo>
                <a:lnTo>
                  <a:pt x="90759" y="195131"/>
                </a:lnTo>
                <a:lnTo>
                  <a:pt x="94196" y="199540"/>
                </a:lnTo>
                <a:lnTo>
                  <a:pt x="97480" y="203472"/>
                </a:lnTo>
                <a:lnTo>
                  <a:pt x="100661" y="207085"/>
                </a:lnTo>
                <a:lnTo>
                  <a:pt x="104766" y="210486"/>
                </a:lnTo>
                <a:lnTo>
                  <a:pt x="109487" y="213746"/>
                </a:lnTo>
                <a:lnTo>
                  <a:pt x="114619" y="216911"/>
                </a:lnTo>
                <a:lnTo>
                  <a:pt x="118040" y="220013"/>
                </a:lnTo>
                <a:lnTo>
                  <a:pt x="120321" y="223074"/>
                </a:lnTo>
                <a:lnTo>
                  <a:pt x="128722" y="239855"/>
                </a:lnTo>
                <a:lnTo>
                  <a:pt x="131411" y="244239"/>
                </a:lnTo>
                <a:lnTo>
                  <a:pt x="134196" y="248154"/>
                </a:lnTo>
                <a:lnTo>
                  <a:pt x="137045" y="251756"/>
                </a:lnTo>
                <a:lnTo>
                  <a:pt x="140210" y="258404"/>
                </a:lnTo>
                <a:lnTo>
                  <a:pt x="141054" y="261566"/>
                </a:lnTo>
                <a:lnTo>
                  <a:pt x="140625" y="265659"/>
                </a:lnTo>
                <a:lnTo>
                  <a:pt x="136272" y="279907"/>
                </a:lnTo>
                <a:lnTo>
                  <a:pt x="134906" y="287452"/>
                </a:lnTo>
                <a:lnTo>
                  <a:pt x="133549" y="290854"/>
                </a:lnTo>
                <a:lnTo>
                  <a:pt x="129396" y="297278"/>
                </a:lnTo>
                <a:lnTo>
                  <a:pt x="126899" y="300381"/>
                </a:lnTo>
                <a:lnTo>
                  <a:pt x="124243" y="303441"/>
                </a:lnTo>
                <a:lnTo>
                  <a:pt x="121480" y="306474"/>
                </a:lnTo>
                <a:lnTo>
                  <a:pt x="115764" y="312488"/>
                </a:lnTo>
                <a:lnTo>
                  <a:pt x="112850" y="315482"/>
                </a:lnTo>
                <a:lnTo>
                  <a:pt x="108924" y="318470"/>
                </a:lnTo>
                <a:lnTo>
                  <a:pt x="104322" y="321453"/>
                </a:lnTo>
                <a:lnTo>
                  <a:pt x="99269" y="324435"/>
                </a:lnTo>
                <a:lnTo>
                  <a:pt x="94909" y="326423"/>
                </a:lnTo>
                <a:lnTo>
                  <a:pt x="91009" y="327748"/>
                </a:lnTo>
                <a:lnTo>
                  <a:pt x="87418" y="328631"/>
                </a:lnTo>
                <a:lnTo>
                  <a:pt x="84031" y="330212"/>
                </a:lnTo>
                <a:lnTo>
                  <a:pt x="80781" y="332258"/>
                </a:lnTo>
                <a:lnTo>
                  <a:pt x="77623" y="334615"/>
                </a:lnTo>
                <a:lnTo>
                  <a:pt x="74524" y="336186"/>
                </a:lnTo>
                <a:lnTo>
                  <a:pt x="71467" y="337233"/>
                </a:lnTo>
                <a:lnTo>
                  <a:pt x="68436" y="337931"/>
                </a:lnTo>
                <a:lnTo>
                  <a:pt x="65424" y="338397"/>
                </a:lnTo>
                <a:lnTo>
                  <a:pt x="62423" y="338707"/>
                </a:lnTo>
                <a:lnTo>
                  <a:pt x="59430" y="338914"/>
                </a:lnTo>
                <a:lnTo>
                  <a:pt x="56443" y="339052"/>
                </a:lnTo>
                <a:lnTo>
                  <a:pt x="50478" y="339205"/>
                </a:lnTo>
                <a:lnTo>
                  <a:pt x="47498" y="338253"/>
                </a:lnTo>
                <a:lnTo>
                  <a:pt x="44520" y="336627"/>
                </a:lnTo>
                <a:lnTo>
                  <a:pt x="37351" y="331629"/>
                </a:lnTo>
                <a:lnTo>
                  <a:pt x="33725" y="328299"/>
                </a:lnTo>
                <a:lnTo>
                  <a:pt x="28053" y="322818"/>
                </a:lnTo>
                <a:lnTo>
                  <a:pt x="26595" y="322368"/>
                </a:lnTo>
                <a:lnTo>
                  <a:pt x="22329" y="321868"/>
                </a:lnTo>
                <a:lnTo>
                  <a:pt x="17727" y="32146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SMARTInkAnnotation79"/>
          <p:cNvSpPr/>
          <p:nvPr/>
        </p:nvSpPr>
        <p:spPr>
          <a:xfrm>
            <a:off x="1830240" y="4384800"/>
            <a:ext cx="133560" cy="330120"/>
          </a:xfrm>
          <a:custGeom>
            <a:avLst/>
            <a:gdLst>
              <a:gd name="textAreaLeft" fmla="*/ 0 w 133560"/>
              <a:gd name="textAreaRight" fmla="*/ 133920 w 133560"/>
              <a:gd name="textAreaTop" fmla="*/ 0 h 330120"/>
              <a:gd name="textAreaBottom" fmla="*/ 330480 h 330120"/>
            </a:gdLst>
            <a:ahLst/>
            <a:rect l="textAreaLeft" t="textAreaTop" r="textAreaRight" b="textAreaBottom"/>
            <a:pathLst>
              <a:path w="133788" h="330400">
                <a:moveTo>
                  <a:pt x="0" y="0"/>
                </a:moveTo>
                <a:lnTo>
                  <a:pt x="29812" y="0"/>
                </a:lnTo>
                <a:lnTo>
                  <a:pt x="33765" y="992"/>
                </a:lnTo>
                <a:lnTo>
                  <a:pt x="38385" y="2646"/>
                </a:lnTo>
                <a:lnTo>
                  <a:pt x="43450" y="4740"/>
                </a:lnTo>
                <a:lnTo>
                  <a:pt x="48810" y="7129"/>
                </a:lnTo>
                <a:lnTo>
                  <a:pt x="60058" y="12429"/>
                </a:lnTo>
                <a:lnTo>
                  <a:pt x="95297" y="29812"/>
                </a:lnTo>
                <a:lnTo>
                  <a:pt x="100242" y="32773"/>
                </a:lnTo>
                <a:lnTo>
                  <a:pt x="104531" y="35740"/>
                </a:lnTo>
                <a:lnTo>
                  <a:pt x="108383" y="38709"/>
                </a:lnTo>
                <a:lnTo>
                  <a:pt x="111943" y="41681"/>
                </a:lnTo>
                <a:lnTo>
                  <a:pt x="115308" y="44654"/>
                </a:lnTo>
                <a:lnTo>
                  <a:pt x="121694" y="50604"/>
                </a:lnTo>
                <a:lnTo>
                  <a:pt x="127839" y="56556"/>
                </a:lnTo>
                <a:lnTo>
                  <a:pt x="129874" y="59532"/>
                </a:lnTo>
                <a:lnTo>
                  <a:pt x="132137" y="65485"/>
                </a:lnTo>
                <a:lnTo>
                  <a:pt x="133410" y="74414"/>
                </a:lnTo>
                <a:lnTo>
                  <a:pt x="133708" y="83013"/>
                </a:lnTo>
                <a:lnTo>
                  <a:pt x="133787" y="88084"/>
                </a:lnTo>
                <a:lnTo>
                  <a:pt x="132848" y="92458"/>
                </a:lnTo>
                <a:lnTo>
                  <a:pt x="129158" y="99962"/>
                </a:lnTo>
                <a:lnTo>
                  <a:pt x="126785" y="103352"/>
                </a:lnTo>
                <a:lnTo>
                  <a:pt x="124211" y="106605"/>
                </a:lnTo>
                <a:lnTo>
                  <a:pt x="121503" y="109765"/>
                </a:lnTo>
                <a:lnTo>
                  <a:pt x="118705" y="113857"/>
                </a:lnTo>
                <a:lnTo>
                  <a:pt x="115848" y="118568"/>
                </a:lnTo>
                <a:lnTo>
                  <a:pt x="112951" y="123694"/>
                </a:lnTo>
                <a:lnTo>
                  <a:pt x="109035" y="128103"/>
                </a:lnTo>
                <a:lnTo>
                  <a:pt x="104440" y="132035"/>
                </a:lnTo>
                <a:lnTo>
                  <a:pt x="99392" y="135648"/>
                </a:lnTo>
                <a:lnTo>
                  <a:pt x="95036" y="140042"/>
                </a:lnTo>
                <a:lnTo>
                  <a:pt x="91138" y="144955"/>
                </a:lnTo>
                <a:lnTo>
                  <a:pt x="87548" y="150215"/>
                </a:lnTo>
                <a:lnTo>
                  <a:pt x="84162" y="154714"/>
                </a:lnTo>
                <a:lnTo>
                  <a:pt x="80913" y="158705"/>
                </a:lnTo>
                <a:lnTo>
                  <a:pt x="77755" y="162358"/>
                </a:lnTo>
                <a:lnTo>
                  <a:pt x="74657" y="166777"/>
                </a:lnTo>
                <a:lnTo>
                  <a:pt x="71600" y="171709"/>
                </a:lnTo>
                <a:lnTo>
                  <a:pt x="68569" y="176980"/>
                </a:lnTo>
                <a:lnTo>
                  <a:pt x="65557" y="181487"/>
                </a:lnTo>
                <a:lnTo>
                  <a:pt x="62556" y="185484"/>
                </a:lnTo>
                <a:lnTo>
                  <a:pt x="59564" y="189140"/>
                </a:lnTo>
                <a:lnTo>
                  <a:pt x="56239" y="195849"/>
                </a:lnTo>
                <a:lnTo>
                  <a:pt x="55352" y="199027"/>
                </a:lnTo>
                <a:lnTo>
                  <a:pt x="55753" y="203130"/>
                </a:lnTo>
                <a:lnTo>
                  <a:pt x="60066" y="217393"/>
                </a:lnTo>
                <a:lnTo>
                  <a:pt x="61423" y="224942"/>
                </a:lnTo>
                <a:lnTo>
                  <a:pt x="62187" y="234770"/>
                </a:lnTo>
                <a:lnTo>
                  <a:pt x="65011" y="243579"/>
                </a:lnTo>
                <a:lnTo>
                  <a:pt x="68582" y="253117"/>
                </a:lnTo>
                <a:lnTo>
                  <a:pt x="70169" y="260663"/>
                </a:lnTo>
                <a:lnTo>
                  <a:pt x="71062" y="270490"/>
                </a:lnTo>
                <a:lnTo>
                  <a:pt x="72179" y="272600"/>
                </a:lnTo>
                <a:lnTo>
                  <a:pt x="73917" y="274007"/>
                </a:lnTo>
                <a:lnTo>
                  <a:pt x="76067" y="274944"/>
                </a:lnTo>
                <a:lnTo>
                  <a:pt x="77501" y="276562"/>
                </a:lnTo>
                <a:lnTo>
                  <a:pt x="78456" y="278632"/>
                </a:lnTo>
                <a:lnTo>
                  <a:pt x="79518" y="283578"/>
                </a:lnTo>
                <a:lnTo>
                  <a:pt x="79990" y="289084"/>
                </a:lnTo>
                <a:lnTo>
                  <a:pt x="79124" y="291942"/>
                </a:lnTo>
                <a:lnTo>
                  <a:pt x="75515" y="297763"/>
                </a:lnTo>
                <a:lnTo>
                  <a:pt x="72646" y="301877"/>
                </a:lnTo>
                <a:lnTo>
                  <a:pt x="69329" y="305485"/>
                </a:lnTo>
                <a:lnTo>
                  <a:pt x="59115" y="315886"/>
                </a:lnTo>
                <a:lnTo>
                  <a:pt x="56277" y="317747"/>
                </a:lnTo>
                <a:lnTo>
                  <a:pt x="53393" y="318988"/>
                </a:lnTo>
                <a:lnTo>
                  <a:pt x="50479" y="319815"/>
                </a:lnTo>
                <a:lnTo>
                  <a:pt x="47543" y="321358"/>
                </a:lnTo>
                <a:lnTo>
                  <a:pt x="44594" y="323380"/>
                </a:lnTo>
                <a:lnTo>
                  <a:pt x="41636" y="325719"/>
                </a:lnTo>
                <a:lnTo>
                  <a:pt x="38671" y="327279"/>
                </a:lnTo>
                <a:lnTo>
                  <a:pt x="35703" y="328319"/>
                </a:lnTo>
                <a:lnTo>
                  <a:pt x="32732" y="329012"/>
                </a:lnTo>
                <a:lnTo>
                  <a:pt x="29759" y="329474"/>
                </a:lnTo>
                <a:lnTo>
                  <a:pt x="26785" y="329782"/>
                </a:lnTo>
                <a:lnTo>
                  <a:pt x="23810" y="329987"/>
                </a:lnTo>
                <a:lnTo>
                  <a:pt x="20834" y="330124"/>
                </a:lnTo>
                <a:lnTo>
                  <a:pt x="8930" y="33039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Freeform 83"/>
          <p:cNvSpPr/>
          <p:nvPr/>
        </p:nvSpPr>
        <p:spPr>
          <a:xfrm>
            <a:off x="1990800" y="4714920"/>
            <a:ext cx="3240" cy="360"/>
          </a:xfrm>
          <a:custGeom>
            <a:avLst/>
            <a:gdLst>
              <a:gd name="textAreaLeft" fmla="*/ 0 w 3240"/>
              <a:gd name="textAreaRight" fmla="*/ 3600 w 3240"/>
              <a:gd name="textAreaTop" fmla="*/ 0 h 360"/>
              <a:gd name="textAreaBottom" fmla="*/ 720 h 360"/>
            </a:gdLst>
            <a:ahLst/>
            <a:rect l="textAreaLeft" t="textAreaTop" r="textAreaRight" b="textAreaBottom"/>
            <a:pathLst>
              <a:path w="2647" h="1">
                <a:moveTo>
                  <a:pt x="0" y="0"/>
                </a:moveTo>
                <a:lnTo>
                  <a:pt x="2646" y="0"/>
                </a:lnTo>
                <a:close/>
              </a:path>
            </a:pathLst>
          </a:custGeom>
          <a:solidFill>
            <a:srgbClr val="6ea0b0"/>
          </a:solid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300" name="SMARTInkAnnotation81"/>
          <p:cNvSpPr/>
          <p:nvPr/>
        </p:nvSpPr>
        <p:spPr>
          <a:xfrm>
            <a:off x="2036880" y="4483080"/>
            <a:ext cx="266760" cy="266760"/>
          </a:xfrm>
          <a:custGeom>
            <a:avLst/>
            <a:gdLst>
              <a:gd name="textAreaLeft" fmla="*/ 0 w 266760"/>
              <a:gd name="textAreaRight" fmla="*/ 267120 w 266760"/>
              <a:gd name="textAreaTop" fmla="*/ 0 h 266760"/>
              <a:gd name="textAreaBottom" fmla="*/ 267120 h 266760"/>
            </a:gdLst>
            <a:ahLst/>
            <a:rect l="textAreaLeft" t="textAreaTop" r="textAreaRight" b="textAreaBottom"/>
            <a:pathLst>
              <a:path w="265935" h="267323">
                <a:moveTo>
                  <a:pt x="212880" y="8897"/>
                </a:moveTo>
                <a:lnTo>
                  <a:pt x="208140" y="8897"/>
                </a:lnTo>
                <a:lnTo>
                  <a:pt x="205751" y="7905"/>
                </a:lnTo>
                <a:lnTo>
                  <a:pt x="200451" y="4157"/>
                </a:lnTo>
                <a:lnTo>
                  <a:pt x="196657" y="2760"/>
                </a:lnTo>
                <a:lnTo>
                  <a:pt x="192142" y="1829"/>
                </a:lnTo>
                <a:lnTo>
                  <a:pt x="187149" y="1209"/>
                </a:lnTo>
                <a:lnTo>
                  <a:pt x="178954" y="519"/>
                </a:lnTo>
                <a:lnTo>
                  <a:pt x="171013" y="213"/>
                </a:lnTo>
                <a:lnTo>
                  <a:pt x="148742" y="0"/>
                </a:lnTo>
                <a:lnTo>
                  <a:pt x="144324" y="981"/>
                </a:lnTo>
                <a:lnTo>
                  <a:pt x="139395" y="2628"/>
                </a:lnTo>
                <a:lnTo>
                  <a:pt x="134124" y="4718"/>
                </a:lnTo>
                <a:lnTo>
                  <a:pt x="129619" y="7103"/>
                </a:lnTo>
                <a:lnTo>
                  <a:pt x="117544" y="15201"/>
                </a:lnTo>
                <a:lnTo>
                  <a:pt x="112612" y="18060"/>
                </a:lnTo>
                <a:lnTo>
                  <a:pt x="101840" y="23884"/>
                </a:lnTo>
                <a:lnTo>
                  <a:pt x="90438" y="29779"/>
                </a:lnTo>
                <a:lnTo>
                  <a:pt x="84619" y="33733"/>
                </a:lnTo>
                <a:lnTo>
                  <a:pt x="78755" y="38353"/>
                </a:lnTo>
                <a:lnTo>
                  <a:pt x="72862" y="43417"/>
                </a:lnTo>
                <a:lnTo>
                  <a:pt x="66949" y="48778"/>
                </a:lnTo>
                <a:lnTo>
                  <a:pt x="55087" y="60026"/>
                </a:lnTo>
                <a:lnTo>
                  <a:pt x="50137" y="65803"/>
                </a:lnTo>
                <a:lnTo>
                  <a:pt x="45846" y="71639"/>
                </a:lnTo>
                <a:lnTo>
                  <a:pt x="41993" y="77514"/>
                </a:lnTo>
                <a:lnTo>
                  <a:pt x="37439" y="83415"/>
                </a:lnTo>
                <a:lnTo>
                  <a:pt x="32419" y="89333"/>
                </a:lnTo>
                <a:lnTo>
                  <a:pt x="27089" y="95264"/>
                </a:lnTo>
                <a:lnTo>
                  <a:pt x="22543" y="101202"/>
                </a:lnTo>
                <a:lnTo>
                  <a:pt x="18520" y="107144"/>
                </a:lnTo>
                <a:lnTo>
                  <a:pt x="14845" y="113091"/>
                </a:lnTo>
                <a:lnTo>
                  <a:pt x="12396" y="120031"/>
                </a:lnTo>
                <a:lnTo>
                  <a:pt x="10763" y="127635"/>
                </a:lnTo>
                <a:lnTo>
                  <a:pt x="9674" y="135681"/>
                </a:lnTo>
                <a:lnTo>
                  <a:pt x="7956" y="143029"/>
                </a:lnTo>
                <a:lnTo>
                  <a:pt x="5819" y="149913"/>
                </a:lnTo>
                <a:lnTo>
                  <a:pt x="3402" y="156486"/>
                </a:lnTo>
                <a:lnTo>
                  <a:pt x="1790" y="162852"/>
                </a:lnTo>
                <a:lnTo>
                  <a:pt x="716" y="169081"/>
                </a:lnTo>
                <a:lnTo>
                  <a:pt x="0" y="175217"/>
                </a:lnTo>
                <a:lnTo>
                  <a:pt x="514" y="181293"/>
                </a:lnTo>
                <a:lnTo>
                  <a:pt x="1850" y="187328"/>
                </a:lnTo>
                <a:lnTo>
                  <a:pt x="3732" y="193335"/>
                </a:lnTo>
                <a:lnTo>
                  <a:pt x="5979" y="199324"/>
                </a:lnTo>
                <a:lnTo>
                  <a:pt x="8469" y="205302"/>
                </a:lnTo>
                <a:lnTo>
                  <a:pt x="11122" y="211271"/>
                </a:lnTo>
                <a:lnTo>
                  <a:pt x="16715" y="223195"/>
                </a:lnTo>
                <a:lnTo>
                  <a:pt x="19595" y="229153"/>
                </a:lnTo>
                <a:lnTo>
                  <a:pt x="23500" y="234117"/>
                </a:lnTo>
                <a:lnTo>
                  <a:pt x="28088" y="238419"/>
                </a:lnTo>
                <a:lnTo>
                  <a:pt x="33130" y="242279"/>
                </a:lnTo>
                <a:lnTo>
                  <a:pt x="41379" y="249213"/>
                </a:lnTo>
                <a:lnTo>
                  <a:pt x="49345" y="255602"/>
                </a:lnTo>
                <a:lnTo>
                  <a:pt x="54247" y="258696"/>
                </a:lnTo>
                <a:lnTo>
                  <a:pt x="59500" y="261750"/>
                </a:lnTo>
                <a:lnTo>
                  <a:pt x="64986" y="263786"/>
                </a:lnTo>
                <a:lnTo>
                  <a:pt x="70628" y="265143"/>
                </a:lnTo>
                <a:lnTo>
                  <a:pt x="76373" y="266048"/>
                </a:lnTo>
                <a:lnTo>
                  <a:pt x="83180" y="266651"/>
                </a:lnTo>
                <a:lnTo>
                  <a:pt x="90694" y="267054"/>
                </a:lnTo>
                <a:lnTo>
                  <a:pt x="98681" y="267322"/>
                </a:lnTo>
                <a:lnTo>
                  <a:pt x="105989" y="266509"/>
                </a:lnTo>
                <a:lnTo>
                  <a:pt x="112846" y="264974"/>
                </a:lnTo>
                <a:lnTo>
                  <a:pt x="119401" y="262959"/>
                </a:lnTo>
                <a:lnTo>
                  <a:pt x="125756" y="260624"/>
                </a:lnTo>
                <a:lnTo>
                  <a:pt x="131977" y="258074"/>
                </a:lnTo>
                <a:lnTo>
                  <a:pt x="138109" y="255382"/>
                </a:lnTo>
                <a:lnTo>
                  <a:pt x="150214" y="249745"/>
                </a:lnTo>
                <a:lnTo>
                  <a:pt x="174153" y="238043"/>
                </a:lnTo>
                <a:lnTo>
                  <a:pt x="180117" y="234091"/>
                </a:lnTo>
                <a:lnTo>
                  <a:pt x="186077" y="229471"/>
                </a:lnTo>
                <a:lnTo>
                  <a:pt x="192035" y="224407"/>
                </a:lnTo>
                <a:lnTo>
                  <a:pt x="197991" y="218055"/>
                </a:lnTo>
                <a:lnTo>
                  <a:pt x="203946" y="210844"/>
                </a:lnTo>
                <a:lnTo>
                  <a:pt x="209901" y="203059"/>
                </a:lnTo>
                <a:lnTo>
                  <a:pt x="214863" y="195886"/>
                </a:lnTo>
                <a:lnTo>
                  <a:pt x="219162" y="189119"/>
                </a:lnTo>
                <a:lnTo>
                  <a:pt x="223022" y="182623"/>
                </a:lnTo>
                <a:lnTo>
                  <a:pt x="226586" y="176308"/>
                </a:lnTo>
                <a:lnTo>
                  <a:pt x="233193" y="164000"/>
                </a:lnTo>
                <a:lnTo>
                  <a:pt x="236344" y="156948"/>
                </a:lnTo>
                <a:lnTo>
                  <a:pt x="239437" y="149269"/>
                </a:lnTo>
                <a:lnTo>
                  <a:pt x="245519" y="132801"/>
                </a:lnTo>
                <a:lnTo>
                  <a:pt x="251529" y="115559"/>
                </a:lnTo>
                <a:lnTo>
                  <a:pt x="254521" y="107787"/>
                </a:lnTo>
                <a:lnTo>
                  <a:pt x="257508" y="100621"/>
                </a:lnTo>
                <a:lnTo>
                  <a:pt x="260491" y="93859"/>
                </a:lnTo>
                <a:lnTo>
                  <a:pt x="262480" y="88358"/>
                </a:lnTo>
                <a:lnTo>
                  <a:pt x="263806" y="83699"/>
                </a:lnTo>
                <a:lnTo>
                  <a:pt x="264690" y="79601"/>
                </a:lnTo>
                <a:lnTo>
                  <a:pt x="265279" y="74885"/>
                </a:lnTo>
                <a:lnTo>
                  <a:pt x="265672" y="69756"/>
                </a:lnTo>
                <a:lnTo>
                  <a:pt x="265934" y="64352"/>
                </a:lnTo>
                <a:lnTo>
                  <a:pt x="265117" y="58766"/>
                </a:lnTo>
                <a:lnTo>
                  <a:pt x="263579" y="53057"/>
                </a:lnTo>
                <a:lnTo>
                  <a:pt x="261562" y="47267"/>
                </a:lnTo>
                <a:lnTo>
                  <a:pt x="260218" y="42415"/>
                </a:lnTo>
                <a:lnTo>
                  <a:pt x="258724" y="34377"/>
                </a:lnTo>
                <a:lnTo>
                  <a:pt x="255414" y="27497"/>
                </a:lnTo>
                <a:lnTo>
                  <a:pt x="253142" y="24274"/>
                </a:lnTo>
                <a:lnTo>
                  <a:pt x="249643" y="22125"/>
                </a:lnTo>
                <a:lnTo>
                  <a:pt x="245327" y="20692"/>
                </a:lnTo>
                <a:lnTo>
                  <a:pt x="240464" y="19737"/>
                </a:lnTo>
                <a:lnTo>
                  <a:pt x="232415" y="16030"/>
                </a:lnTo>
                <a:lnTo>
                  <a:pt x="221809" y="889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SMARTInkAnnotation82"/>
          <p:cNvSpPr/>
          <p:nvPr/>
        </p:nvSpPr>
        <p:spPr>
          <a:xfrm>
            <a:off x="2320920" y="4616280"/>
            <a:ext cx="241200" cy="160560"/>
          </a:xfrm>
          <a:custGeom>
            <a:avLst/>
            <a:gdLst>
              <a:gd name="textAreaLeft" fmla="*/ 0 w 241200"/>
              <a:gd name="textAreaRight" fmla="*/ 241560 w 241200"/>
              <a:gd name="textAreaTop" fmla="*/ 0 h 160560"/>
              <a:gd name="textAreaBottom" fmla="*/ 160920 h 160560"/>
            </a:gdLst>
            <a:ahLst/>
            <a:rect l="textAreaLeft" t="textAreaTop" r="textAreaRight" b="textAreaBottom"/>
            <a:pathLst>
              <a:path w="241103" h="160610">
                <a:moveTo>
                  <a:pt x="0" y="17733"/>
                </a:moveTo>
                <a:lnTo>
                  <a:pt x="7689" y="17733"/>
                </a:lnTo>
                <a:lnTo>
                  <a:pt x="8103" y="18726"/>
                </a:lnTo>
                <a:lnTo>
                  <a:pt x="8563" y="22474"/>
                </a:lnTo>
                <a:lnTo>
                  <a:pt x="8766" y="27447"/>
                </a:lnTo>
                <a:lnTo>
                  <a:pt x="8881" y="35825"/>
                </a:lnTo>
                <a:lnTo>
                  <a:pt x="8930" y="95539"/>
                </a:lnTo>
                <a:lnTo>
                  <a:pt x="7938" y="101354"/>
                </a:lnTo>
                <a:lnTo>
                  <a:pt x="6284" y="107215"/>
                </a:lnTo>
                <a:lnTo>
                  <a:pt x="4189" y="113107"/>
                </a:lnTo>
                <a:lnTo>
                  <a:pt x="2793" y="118026"/>
                </a:lnTo>
                <a:lnTo>
                  <a:pt x="1862" y="122298"/>
                </a:lnTo>
                <a:lnTo>
                  <a:pt x="1241" y="126139"/>
                </a:lnTo>
                <a:lnTo>
                  <a:pt x="828" y="129691"/>
                </a:lnTo>
                <a:lnTo>
                  <a:pt x="552" y="133051"/>
                </a:lnTo>
                <a:lnTo>
                  <a:pt x="368" y="136284"/>
                </a:lnTo>
                <a:lnTo>
                  <a:pt x="164" y="142521"/>
                </a:lnTo>
                <a:lnTo>
                  <a:pt x="1" y="151631"/>
                </a:lnTo>
                <a:lnTo>
                  <a:pt x="4741" y="146924"/>
                </a:lnTo>
                <a:lnTo>
                  <a:pt x="6137" y="144541"/>
                </a:lnTo>
                <a:lnTo>
                  <a:pt x="7068" y="141959"/>
                </a:lnTo>
                <a:lnTo>
                  <a:pt x="7689" y="139246"/>
                </a:lnTo>
                <a:lnTo>
                  <a:pt x="9095" y="135453"/>
                </a:lnTo>
                <a:lnTo>
                  <a:pt x="11024" y="130940"/>
                </a:lnTo>
                <a:lnTo>
                  <a:pt x="15814" y="120633"/>
                </a:lnTo>
                <a:lnTo>
                  <a:pt x="21250" y="109439"/>
                </a:lnTo>
                <a:lnTo>
                  <a:pt x="25081" y="103675"/>
                </a:lnTo>
                <a:lnTo>
                  <a:pt x="29619" y="97848"/>
                </a:lnTo>
                <a:lnTo>
                  <a:pt x="34629" y="91979"/>
                </a:lnTo>
                <a:lnTo>
                  <a:pt x="37969" y="86082"/>
                </a:lnTo>
                <a:lnTo>
                  <a:pt x="40196" y="80166"/>
                </a:lnTo>
                <a:lnTo>
                  <a:pt x="41680" y="74238"/>
                </a:lnTo>
                <a:lnTo>
                  <a:pt x="43662" y="68302"/>
                </a:lnTo>
                <a:lnTo>
                  <a:pt x="45975" y="62360"/>
                </a:lnTo>
                <a:lnTo>
                  <a:pt x="48510" y="56414"/>
                </a:lnTo>
                <a:lnTo>
                  <a:pt x="51191" y="51458"/>
                </a:lnTo>
                <a:lnTo>
                  <a:pt x="53972" y="47162"/>
                </a:lnTo>
                <a:lnTo>
                  <a:pt x="56817" y="43305"/>
                </a:lnTo>
                <a:lnTo>
                  <a:pt x="59706" y="38750"/>
                </a:lnTo>
                <a:lnTo>
                  <a:pt x="62625" y="33728"/>
                </a:lnTo>
                <a:lnTo>
                  <a:pt x="65563" y="28397"/>
                </a:lnTo>
                <a:lnTo>
                  <a:pt x="68513" y="23850"/>
                </a:lnTo>
                <a:lnTo>
                  <a:pt x="71472" y="19827"/>
                </a:lnTo>
                <a:lnTo>
                  <a:pt x="74437" y="16152"/>
                </a:lnTo>
                <a:lnTo>
                  <a:pt x="77406" y="13703"/>
                </a:lnTo>
                <a:lnTo>
                  <a:pt x="80378" y="12070"/>
                </a:lnTo>
                <a:lnTo>
                  <a:pt x="83351" y="10981"/>
                </a:lnTo>
                <a:lnTo>
                  <a:pt x="89300" y="7126"/>
                </a:lnTo>
                <a:lnTo>
                  <a:pt x="92276" y="4708"/>
                </a:lnTo>
                <a:lnTo>
                  <a:pt x="95251" y="3097"/>
                </a:lnTo>
                <a:lnTo>
                  <a:pt x="101204" y="1306"/>
                </a:lnTo>
                <a:lnTo>
                  <a:pt x="106973" y="157"/>
                </a:lnTo>
                <a:lnTo>
                  <a:pt x="111374" y="0"/>
                </a:lnTo>
                <a:lnTo>
                  <a:pt x="112945" y="950"/>
                </a:lnTo>
                <a:lnTo>
                  <a:pt x="113993" y="2576"/>
                </a:lnTo>
                <a:lnTo>
                  <a:pt x="114690" y="4652"/>
                </a:lnTo>
                <a:lnTo>
                  <a:pt x="118111" y="9604"/>
                </a:lnTo>
                <a:lnTo>
                  <a:pt x="120413" y="12313"/>
                </a:lnTo>
                <a:lnTo>
                  <a:pt x="121947" y="15112"/>
                </a:lnTo>
                <a:lnTo>
                  <a:pt x="122970" y="17971"/>
                </a:lnTo>
                <a:lnTo>
                  <a:pt x="123652" y="20868"/>
                </a:lnTo>
                <a:lnTo>
                  <a:pt x="124107" y="24784"/>
                </a:lnTo>
                <a:lnTo>
                  <a:pt x="124410" y="29379"/>
                </a:lnTo>
                <a:lnTo>
                  <a:pt x="124747" y="38785"/>
                </a:lnTo>
                <a:lnTo>
                  <a:pt x="124936" y="50650"/>
                </a:lnTo>
                <a:lnTo>
                  <a:pt x="125006" y="72939"/>
                </a:lnTo>
                <a:lnTo>
                  <a:pt x="124017" y="77358"/>
                </a:lnTo>
                <a:lnTo>
                  <a:pt x="122365" y="82288"/>
                </a:lnTo>
                <a:lnTo>
                  <a:pt x="120273" y="87559"/>
                </a:lnTo>
                <a:lnTo>
                  <a:pt x="118877" y="92065"/>
                </a:lnTo>
                <a:lnTo>
                  <a:pt x="117947" y="96061"/>
                </a:lnTo>
                <a:lnTo>
                  <a:pt x="117327" y="99717"/>
                </a:lnTo>
                <a:lnTo>
                  <a:pt x="116913" y="103147"/>
                </a:lnTo>
                <a:lnTo>
                  <a:pt x="116638" y="106427"/>
                </a:lnTo>
                <a:lnTo>
                  <a:pt x="116088" y="115927"/>
                </a:lnTo>
                <a:lnTo>
                  <a:pt x="116087" y="115946"/>
                </a:lnTo>
                <a:lnTo>
                  <a:pt x="116087" y="111215"/>
                </a:lnTo>
                <a:lnTo>
                  <a:pt x="117079" y="108828"/>
                </a:lnTo>
                <a:lnTo>
                  <a:pt x="118732" y="106244"/>
                </a:lnTo>
                <a:lnTo>
                  <a:pt x="120827" y="103530"/>
                </a:lnTo>
                <a:lnTo>
                  <a:pt x="123215" y="100728"/>
                </a:lnTo>
                <a:lnTo>
                  <a:pt x="125800" y="97868"/>
                </a:lnTo>
                <a:lnTo>
                  <a:pt x="131317" y="92044"/>
                </a:lnTo>
                <a:lnTo>
                  <a:pt x="137077" y="86148"/>
                </a:lnTo>
                <a:lnTo>
                  <a:pt x="140002" y="82194"/>
                </a:lnTo>
                <a:lnTo>
                  <a:pt x="142944" y="77575"/>
                </a:lnTo>
                <a:lnTo>
                  <a:pt x="145898" y="72511"/>
                </a:lnTo>
                <a:lnTo>
                  <a:pt x="149851" y="68142"/>
                </a:lnTo>
                <a:lnTo>
                  <a:pt x="154471" y="64237"/>
                </a:lnTo>
                <a:lnTo>
                  <a:pt x="159536" y="60643"/>
                </a:lnTo>
                <a:lnTo>
                  <a:pt x="163904" y="57253"/>
                </a:lnTo>
                <a:lnTo>
                  <a:pt x="167808" y="54002"/>
                </a:lnTo>
                <a:lnTo>
                  <a:pt x="171404" y="50842"/>
                </a:lnTo>
                <a:lnTo>
                  <a:pt x="178044" y="44685"/>
                </a:lnTo>
                <a:lnTo>
                  <a:pt x="181204" y="41655"/>
                </a:lnTo>
                <a:lnTo>
                  <a:pt x="184303" y="39634"/>
                </a:lnTo>
                <a:lnTo>
                  <a:pt x="190392" y="37389"/>
                </a:lnTo>
                <a:lnTo>
                  <a:pt x="196405" y="33745"/>
                </a:lnTo>
                <a:lnTo>
                  <a:pt x="199398" y="31385"/>
                </a:lnTo>
                <a:lnTo>
                  <a:pt x="205369" y="28761"/>
                </a:lnTo>
                <a:lnTo>
                  <a:pt x="211330" y="27596"/>
                </a:lnTo>
                <a:lnTo>
                  <a:pt x="217287" y="27077"/>
                </a:lnTo>
                <a:lnTo>
                  <a:pt x="219272" y="27931"/>
                </a:lnTo>
                <a:lnTo>
                  <a:pt x="220595" y="29493"/>
                </a:lnTo>
                <a:lnTo>
                  <a:pt x="222719" y="34388"/>
                </a:lnTo>
                <a:lnTo>
                  <a:pt x="225656" y="37703"/>
                </a:lnTo>
                <a:lnTo>
                  <a:pt x="227828" y="39977"/>
                </a:lnTo>
                <a:lnTo>
                  <a:pt x="229276" y="42484"/>
                </a:lnTo>
                <a:lnTo>
                  <a:pt x="230242" y="45148"/>
                </a:lnTo>
                <a:lnTo>
                  <a:pt x="230885" y="47916"/>
                </a:lnTo>
                <a:lnTo>
                  <a:pt x="232306" y="50754"/>
                </a:lnTo>
                <a:lnTo>
                  <a:pt x="234246" y="53638"/>
                </a:lnTo>
                <a:lnTo>
                  <a:pt x="236531" y="56553"/>
                </a:lnTo>
                <a:lnTo>
                  <a:pt x="238055" y="59488"/>
                </a:lnTo>
                <a:lnTo>
                  <a:pt x="239071" y="62436"/>
                </a:lnTo>
                <a:lnTo>
                  <a:pt x="239748" y="65395"/>
                </a:lnTo>
                <a:lnTo>
                  <a:pt x="240199" y="68359"/>
                </a:lnTo>
                <a:lnTo>
                  <a:pt x="240500" y="71327"/>
                </a:lnTo>
                <a:lnTo>
                  <a:pt x="240700" y="74299"/>
                </a:lnTo>
                <a:lnTo>
                  <a:pt x="240834" y="78264"/>
                </a:lnTo>
                <a:lnTo>
                  <a:pt x="241049" y="96241"/>
                </a:lnTo>
                <a:lnTo>
                  <a:pt x="241092" y="109639"/>
                </a:lnTo>
                <a:lnTo>
                  <a:pt x="240102" y="112738"/>
                </a:lnTo>
                <a:lnTo>
                  <a:pt x="238451" y="115797"/>
                </a:lnTo>
                <a:lnTo>
                  <a:pt x="236358" y="118828"/>
                </a:lnTo>
                <a:lnTo>
                  <a:pt x="234963" y="121841"/>
                </a:lnTo>
                <a:lnTo>
                  <a:pt x="234033" y="124842"/>
                </a:lnTo>
                <a:lnTo>
                  <a:pt x="233413" y="127834"/>
                </a:lnTo>
                <a:lnTo>
                  <a:pt x="232999" y="130821"/>
                </a:lnTo>
                <a:lnTo>
                  <a:pt x="232724" y="133805"/>
                </a:lnTo>
                <a:lnTo>
                  <a:pt x="232540" y="136787"/>
                </a:lnTo>
                <a:lnTo>
                  <a:pt x="233409" y="139766"/>
                </a:lnTo>
                <a:lnTo>
                  <a:pt x="234981" y="142745"/>
                </a:lnTo>
                <a:lnTo>
                  <a:pt x="237022" y="145723"/>
                </a:lnTo>
                <a:lnTo>
                  <a:pt x="238382" y="148701"/>
                </a:lnTo>
                <a:lnTo>
                  <a:pt x="239289" y="151677"/>
                </a:lnTo>
                <a:lnTo>
                  <a:pt x="241102" y="16060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SMARTInkAnnotation83"/>
          <p:cNvSpPr/>
          <p:nvPr/>
        </p:nvSpPr>
        <p:spPr>
          <a:xfrm>
            <a:off x="1009800" y="4803840"/>
            <a:ext cx="187200" cy="366480"/>
          </a:xfrm>
          <a:custGeom>
            <a:avLst/>
            <a:gdLst>
              <a:gd name="textAreaLeft" fmla="*/ 0 w 187200"/>
              <a:gd name="textAreaRight" fmla="*/ 187560 w 187200"/>
              <a:gd name="textAreaTop" fmla="*/ 0 h 366480"/>
              <a:gd name="textAreaBottom" fmla="*/ 366480 h 366480"/>
            </a:gdLst>
            <a:ahLst/>
            <a:rect l="textAreaLeft" t="textAreaTop" r="textAreaRight" b="textAreaBottom"/>
            <a:pathLst>
              <a:path w="187525" h="365916">
                <a:moveTo>
                  <a:pt x="0" y="0"/>
                </a:moveTo>
                <a:lnTo>
                  <a:pt x="0" y="25990"/>
                </a:lnTo>
                <a:lnTo>
                  <a:pt x="2646" y="36686"/>
                </a:lnTo>
                <a:lnTo>
                  <a:pt x="6137" y="48055"/>
                </a:lnTo>
                <a:lnTo>
                  <a:pt x="7068" y="53865"/>
                </a:lnTo>
                <a:lnTo>
                  <a:pt x="7689" y="59722"/>
                </a:lnTo>
                <a:lnTo>
                  <a:pt x="9094" y="65611"/>
                </a:lnTo>
                <a:lnTo>
                  <a:pt x="11024" y="71523"/>
                </a:lnTo>
                <a:lnTo>
                  <a:pt x="13302" y="77447"/>
                </a:lnTo>
                <a:lnTo>
                  <a:pt x="14821" y="84373"/>
                </a:lnTo>
                <a:lnTo>
                  <a:pt x="15834" y="91967"/>
                </a:lnTo>
                <a:lnTo>
                  <a:pt x="16509" y="100007"/>
                </a:lnTo>
                <a:lnTo>
                  <a:pt x="17952" y="107351"/>
                </a:lnTo>
                <a:lnTo>
                  <a:pt x="19905" y="114231"/>
                </a:lnTo>
                <a:lnTo>
                  <a:pt x="22200" y="120802"/>
                </a:lnTo>
                <a:lnTo>
                  <a:pt x="23730" y="128159"/>
                </a:lnTo>
                <a:lnTo>
                  <a:pt x="24750" y="136041"/>
                </a:lnTo>
                <a:lnTo>
                  <a:pt x="25429" y="144272"/>
                </a:lnTo>
                <a:lnTo>
                  <a:pt x="26875" y="152736"/>
                </a:lnTo>
                <a:lnTo>
                  <a:pt x="28831" y="161355"/>
                </a:lnTo>
                <a:lnTo>
                  <a:pt x="31127" y="170078"/>
                </a:lnTo>
                <a:lnTo>
                  <a:pt x="32657" y="179862"/>
                </a:lnTo>
                <a:lnTo>
                  <a:pt x="33678" y="190353"/>
                </a:lnTo>
                <a:lnTo>
                  <a:pt x="34358" y="201316"/>
                </a:lnTo>
                <a:lnTo>
                  <a:pt x="35804" y="211601"/>
                </a:lnTo>
                <a:lnTo>
                  <a:pt x="37760" y="221435"/>
                </a:lnTo>
                <a:lnTo>
                  <a:pt x="40056" y="230967"/>
                </a:lnTo>
                <a:lnTo>
                  <a:pt x="41587" y="240298"/>
                </a:lnTo>
                <a:lnTo>
                  <a:pt x="42608" y="249496"/>
                </a:lnTo>
                <a:lnTo>
                  <a:pt x="43288" y="258604"/>
                </a:lnTo>
                <a:lnTo>
                  <a:pt x="43742" y="267652"/>
                </a:lnTo>
                <a:lnTo>
                  <a:pt x="44245" y="285644"/>
                </a:lnTo>
                <a:lnTo>
                  <a:pt x="45372" y="293617"/>
                </a:lnTo>
                <a:lnTo>
                  <a:pt x="47115" y="300916"/>
                </a:lnTo>
                <a:lnTo>
                  <a:pt x="49270" y="307767"/>
                </a:lnTo>
                <a:lnTo>
                  <a:pt x="51698" y="314319"/>
                </a:lnTo>
                <a:lnTo>
                  <a:pt x="54309" y="320670"/>
                </a:lnTo>
                <a:lnTo>
                  <a:pt x="57042" y="326890"/>
                </a:lnTo>
                <a:lnTo>
                  <a:pt x="58864" y="333021"/>
                </a:lnTo>
                <a:lnTo>
                  <a:pt x="60079" y="339091"/>
                </a:lnTo>
                <a:lnTo>
                  <a:pt x="60889" y="345123"/>
                </a:lnTo>
                <a:lnTo>
                  <a:pt x="64434" y="354472"/>
                </a:lnTo>
                <a:lnTo>
                  <a:pt x="66769" y="358353"/>
                </a:lnTo>
                <a:lnTo>
                  <a:pt x="69317" y="360941"/>
                </a:lnTo>
                <a:lnTo>
                  <a:pt x="72008" y="362666"/>
                </a:lnTo>
                <a:lnTo>
                  <a:pt x="77644" y="364583"/>
                </a:lnTo>
                <a:lnTo>
                  <a:pt x="83457" y="365436"/>
                </a:lnTo>
                <a:lnTo>
                  <a:pt x="86396" y="365662"/>
                </a:lnTo>
                <a:lnTo>
                  <a:pt x="89347" y="365814"/>
                </a:lnTo>
                <a:lnTo>
                  <a:pt x="92307" y="365915"/>
                </a:lnTo>
                <a:lnTo>
                  <a:pt x="95272" y="364990"/>
                </a:lnTo>
                <a:lnTo>
                  <a:pt x="98242" y="363381"/>
                </a:lnTo>
                <a:lnTo>
                  <a:pt x="101213" y="361316"/>
                </a:lnTo>
                <a:lnTo>
                  <a:pt x="104186" y="358948"/>
                </a:lnTo>
                <a:lnTo>
                  <a:pt x="107161" y="356377"/>
                </a:lnTo>
                <a:lnTo>
                  <a:pt x="110136" y="353670"/>
                </a:lnTo>
                <a:lnTo>
                  <a:pt x="113112" y="349882"/>
                </a:lnTo>
                <a:lnTo>
                  <a:pt x="116088" y="345372"/>
                </a:lnTo>
                <a:lnTo>
                  <a:pt x="119064" y="340380"/>
                </a:lnTo>
                <a:lnTo>
                  <a:pt x="122040" y="335068"/>
                </a:lnTo>
                <a:lnTo>
                  <a:pt x="127993" y="323875"/>
                </a:lnTo>
                <a:lnTo>
                  <a:pt x="136922" y="306417"/>
                </a:lnTo>
                <a:lnTo>
                  <a:pt x="139899" y="299528"/>
                </a:lnTo>
                <a:lnTo>
                  <a:pt x="142875" y="291959"/>
                </a:lnTo>
                <a:lnTo>
                  <a:pt x="145852" y="283936"/>
                </a:lnTo>
                <a:lnTo>
                  <a:pt x="147836" y="275611"/>
                </a:lnTo>
                <a:lnTo>
                  <a:pt x="149159" y="267084"/>
                </a:lnTo>
                <a:lnTo>
                  <a:pt x="150041" y="258423"/>
                </a:lnTo>
                <a:lnTo>
                  <a:pt x="151621" y="249673"/>
                </a:lnTo>
                <a:lnTo>
                  <a:pt x="153667" y="240863"/>
                </a:lnTo>
                <a:lnTo>
                  <a:pt x="156023" y="232012"/>
                </a:lnTo>
                <a:lnTo>
                  <a:pt x="158586" y="224128"/>
                </a:lnTo>
                <a:lnTo>
                  <a:pt x="161286" y="216887"/>
                </a:lnTo>
                <a:lnTo>
                  <a:pt x="164079" y="210076"/>
                </a:lnTo>
                <a:lnTo>
                  <a:pt x="166933" y="203550"/>
                </a:lnTo>
                <a:lnTo>
                  <a:pt x="172750" y="191009"/>
                </a:lnTo>
                <a:lnTo>
                  <a:pt x="174698" y="184886"/>
                </a:lnTo>
                <a:lnTo>
                  <a:pt x="175997" y="178820"/>
                </a:lnTo>
                <a:lnTo>
                  <a:pt x="176862" y="172791"/>
                </a:lnTo>
                <a:lnTo>
                  <a:pt x="180470" y="163447"/>
                </a:lnTo>
                <a:lnTo>
                  <a:pt x="186130" y="154104"/>
                </a:lnTo>
                <a:lnTo>
                  <a:pt x="186904" y="150181"/>
                </a:lnTo>
                <a:lnTo>
                  <a:pt x="187524" y="14287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SMARTInkAnnotation84"/>
          <p:cNvSpPr/>
          <p:nvPr/>
        </p:nvSpPr>
        <p:spPr>
          <a:xfrm>
            <a:off x="1187280" y="5126040"/>
            <a:ext cx="27000" cy="133200"/>
          </a:xfrm>
          <a:custGeom>
            <a:avLst/>
            <a:gdLst>
              <a:gd name="textAreaLeft" fmla="*/ 0 w 27000"/>
              <a:gd name="textAreaRight" fmla="*/ 27360 w 27000"/>
              <a:gd name="textAreaTop" fmla="*/ 0 h 133200"/>
              <a:gd name="textAreaBottom" fmla="*/ 133560 h 133200"/>
            </a:gdLst>
            <a:ahLst/>
            <a:rect l="textAreaLeft" t="textAreaTop" r="textAreaRight" b="textAreaBottom"/>
            <a:pathLst>
              <a:path w="26390" h="133946">
                <a:moveTo>
                  <a:pt x="26389" y="0"/>
                </a:moveTo>
                <a:lnTo>
                  <a:pt x="26389" y="13302"/>
                </a:lnTo>
                <a:lnTo>
                  <a:pt x="25397" y="14821"/>
                </a:lnTo>
                <a:lnTo>
                  <a:pt x="23743" y="15833"/>
                </a:lnTo>
                <a:lnTo>
                  <a:pt x="21648" y="16509"/>
                </a:lnTo>
                <a:lnTo>
                  <a:pt x="20252" y="17951"/>
                </a:lnTo>
                <a:lnTo>
                  <a:pt x="19321" y="19904"/>
                </a:lnTo>
                <a:lnTo>
                  <a:pt x="18701" y="22199"/>
                </a:lnTo>
                <a:lnTo>
                  <a:pt x="18287" y="24721"/>
                </a:lnTo>
                <a:lnTo>
                  <a:pt x="18011" y="27395"/>
                </a:lnTo>
                <a:lnTo>
                  <a:pt x="17827" y="30169"/>
                </a:lnTo>
                <a:lnTo>
                  <a:pt x="17623" y="38544"/>
                </a:lnTo>
                <a:lnTo>
                  <a:pt x="17568" y="43555"/>
                </a:lnTo>
                <a:lnTo>
                  <a:pt x="16540" y="47888"/>
                </a:lnTo>
                <a:lnTo>
                  <a:pt x="14862" y="51769"/>
                </a:lnTo>
                <a:lnTo>
                  <a:pt x="12751" y="55348"/>
                </a:lnTo>
                <a:lnTo>
                  <a:pt x="11344" y="58727"/>
                </a:lnTo>
                <a:lnTo>
                  <a:pt x="10406" y="61971"/>
                </a:lnTo>
                <a:lnTo>
                  <a:pt x="9780" y="65127"/>
                </a:lnTo>
                <a:lnTo>
                  <a:pt x="8371" y="69214"/>
                </a:lnTo>
                <a:lnTo>
                  <a:pt x="6440" y="73924"/>
                </a:lnTo>
                <a:lnTo>
                  <a:pt x="4160" y="79048"/>
                </a:lnTo>
                <a:lnTo>
                  <a:pt x="2640" y="83456"/>
                </a:lnTo>
                <a:lnTo>
                  <a:pt x="1627" y="87388"/>
                </a:lnTo>
                <a:lnTo>
                  <a:pt x="951" y="91001"/>
                </a:lnTo>
                <a:lnTo>
                  <a:pt x="501" y="95393"/>
                </a:lnTo>
                <a:lnTo>
                  <a:pt x="200" y="100306"/>
                </a:lnTo>
                <a:lnTo>
                  <a:pt x="0" y="105566"/>
                </a:lnTo>
                <a:lnTo>
                  <a:pt x="859" y="110064"/>
                </a:lnTo>
                <a:lnTo>
                  <a:pt x="2424" y="114056"/>
                </a:lnTo>
                <a:lnTo>
                  <a:pt x="7324" y="122850"/>
                </a:lnTo>
                <a:lnTo>
                  <a:pt x="8718" y="124564"/>
                </a:lnTo>
                <a:lnTo>
                  <a:pt x="10640" y="126698"/>
                </a:lnTo>
                <a:lnTo>
                  <a:pt x="17459" y="13394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SMARTInkAnnotation85"/>
          <p:cNvSpPr/>
          <p:nvPr/>
        </p:nvSpPr>
        <p:spPr>
          <a:xfrm>
            <a:off x="1241280" y="5089680"/>
            <a:ext cx="9720" cy="9360"/>
          </a:xfrm>
          <a:custGeom>
            <a:avLst/>
            <a:gdLst>
              <a:gd name="textAreaLeft" fmla="*/ 0 w 9720"/>
              <a:gd name="textAreaRight" fmla="*/ 10080 w 9720"/>
              <a:gd name="textAreaTop" fmla="*/ 0 h 9360"/>
              <a:gd name="textAreaBottom" fmla="*/ 9720 h 9360"/>
            </a:gdLst>
            <a:ahLst/>
            <a:rect l="textAreaLeft" t="textAreaTop" r="textAreaRight" b="textAreaBottom"/>
            <a:pathLst>
              <a:path w="8931" h="8931">
                <a:moveTo>
                  <a:pt x="0" y="8930"/>
                </a:moveTo>
                <a:lnTo>
                  <a:pt x="0" y="368"/>
                </a:lnTo>
                <a:lnTo>
                  <a:pt x="992" y="246"/>
                </a:lnTo>
                <a:lnTo>
                  <a:pt x="2646" y="164"/>
                </a:lnTo>
                <a:lnTo>
                  <a:pt x="8930" y="0"/>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305" name="SMARTInkAnnotation86"/>
          <p:cNvSpPr/>
          <p:nvPr/>
        </p:nvSpPr>
        <p:spPr>
          <a:xfrm>
            <a:off x="1357200" y="5081760"/>
            <a:ext cx="98640" cy="17280"/>
          </a:xfrm>
          <a:custGeom>
            <a:avLst/>
            <a:gdLst>
              <a:gd name="textAreaLeft" fmla="*/ 0 w 98640"/>
              <a:gd name="textAreaRight" fmla="*/ 99000 w 98640"/>
              <a:gd name="textAreaTop" fmla="*/ 0 h 17280"/>
              <a:gd name="textAreaBottom" fmla="*/ 17640 h 17280"/>
            </a:gdLst>
            <a:ahLst/>
            <a:rect l="textAreaLeft" t="textAreaTop" r="textAreaRight" b="textAreaBottom"/>
            <a:pathLst>
              <a:path w="98228" h="17860">
                <a:moveTo>
                  <a:pt x="0" y="0"/>
                </a:moveTo>
                <a:lnTo>
                  <a:pt x="37500" y="0"/>
                </a:lnTo>
                <a:lnTo>
                  <a:pt x="41867" y="992"/>
                </a:lnTo>
                <a:lnTo>
                  <a:pt x="46763" y="2645"/>
                </a:lnTo>
                <a:lnTo>
                  <a:pt x="52011" y="4740"/>
                </a:lnTo>
                <a:lnTo>
                  <a:pt x="56502" y="6137"/>
                </a:lnTo>
                <a:lnTo>
                  <a:pt x="60489" y="7068"/>
                </a:lnTo>
                <a:lnTo>
                  <a:pt x="64138" y="7689"/>
                </a:lnTo>
                <a:lnTo>
                  <a:pt x="68556" y="8102"/>
                </a:lnTo>
                <a:lnTo>
                  <a:pt x="73485" y="8378"/>
                </a:lnTo>
                <a:lnTo>
                  <a:pt x="78756" y="8562"/>
                </a:lnTo>
                <a:lnTo>
                  <a:pt x="83262" y="9676"/>
                </a:lnTo>
                <a:lnTo>
                  <a:pt x="87258" y="11412"/>
                </a:lnTo>
                <a:lnTo>
                  <a:pt x="98227" y="17859"/>
                </a:lnTo>
              </a:path>
            </a:pathLst>
          </a:custGeom>
          <a:noFill/>
          <a:ln w="38160">
            <a:solidFill>
              <a:srgbClr val="009300"/>
            </a:solidFill>
            <a:roun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06" name="SMARTInkAnnotation87"/>
          <p:cNvSpPr/>
          <p:nvPr/>
        </p:nvSpPr>
        <p:spPr>
          <a:xfrm>
            <a:off x="1303200" y="5180040"/>
            <a:ext cx="152640" cy="360"/>
          </a:xfrm>
          <a:custGeom>
            <a:avLst/>
            <a:gdLst>
              <a:gd name="textAreaLeft" fmla="*/ 0 w 152640"/>
              <a:gd name="textAreaRight" fmla="*/ 153000 w 152640"/>
              <a:gd name="textAreaTop" fmla="*/ 0 h 360"/>
              <a:gd name="textAreaBottom" fmla="*/ 720 h 360"/>
            </a:gdLst>
            <a:ahLst/>
            <a:rect l="textAreaLeft" t="textAreaTop" r="textAreaRight" b="textAreaBottom"/>
            <a:pathLst>
              <a:path w="151806" h="1">
                <a:moveTo>
                  <a:pt x="0" y="0"/>
                </a:moveTo>
                <a:lnTo>
                  <a:pt x="151805" y="0"/>
                </a:lnTo>
              </a:path>
            </a:pathLst>
          </a:custGeom>
          <a:no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307" name="SMARTInkAnnotation88"/>
          <p:cNvSpPr/>
          <p:nvPr/>
        </p:nvSpPr>
        <p:spPr>
          <a:xfrm>
            <a:off x="1517760" y="5072040"/>
            <a:ext cx="204840" cy="204840"/>
          </a:xfrm>
          <a:custGeom>
            <a:avLst/>
            <a:gdLst>
              <a:gd name="textAreaLeft" fmla="*/ 0 w 204840"/>
              <a:gd name="textAreaRight" fmla="*/ 205200 w 204840"/>
              <a:gd name="textAreaTop" fmla="*/ 0 h 204840"/>
              <a:gd name="textAreaBottom" fmla="*/ 205200 h 204840"/>
            </a:gdLst>
            <a:ahLst/>
            <a:rect l="textAreaLeft" t="textAreaTop" r="textAreaRight" b="textAreaBottom"/>
            <a:pathLst>
              <a:path w="204735" h="204739">
                <a:moveTo>
                  <a:pt x="133790" y="17741"/>
                </a:moveTo>
                <a:lnTo>
                  <a:pt x="126101" y="10053"/>
                </a:lnTo>
                <a:lnTo>
                  <a:pt x="125412" y="6718"/>
                </a:lnTo>
                <a:lnTo>
                  <a:pt x="125228" y="4439"/>
                </a:lnTo>
                <a:lnTo>
                  <a:pt x="124113" y="2920"/>
                </a:lnTo>
                <a:lnTo>
                  <a:pt x="122378" y="1907"/>
                </a:lnTo>
                <a:lnTo>
                  <a:pt x="117204" y="282"/>
                </a:lnTo>
                <a:lnTo>
                  <a:pt x="111567" y="0"/>
                </a:lnTo>
                <a:lnTo>
                  <a:pt x="108061" y="953"/>
                </a:lnTo>
                <a:lnTo>
                  <a:pt x="103739" y="2580"/>
                </a:lnTo>
                <a:lnTo>
                  <a:pt x="98873" y="4658"/>
                </a:lnTo>
                <a:lnTo>
                  <a:pt x="94637" y="6042"/>
                </a:lnTo>
                <a:lnTo>
                  <a:pt x="90821" y="6965"/>
                </a:lnTo>
                <a:lnTo>
                  <a:pt x="87284" y="7581"/>
                </a:lnTo>
                <a:lnTo>
                  <a:pt x="82942" y="8983"/>
                </a:lnTo>
                <a:lnTo>
                  <a:pt x="78063" y="10911"/>
                </a:lnTo>
                <a:lnTo>
                  <a:pt x="72826" y="13187"/>
                </a:lnTo>
                <a:lnTo>
                  <a:pt x="68343" y="16690"/>
                </a:lnTo>
                <a:lnTo>
                  <a:pt x="64362" y="21010"/>
                </a:lnTo>
                <a:lnTo>
                  <a:pt x="60715" y="25873"/>
                </a:lnTo>
                <a:lnTo>
                  <a:pt x="56300" y="31100"/>
                </a:lnTo>
                <a:lnTo>
                  <a:pt x="51372" y="36569"/>
                </a:lnTo>
                <a:lnTo>
                  <a:pt x="37601" y="51101"/>
                </a:lnTo>
                <a:lnTo>
                  <a:pt x="33945" y="54864"/>
                </a:lnTo>
                <a:lnTo>
                  <a:pt x="30516" y="59357"/>
                </a:lnTo>
                <a:lnTo>
                  <a:pt x="27237" y="64337"/>
                </a:lnTo>
                <a:lnTo>
                  <a:pt x="24060" y="69641"/>
                </a:lnTo>
                <a:lnTo>
                  <a:pt x="20949" y="75162"/>
                </a:lnTo>
                <a:lnTo>
                  <a:pt x="14847" y="86587"/>
                </a:lnTo>
                <a:lnTo>
                  <a:pt x="5833" y="104176"/>
                </a:lnTo>
                <a:lnTo>
                  <a:pt x="3837" y="110091"/>
                </a:lnTo>
                <a:lnTo>
                  <a:pt x="2506" y="116019"/>
                </a:lnTo>
                <a:lnTo>
                  <a:pt x="1619" y="121955"/>
                </a:lnTo>
                <a:lnTo>
                  <a:pt x="1027" y="127897"/>
                </a:lnTo>
                <a:lnTo>
                  <a:pt x="633" y="133843"/>
                </a:lnTo>
                <a:lnTo>
                  <a:pt x="370" y="139791"/>
                </a:lnTo>
                <a:lnTo>
                  <a:pt x="78" y="151691"/>
                </a:lnTo>
                <a:lnTo>
                  <a:pt x="0" y="157643"/>
                </a:lnTo>
                <a:lnTo>
                  <a:pt x="941" y="162603"/>
                </a:lnTo>
                <a:lnTo>
                  <a:pt x="2560" y="166902"/>
                </a:lnTo>
                <a:lnTo>
                  <a:pt x="4631" y="170760"/>
                </a:lnTo>
                <a:lnTo>
                  <a:pt x="7004" y="174324"/>
                </a:lnTo>
                <a:lnTo>
                  <a:pt x="9579" y="177693"/>
                </a:lnTo>
                <a:lnTo>
                  <a:pt x="12287" y="180930"/>
                </a:lnTo>
                <a:lnTo>
                  <a:pt x="16077" y="184081"/>
                </a:lnTo>
                <a:lnTo>
                  <a:pt x="20588" y="187173"/>
                </a:lnTo>
                <a:lnTo>
                  <a:pt x="25580" y="190227"/>
                </a:lnTo>
                <a:lnTo>
                  <a:pt x="29900" y="193255"/>
                </a:lnTo>
                <a:lnTo>
                  <a:pt x="33772" y="196267"/>
                </a:lnTo>
                <a:lnTo>
                  <a:pt x="37346" y="199266"/>
                </a:lnTo>
                <a:lnTo>
                  <a:pt x="41712" y="201265"/>
                </a:lnTo>
                <a:lnTo>
                  <a:pt x="46608" y="202599"/>
                </a:lnTo>
                <a:lnTo>
                  <a:pt x="51856" y="203488"/>
                </a:lnTo>
                <a:lnTo>
                  <a:pt x="57339" y="204080"/>
                </a:lnTo>
                <a:lnTo>
                  <a:pt x="62979" y="204475"/>
                </a:lnTo>
                <a:lnTo>
                  <a:pt x="68723" y="204738"/>
                </a:lnTo>
                <a:lnTo>
                  <a:pt x="74537" y="203921"/>
                </a:lnTo>
                <a:lnTo>
                  <a:pt x="80398" y="202385"/>
                </a:lnTo>
                <a:lnTo>
                  <a:pt x="86289" y="200369"/>
                </a:lnTo>
                <a:lnTo>
                  <a:pt x="92200" y="197040"/>
                </a:lnTo>
                <a:lnTo>
                  <a:pt x="98126" y="192837"/>
                </a:lnTo>
                <a:lnTo>
                  <a:pt x="104061" y="188049"/>
                </a:lnTo>
                <a:lnTo>
                  <a:pt x="110002" y="183866"/>
                </a:lnTo>
                <a:lnTo>
                  <a:pt x="115947" y="180085"/>
                </a:lnTo>
                <a:lnTo>
                  <a:pt x="121894" y="176572"/>
                </a:lnTo>
                <a:lnTo>
                  <a:pt x="127844" y="172246"/>
                </a:lnTo>
                <a:lnTo>
                  <a:pt x="133795" y="167377"/>
                </a:lnTo>
                <a:lnTo>
                  <a:pt x="139746" y="162147"/>
                </a:lnTo>
                <a:lnTo>
                  <a:pt x="144706" y="156676"/>
                </a:lnTo>
                <a:lnTo>
                  <a:pt x="149005" y="151044"/>
                </a:lnTo>
                <a:lnTo>
                  <a:pt x="152863" y="145305"/>
                </a:lnTo>
                <a:lnTo>
                  <a:pt x="157419" y="139494"/>
                </a:lnTo>
                <a:lnTo>
                  <a:pt x="162441" y="133637"/>
                </a:lnTo>
                <a:lnTo>
                  <a:pt x="167773" y="127747"/>
                </a:lnTo>
                <a:lnTo>
                  <a:pt x="172320" y="121836"/>
                </a:lnTo>
                <a:lnTo>
                  <a:pt x="176344" y="115912"/>
                </a:lnTo>
                <a:lnTo>
                  <a:pt x="180019" y="109978"/>
                </a:lnTo>
                <a:lnTo>
                  <a:pt x="182469" y="104037"/>
                </a:lnTo>
                <a:lnTo>
                  <a:pt x="184102" y="98092"/>
                </a:lnTo>
                <a:lnTo>
                  <a:pt x="185190" y="92145"/>
                </a:lnTo>
                <a:lnTo>
                  <a:pt x="186908" y="86195"/>
                </a:lnTo>
                <a:lnTo>
                  <a:pt x="189046" y="80244"/>
                </a:lnTo>
                <a:lnTo>
                  <a:pt x="191463" y="74293"/>
                </a:lnTo>
                <a:lnTo>
                  <a:pt x="194067" y="69333"/>
                </a:lnTo>
                <a:lnTo>
                  <a:pt x="196795" y="65035"/>
                </a:lnTo>
                <a:lnTo>
                  <a:pt x="199605" y="61176"/>
                </a:lnTo>
                <a:lnTo>
                  <a:pt x="201479" y="57612"/>
                </a:lnTo>
                <a:lnTo>
                  <a:pt x="202729" y="54244"/>
                </a:lnTo>
                <a:lnTo>
                  <a:pt x="204117" y="47855"/>
                </a:lnTo>
                <a:lnTo>
                  <a:pt x="204734" y="41709"/>
                </a:lnTo>
                <a:lnTo>
                  <a:pt x="203906" y="38681"/>
                </a:lnTo>
                <a:lnTo>
                  <a:pt x="200340" y="32670"/>
                </a:lnTo>
                <a:lnTo>
                  <a:pt x="195449" y="26691"/>
                </a:lnTo>
                <a:lnTo>
                  <a:pt x="188964" y="19509"/>
                </a:lnTo>
                <a:lnTo>
                  <a:pt x="187440" y="18920"/>
                </a:lnTo>
                <a:lnTo>
                  <a:pt x="181546" y="18091"/>
                </a:lnTo>
                <a:lnTo>
                  <a:pt x="178438" y="1774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SMARTInkAnnotation89"/>
          <p:cNvSpPr/>
          <p:nvPr/>
        </p:nvSpPr>
        <p:spPr>
          <a:xfrm>
            <a:off x="1731960" y="5180040"/>
            <a:ext cx="169920" cy="142920"/>
          </a:xfrm>
          <a:custGeom>
            <a:avLst/>
            <a:gdLst>
              <a:gd name="textAreaLeft" fmla="*/ 0 w 169920"/>
              <a:gd name="textAreaRight" fmla="*/ 170280 w 169920"/>
              <a:gd name="textAreaTop" fmla="*/ 0 h 142920"/>
              <a:gd name="textAreaBottom" fmla="*/ 143280 h 142920"/>
            </a:gdLst>
            <a:ahLst/>
            <a:rect l="textAreaLeft" t="textAreaTop" r="textAreaRight" b="textAreaBottom"/>
            <a:pathLst>
              <a:path w="169628" h="142875">
                <a:moveTo>
                  <a:pt x="17856" y="0"/>
                </a:moveTo>
                <a:lnTo>
                  <a:pt x="10168" y="0"/>
                </a:lnTo>
                <a:lnTo>
                  <a:pt x="9754" y="992"/>
                </a:lnTo>
                <a:lnTo>
                  <a:pt x="9294" y="4740"/>
                </a:lnTo>
                <a:lnTo>
                  <a:pt x="9036" y="7688"/>
                </a:lnTo>
                <a:lnTo>
                  <a:pt x="11621" y="11024"/>
                </a:lnTo>
                <a:lnTo>
                  <a:pt x="13699" y="13302"/>
                </a:lnTo>
                <a:lnTo>
                  <a:pt x="15085" y="16806"/>
                </a:lnTo>
                <a:lnTo>
                  <a:pt x="16009" y="21125"/>
                </a:lnTo>
                <a:lnTo>
                  <a:pt x="16625" y="25990"/>
                </a:lnTo>
                <a:lnTo>
                  <a:pt x="17035" y="30225"/>
                </a:lnTo>
                <a:lnTo>
                  <a:pt x="17309" y="34040"/>
                </a:lnTo>
                <a:lnTo>
                  <a:pt x="17491" y="37576"/>
                </a:lnTo>
                <a:lnTo>
                  <a:pt x="16621" y="41918"/>
                </a:lnTo>
                <a:lnTo>
                  <a:pt x="15048" y="46796"/>
                </a:lnTo>
                <a:lnTo>
                  <a:pt x="13008" y="52034"/>
                </a:lnTo>
                <a:lnTo>
                  <a:pt x="11647" y="57509"/>
                </a:lnTo>
                <a:lnTo>
                  <a:pt x="10740" y="63144"/>
                </a:lnTo>
                <a:lnTo>
                  <a:pt x="10136" y="68885"/>
                </a:lnTo>
                <a:lnTo>
                  <a:pt x="9733" y="74696"/>
                </a:lnTo>
                <a:lnTo>
                  <a:pt x="9464" y="80555"/>
                </a:lnTo>
                <a:lnTo>
                  <a:pt x="9285" y="86445"/>
                </a:lnTo>
                <a:lnTo>
                  <a:pt x="8173" y="91365"/>
                </a:lnTo>
                <a:lnTo>
                  <a:pt x="6440" y="95636"/>
                </a:lnTo>
                <a:lnTo>
                  <a:pt x="4292" y="99476"/>
                </a:lnTo>
                <a:lnTo>
                  <a:pt x="2860" y="104020"/>
                </a:lnTo>
                <a:lnTo>
                  <a:pt x="1906" y="109034"/>
                </a:lnTo>
                <a:lnTo>
                  <a:pt x="1269" y="114361"/>
                </a:lnTo>
                <a:lnTo>
                  <a:pt x="845" y="118905"/>
                </a:lnTo>
                <a:lnTo>
                  <a:pt x="563" y="122925"/>
                </a:lnTo>
                <a:lnTo>
                  <a:pt x="0" y="133888"/>
                </a:lnTo>
                <a:lnTo>
                  <a:pt x="4738" y="129188"/>
                </a:lnTo>
                <a:lnTo>
                  <a:pt x="6134" y="126804"/>
                </a:lnTo>
                <a:lnTo>
                  <a:pt x="7065" y="124223"/>
                </a:lnTo>
                <a:lnTo>
                  <a:pt x="7686" y="121511"/>
                </a:lnTo>
                <a:lnTo>
                  <a:pt x="9091" y="118710"/>
                </a:lnTo>
                <a:lnTo>
                  <a:pt x="11021" y="115851"/>
                </a:lnTo>
                <a:lnTo>
                  <a:pt x="13299" y="112952"/>
                </a:lnTo>
                <a:lnTo>
                  <a:pt x="15810" y="109036"/>
                </a:lnTo>
                <a:lnTo>
                  <a:pt x="18477" y="104440"/>
                </a:lnTo>
                <a:lnTo>
                  <a:pt x="24085" y="94042"/>
                </a:lnTo>
                <a:lnTo>
                  <a:pt x="41693" y="59425"/>
                </a:lnTo>
                <a:lnTo>
                  <a:pt x="56555" y="29751"/>
                </a:lnTo>
                <a:lnTo>
                  <a:pt x="59530" y="24795"/>
                </a:lnTo>
                <a:lnTo>
                  <a:pt x="62506" y="20499"/>
                </a:lnTo>
                <a:lnTo>
                  <a:pt x="65482" y="16642"/>
                </a:lnTo>
                <a:lnTo>
                  <a:pt x="68459" y="13079"/>
                </a:lnTo>
                <a:lnTo>
                  <a:pt x="71435" y="9712"/>
                </a:lnTo>
                <a:lnTo>
                  <a:pt x="74411" y="6474"/>
                </a:lnTo>
                <a:lnTo>
                  <a:pt x="77388" y="4316"/>
                </a:lnTo>
                <a:lnTo>
                  <a:pt x="80364" y="2877"/>
                </a:lnTo>
                <a:lnTo>
                  <a:pt x="89139" y="49"/>
                </a:lnTo>
                <a:lnTo>
                  <a:pt x="89225" y="2667"/>
                </a:lnTo>
                <a:lnTo>
                  <a:pt x="89290" y="20992"/>
                </a:lnTo>
                <a:lnTo>
                  <a:pt x="88299" y="24908"/>
                </a:lnTo>
                <a:lnTo>
                  <a:pt x="86646" y="29504"/>
                </a:lnTo>
                <a:lnTo>
                  <a:pt x="84552" y="34552"/>
                </a:lnTo>
                <a:lnTo>
                  <a:pt x="83156" y="39902"/>
                </a:lnTo>
                <a:lnTo>
                  <a:pt x="82225" y="45452"/>
                </a:lnTo>
                <a:lnTo>
                  <a:pt x="81605" y="51138"/>
                </a:lnTo>
                <a:lnTo>
                  <a:pt x="80199" y="55919"/>
                </a:lnTo>
                <a:lnTo>
                  <a:pt x="78270" y="60100"/>
                </a:lnTo>
                <a:lnTo>
                  <a:pt x="75991" y="63879"/>
                </a:lnTo>
                <a:lnTo>
                  <a:pt x="74472" y="67391"/>
                </a:lnTo>
                <a:lnTo>
                  <a:pt x="73460" y="70724"/>
                </a:lnTo>
                <a:lnTo>
                  <a:pt x="72784" y="73938"/>
                </a:lnTo>
                <a:lnTo>
                  <a:pt x="72335" y="78065"/>
                </a:lnTo>
                <a:lnTo>
                  <a:pt x="72034" y="82801"/>
                </a:lnTo>
                <a:lnTo>
                  <a:pt x="71553" y="95179"/>
                </a:lnTo>
                <a:lnTo>
                  <a:pt x="71445" y="105647"/>
                </a:lnTo>
                <a:lnTo>
                  <a:pt x="72434" y="106150"/>
                </a:lnTo>
                <a:lnTo>
                  <a:pt x="77573" y="106858"/>
                </a:lnTo>
                <a:lnTo>
                  <a:pt x="82459" y="107097"/>
                </a:lnTo>
                <a:lnTo>
                  <a:pt x="84737" y="107117"/>
                </a:lnTo>
                <a:lnTo>
                  <a:pt x="86256" y="106138"/>
                </a:lnTo>
                <a:lnTo>
                  <a:pt x="87268" y="104492"/>
                </a:lnTo>
                <a:lnTo>
                  <a:pt x="87944" y="102403"/>
                </a:lnTo>
                <a:lnTo>
                  <a:pt x="89386" y="100019"/>
                </a:lnTo>
                <a:lnTo>
                  <a:pt x="91339" y="97437"/>
                </a:lnTo>
                <a:lnTo>
                  <a:pt x="93634" y="94723"/>
                </a:lnTo>
                <a:lnTo>
                  <a:pt x="96156" y="91922"/>
                </a:lnTo>
                <a:lnTo>
                  <a:pt x="101604" y="86163"/>
                </a:lnTo>
                <a:lnTo>
                  <a:pt x="105438" y="83240"/>
                </a:lnTo>
                <a:lnTo>
                  <a:pt x="109979" y="80297"/>
                </a:lnTo>
                <a:lnTo>
                  <a:pt x="114990" y="77344"/>
                </a:lnTo>
                <a:lnTo>
                  <a:pt x="119323" y="75375"/>
                </a:lnTo>
                <a:lnTo>
                  <a:pt x="123204" y="74063"/>
                </a:lnTo>
                <a:lnTo>
                  <a:pt x="126783" y="73187"/>
                </a:lnTo>
                <a:lnTo>
                  <a:pt x="130162" y="71612"/>
                </a:lnTo>
                <a:lnTo>
                  <a:pt x="133406" y="69569"/>
                </a:lnTo>
                <a:lnTo>
                  <a:pt x="136562" y="67215"/>
                </a:lnTo>
                <a:lnTo>
                  <a:pt x="139657" y="65646"/>
                </a:lnTo>
                <a:lnTo>
                  <a:pt x="142713" y="64600"/>
                </a:lnTo>
                <a:lnTo>
                  <a:pt x="145743" y="63902"/>
                </a:lnTo>
                <a:lnTo>
                  <a:pt x="148754" y="63437"/>
                </a:lnTo>
                <a:lnTo>
                  <a:pt x="151754" y="63128"/>
                </a:lnTo>
                <a:lnTo>
                  <a:pt x="160206" y="62543"/>
                </a:lnTo>
                <a:lnTo>
                  <a:pt x="165316" y="62518"/>
                </a:lnTo>
                <a:lnTo>
                  <a:pt x="166764" y="63506"/>
                </a:lnTo>
                <a:lnTo>
                  <a:pt x="167730" y="65158"/>
                </a:lnTo>
                <a:lnTo>
                  <a:pt x="168374" y="67251"/>
                </a:lnTo>
                <a:lnTo>
                  <a:pt x="168802" y="69638"/>
                </a:lnTo>
                <a:lnTo>
                  <a:pt x="169089" y="72222"/>
                </a:lnTo>
                <a:lnTo>
                  <a:pt x="169280" y="74937"/>
                </a:lnTo>
                <a:lnTo>
                  <a:pt x="169407" y="78732"/>
                </a:lnTo>
                <a:lnTo>
                  <a:pt x="169627" y="100007"/>
                </a:lnTo>
                <a:lnTo>
                  <a:pt x="168646" y="103382"/>
                </a:lnTo>
                <a:lnTo>
                  <a:pt x="167000" y="106624"/>
                </a:lnTo>
                <a:lnTo>
                  <a:pt x="164911" y="109778"/>
                </a:lnTo>
                <a:lnTo>
                  <a:pt x="163517" y="112872"/>
                </a:lnTo>
                <a:lnTo>
                  <a:pt x="162589" y="115928"/>
                </a:lnTo>
                <a:lnTo>
                  <a:pt x="161970" y="118957"/>
                </a:lnTo>
                <a:lnTo>
                  <a:pt x="161557" y="121969"/>
                </a:lnTo>
                <a:lnTo>
                  <a:pt x="161282" y="124968"/>
                </a:lnTo>
                <a:lnTo>
                  <a:pt x="160840" y="132172"/>
                </a:lnTo>
                <a:lnTo>
                  <a:pt x="160780" y="135803"/>
                </a:lnTo>
                <a:lnTo>
                  <a:pt x="160731" y="14287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SMARTInkAnnotation90"/>
          <p:cNvSpPr/>
          <p:nvPr/>
        </p:nvSpPr>
        <p:spPr>
          <a:xfrm>
            <a:off x="1928880" y="5027760"/>
            <a:ext cx="115920" cy="401400"/>
          </a:xfrm>
          <a:custGeom>
            <a:avLst/>
            <a:gdLst>
              <a:gd name="textAreaLeft" fmla="*/ 0 w 115920"/>
              <a:gd name="textAreaRight" fmla="*/ 116280 w 115920"/>
              <a:gd name="textAreaTop" fmla="*/ 0 h 401400"/>
              <a:gd name="textAreaBottom" fmla="*/ 401760 h 401400"/>
            </a:gdLst>
            <a:ahLst/>
            <a:rect l="textAreaLeft" t="textAreaTop" r="textAreaRight" b="textAreaBottom"/>
            <a:pathLst>
              <a:path w="115706" h="401789">
                <a:moveTo>
                  <a:pt x="115705" y="0"/>
                </a:moveTo>
                <a:lnTo>
                  <a:pt x="115705" y="20990"/>
                </a:lnTo>
                <a:lnTo>
                  <a:pt x="113059" y="29503"/>
                </a:lnTo>
                <a:lnTo>
                  <a:pt x="109568" y="39902"/>
                </a:lnTo>
                <a:lnTo>
                  <a:pt x="108016" y="51137"/>
                </a:lnTo>
                <a:lnTo>
                  <a:pt x="107603" y="57905"/>
                </a:lnTo>
                <a:lnTo>
                  <a:pt x="107143" y="73360"/>
                </a:lnTo>
                <a:lnTo>
                  <a:pt x="106028" y="80657"/>
                </a:lnTo>
                <a:lnTo>
                  <a:pt x="104293" y="87506"/>
                </a:lnTo>
                <a:lnTo>
                  <a:pt x="32361" y="303610"/>
                </a:lnTo>
                <a:lnTo>
                  <a:pt x="30377" y="311547"/>
                </a:lnTo>
                <a:lnTo>
                  <a:pt x="29054" y="318823"/>
                </a:lnTo>
                <a:lnTo>
                  <a:pt x="28172" y="325658"/>
                </a:lnTo>
                <a:lnTo>
                  <a:pt x="26592" y="332199"/>
                </a:lnTo>
                <a:lnTo>
                  <a:pt x="24546" y="338544"/>
                </a:lnTo>
                <a:lnTo>
                  <a:pt x="22190" y="344759"/>
                </a:lnTo>
                <a:lnTo>
                  <a:pt x="19627" y="350886"/>
                </a:lnTo>
                <a:lnTo>
                  <a:pt x="16927" y="356955"/>
                </a:lnTo>
                <a:lnTo>
                  <a:pt x="14134" y="362986"/>
                </a:lnTo>
                <a:lnTo>
                  <a:pt x="11031" y="372332"/>
                </a:lnTo>
                <a:lnTo>
                  <a:pt x="9284" y="383172"/>
                </a:lnTo>
                <a:lnTo>
                  <a:pt x="9039" y="386417"/>
                </a:lnTo>
                <a:lnTo>
                  <a:pt x="7883" y="389572"/>
                </a:lnTo>
                <a:lnTo>
                  <a:pt x="6121" y="392668"/>
                </a:lnTo>
                <a:lnTo>
                  <a:pt x="0" y="401299"/>
                </a:lnTo>
                <a:lnTo>
                  <a:pt x="2434" y="401598"/>
                </a:lnTo>
                <a:lnTo>
                  <a:pt x="7341" y="401788"/>
                </a:lnTo>
                <a:lnTo>
                  <a:pt x="7744" y="400812"/>
                </a:lnTo>
                <a:lnTo>
                  <a:pt x="8478" y="392739"/>
                </a:lnTo>
                <a:lnTo>
                  <a:pt x="8549" y="38397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SMARTInkAnnotation91"/>
          <p:cNvSpPr/>
          <p:nvPr/>
        </p:nvSpPr>
        <p:spPr>
          <a:xfrm>
            <a:off x="2054160" y="5205240"/>
            <a:ext cx="160560" cy="162000"/>
          </a:xfrm>
          <a:custGeom>
            <a:avLst/>
            <a:gdLst>
              <a:gd name="textAreaLeft" fmla="*/ 0 w 160560"/>
              <a:gd name="textAreaRight" fmla="*/ 160920 w 160560"/>
              <a:gd name="textAreaTop" fmla="*/ 0 h 162000"/>
              <a:gd name="textAreaBottom" fmla="*/ 162360 h 162000"/>
            </a:gdLst>
            <a:ahLst/>
            <a:rect l="textAreaLeft" t="textAreaTop" r="textAreaRight" b="textAreaBottom"/>
            <a:pathLst>
              <a:path w="160578" h="160626">
                <a:moveTo>
                  <a:pt x="107156" y="35609"/>
                </a:moveTo>
                <a:lnTo>
                  <a:pt x="145598" y="20233"/>
                </a:lnTo>
                <a:lnTo>
                  <a:pt x="148659" y="18413"/>
                </a:lnTo>
                <a:lnTo>
                  <a:pt x="151691" y="16208"/>
                </a:lnTo>
                <a:lnTo>
                  <a:pt x="160577" y="8949"/>
                </a:lnTo>
                <a:lnTo>
                  <a:pt x="155947" y="4118"/>
                </a:lnTo>
                <a:lnTo>
                  <a:pt x="153574" y="2709"/>
                </a:lnTo>
                <a:lnTo>
                  <a:pt x="151000" y="1770"/>
                </a:lnTo>
                <a:lnTo>
                  <a:pt x="148291" y="1143"/>
                </a:lnTo>
                <a:lnTo>
                  <a:pt x="145493" y="726"/>
                </a:lnTo>
                <a:lnTo>
                  <a:pt x="142636" y="447"/>
                </a:lnTo>
                <a:lnTo>
                  <a:pt x="139739" y="262"/>
                </a:lnTo>
                <a:lnTo>
                  <a:pt x="133874" y="55"/>
                </a:lnTo>
                <a:lnTo>
                  <a:pt x="130921" y="0"/>
                </a:lnTo>
                <a:lnTo>
                  <a:pt x="126968" y="956"/>
                </a:lnTo>
                <a:lnTo>
                  <a:pt x="122348" y="2585"/>
                </a:lnTo>
                <a:lnTo>
                  <a:pt x="117284" y="4664"/>
                </a:lnTo>
                <a:lnTo>
                  <a:pt x="112916" y="6049"/>
                </a:lnTo>
                <a:lnTo>
                  <a:pt x="109011" y="6973"/>
                </a:lnTo>
                <a:lnTo>
                  <a:pt x="105416" y="7588"/>
                </a:lnTo>
                <a:lnTo>
                  <a:pt x="102028" y="8000"/>
                </a:lnTo>
                <a:lnTo>
                  <a:pt x="98776" y="8273"/>
                </a:lnTo>
                <a:lnTo>
                  <a:pt x="95616" y="8455"/>
                </a:lnTo>
                <a:lnTo>
                  <a:pt x="92517" y="9570"/>
                </a:lnTo>
                <a:lnTo>
                  <a:pt x="89459" y="11304"/>
                </a:lnTo>
                <a:lnTo>
                  <a:pt x="86428" y="13453"/>
                </a:lnTo>
                <a:lnTo>
                  <a:pt x="83416" y="15877"/>
                </a:lnTo>
                <a:lnTo>
                  <a:pt x="80415" y="18486"/>
                </a:lnTo>
                <a:lnTo>
                  <a:pt x="73211" y="25062"/>
                </a:lnTo>
                <a:lnTo>
                  <a:pt x="72620" y="26593"/>
                </a:lnTo>
                <a:lnTo>
                  <a:pt x="71963" y="30941"/>
                </a:lnTo>
                <a:lnTo>
                  <a:pt x="71787" y="33489"/>
                </a:lnTo>
                <a:lnTo>
                  <a:pt x="71671" y="36180"/>
                </a:lnTo>
                <a:lnTo>
                  <a:pt x="71541" y="41816"/>
                </a:lnTo>
                <a:lnTo>
                  <a:pt x="71441" y="73073"/>
                </a:lnTo>
                <a:lnTo>
                  <a:pt x="72432" y="77453"/>
                </a:lnTo>
                <a:lnTo>
                  <a:pt x="74085" y="82357"/>
                </a:lnTo>
                <a:lnTo>
                  <a:pt x="76179" y="87610"/>
                </a:lnTo>
                <a:lnTo>
                  <a:pt x="78567" y="92104"/>
                </a:lnTo>
                <a:lnTo>
                  <a:pt x="81151" y="96093"/>
                </a:lnTo>
                <a:lnTo>
                  <a:pt x="83866" y="99744"/>
                </a:lnTo>
                <a:lnTo>
                  <a:pt x="86669" y="103170"/>
                </a:lnTo>
                <a:lnTo>
                  <a:pt x="89529" y="106447"/>
                </a:lnTo>
                <a:lnTo>
                  <a:pt x="92428" y="109624"/>
                </a:lnTo>
                <a:lnTo>
                  <a:pt x="98295" y="115799"/>
                </a:lnTo>
                <a:lnTo>
                  <a:pt x="120412" y="138162"/>
                </a:lnTo>
                <a:lnTo>
                  <a:pt x="120954" y="139697"/>
                </a:lnTo>
                <a:lnTo>
                  <a:pt x="120324" y="140720"/>
                </a:lnTo>
                <a:lnTo>
                  <a:pt x="116333" y="142646"/>
                </a:lnTo>
                <a:lnTo>
                  <a:pt x="111418" y="142730"/>
                </a:lnTo>
                <a:lnTo>
                  <a:pt x="109998" y="143734"/>
                </a:lnTo>
                <a:lnTo>
                  <a:pt x="109050" y="145396"/>
                </a:lnTo>
                <a:lnTo>
                  <a:pt x="108419" y="147496"/>
                </a:lnTo>
                <a:lnTo>
                  <a:pt x="106013" y="148895"/>
                </a:lnTo>
                <a:lnTo>
                  <a:pt x="102426" y="149828"/>
                </a:lnTo>
                <a:lnTo>
                  <a:pt x="98049" y="150451"/>
                </a:lnTo>
                <a:lnTo>
                  <a:pt x="94139" y="150866"/>
                </a:lnTo>
                <a:lnTo>
                  <a:pt x="90541" y="151142"/>
                </a:lnTo>
                <a:lnTo>
                  <a:pt x="87149" y="151326"/>
                </a:lnTo>
                <a:lnTo>
                  <a:pt x="80735" y="151532"/>
                </a:lnTo>
                <a:lnTo>
                  <a:pt x="65533" y="151674"/>
                </a:lnTo>
                <a:lnTo>
                  <a:pt x="37483" y="151695"/>
                </a:lnTo>
                <a:lnTo>
                  <a:pt x="33857" y="154341"/>
                </a:lnTo>
                <a:lnTo>
                  <a:pt x="31501" y="156435"/>
                </a:lnTo>
                <a:lnTo>
                  <a:pt x="28938" y="157832"/>
                </a:lnTo>
                <a:lnTo>
                  <a:pt x="26237" y="158763"/>
                </a:lnTo>
                <a:lnTo>
                  <a:pt x="18349" y="160516"/>
                </a:lnTo>
                <a:lnTo>
                  <a:pt x="15431" y="160576"/>
                </a:lnTo>
                <a:lnTo>
                  <a:pt x="0" y="16062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SMARTInkAnnotation92"/>
          <p:cNvSpPr/>
          <p:nvPr/>
        </p:nvSpPr>
        <p:spPr>
          <a:xfrm>
            <a:off x="1054080" y="5278320"/>
            <a:ext cx="142920" cy="507960"/>
          </a:xfrm>
          <a:custGeom>
            <a:avLst/>
            <a:gdLst>
              <a:gd name="textAreaLeft" fmla="*/ 0 w 142920"/>
              <a:gd name="textAreaRight" fmla="*/ 143280 w 142920"/>
              <a:gd name="textAreaTop" fmla="*/ 0 h 507960"/>
              <a:gd name="textAreaBottom" fmla="*/ 508320 h 507960"/>
            </a:gdLst>
            <a:ahLst/>
            <a:rect l="textAreaLeft" t="textAreaTop" r="textAreaRight" b="textAreaBottom"/>
            <a:pathLst>
              <a:path w="142876" h="508434">
                <a:moveTo>
                  <a:pt x="0" y="26386"/>
                </a:moveTo>
                <a:lnTo>
                  <a:pt x="0" y="0"/>
                </a:lnTo>
                <a:lnTo>
                  <a:pt x="0" y="12061"/>
                </a:lnTo>
                <a:lnTo>
                  <a:pt x="992" y="14852"/>
                </a:lnTo>
                <a:lnTo>
                  <a:pt x="4740" y="20599"/>
                </a:lnTo>
                <a:lnTo>
                  <a:pt x="7068" y="26460"/>
                </a:lnTo>
                <a:lnTo>
                  <a:pt x="7688" y="29411"/>
                </a:lnTo>
                <a:lnTo>
                  <a:pt x="11023" y="35338"/>
                </a:lnTo>
                <a:lnTo>
                  <a:pt x="13302" y="38307"/>
                </a:lnTo>
                <a:lnTo>
                  <a:pt x="14821" y="42271"/>
                </a:lnTo>
                <a:lnTo>
                  <a:pt x="16959" y="57330"/>
                </a:lnTo>
                <a:lnTo>
                  <a:pt x="17459" y="68582"/>
                </a:lnTo>
                <a:lnTo>
                  <a:pt x="17741" y="86073"/>
                </a:lnTo>
                <a:lnTo>
                  <a:pt x="20452" y="97893"/>
                </a:lnTo>
                <a:lnTo>
                  <a:pt x="23972" y="110753"/>
                </a:lnTo>
                <a:lnTo>
                  <a:pt x="25537" y="126390"/>
                </a:lnTo>
                <a:lnTo>
                  <a:pt x="26233" y="140616"/>
                </a:lnTo>
                <a:lnTo>
                  <a:pt x="26542" y="154545"/>
                </a:lnTo>
                <a:lnTo>
                  <a:pt x="26786" y="249665"/>
                </a:lnTo>
                <a:lnTo>
                  <a:pt x="27779" y="258583"/>
                </a:lnTo>
                <a:lnTo>
                  <a:pt x="29433" y="267503"/>
                </a:lnTo>
                <a:lnTo>
                  <a:pt x="31528" y="276428"/>
                </a:lnTo>
                <a:lnTo>
                  <a:pt x="32925" y="285354"/>
                </a:lnTo>
                <a:lnTo>
                  <a:pt x="33856" y="294282"/>
                </a:lnTo>
                <a:lnTo>
                  <a:pt x="34477" y="303209"/>
                </a:lnTo>
                <a:lnTo>
                  <a:pt x="35883" y="315115"/>
                </a:lnTo>
                <a:lnTo>
                  <a:pt x="41610" y="356344"/>
                </a:lnTo>
                <a:lnTo>
                  <a:pt x="42623" y="366413"/>
                </a:lnTo>
                <a:lnTo>
                  <a:pt x="43298" y="375110"/>
                </a:lnTo>
                <a:lnTo>
                  <a:pt x="44048" y="390064"/>
                </a:lnTo>
                <a:lnTo>
                  <a:pt x="45374" y="404317"/>
                </a:lnTo>
                <a:lnTo>
                  <a:pt x="47116" y="412286"/>
                </a:lnTo>
                <a:lnTo>
                  <a:pt x="50706" y="428084"/>
                </a:lnTo>
                <a:lnTo>
                  <a:pt x="52301" y="441720"/>
                </a:lnTo>
                <a:lnTo>
                  <a:pt x="53010" y="454396"/>
                </a:lnTo>
                <a:lnTo>
                  <a:pt x="53410" y="470042"/>
                </a:lnTo>
                <a:lnTo>
                  <a:pt x="53545" y="484218"/>
                </a:lnTo>
                <a:lnTo>
                  <a:pt x="54548" y="487380"/>
                </a:lnTo>
                <a:lnTo>
                  <a:pt x="58308" y="493540"/>
                </a:lnTo>
                <a:lnTo>
                  <a:pt x="60641" y="499586"/>
                </a:lnTo>
                <a:lnTo>
                  <a:pt x="62475" y="508433"/>
                </a:lnTo>
                <a:lnTo>
                  <a:pt x="62507" y="471087"/>
                </a:lnTo>
                <a:lnTo>
                  <a:pt x="59862" y="461825"/>
                </a:lnTo>
                <a:lnTo>
                  <a:pt x="56371" y="451094"/>
                </a:lnTo>
                <a:lnTo>
                  <a:pt x="54819" y="439711"/>
                </a:lnTo>
                <a:lnTo>
                  <a:pt x="54129" y="428037"/>
                </a:lnTo>
                <a:lnTo>
                  <a:pt x="53823" y="416233"/>
                </a:lnTo>
                <a:lnTo>
                  <a:pt x="53587" y="368687"/>
                </a:lnTo>
                <a:lnTo>
                  <a:pt x="56228" y="356783"/>
                </a:lnTo>
                <a:lnTo>
                  <a:pt x="60647" y="341570"/>
                </a:lnTo>
                <a:lnTo>
                  <a:pt x="62140" y="327541"/>
                </a:lnTo>
                <a:lnTo>
                  <a:pt x="63254" y="324391"/>
                </a:lnTo>
                <a:lnTo>
                  <a:pt x="67139" y="318244"/>
                </a:lnTo>
                <a:lnTo>
                  <a:pt x="69564" y="315216"/>
                </a:lnTo>
                <a:lnTo>
                  <a:pt x="72173" y="312204"/>
                </a:lnTo>
                <a:lnTo>
                  <a:pt x="79887" y="303733"/>
                </a:lnTo>
                <a:lnTo>
                  <a:pt x="82800" y="303440"/>
                </a:lnTo>
                <a:lnTo>
                  <a:pt x="84965" y="303362"/>
                </a:lnTo>
                <a:lnTo>
                  <a:pt x="87401" y="304302"/>
                </a:lnTo>
                <a:lnTo>
                  <a:pt x="90017" y="305921"/>
                </a:lnTo>
                <a:lnTo>
                  <a:pt x="92754" y="307993"/>
                </a:lnTo>
                <a:lnTo>
                  <a:pt x="94578" y="310366"/>
                </a:lnTo>
                <a:lnTo>
                  <a:pt x="95794" y="312940"/>
                </a:lnTo>
                <a:lnTo>
                  <a:pt x="96605" y="315648"/>
                </a:lnTo>
                <a:lnTo>
                  <a:pt x="100151" y="321304"/>
                </a:lnTo>
                <a:lnTo>
                  <a:pt x="102486" y="324201"/>
                </a:lnTo>
                <a:lnTo>
                  <a:pt x="104043" y="327124"/>
                </a:lnTo>
                <a:lnTo>
                  <a:pt x="107226" y="336972"/>
                </a:lnTo>
                <a:lnTo>
                  <a:pt x="111486" y="346656"/>
                </a:lnTo>
                <a:lnTo>
                  <a:pt x="114041" y="357575"/>
                </a:lnTo>
                <a:lnTo>
                  <a:pt x="116169" y="369042"/>
                </a:lnTo>
                <a:lnTo>
                  <a:pt x="120422" y="380753"/>
                </a:lnTo>
                <a:lnTo>
                  <a:pt x="122974" y="392572"/>
                </a:lnTo>
                <a:lnTo>
                  <a:pt x="124108" y="404440"/>
                </a:lnTo>
                <a:lnTo>
                  <a:pt x="124612" y="416330"/>
                </a:lnTo>
                <a:lnTo>
                  <a:pt x="125739" y="421285"/>
                </a:lnTo>
                <a:lnTo>
                  <a:pt x="129636" y="429438"/>
                </a:lnTo>
                <a:lnTo>
                  <a:pt x="132030" y="439016"/>
                </a:lnTo>
                <a:lnTo>
                  <a:pt x="132668" y="444347"/>
                </a:lnTo>
                <a:lnTo>
                  <a:pt x="136023" y="452918"/>
                </a:lnTo>
                <a:lnTo>
                  <a:pt x="138307" y="456592"/>
                </a:lnTo>
                <a:lnTo>
                  <a:pt x="140845" y="465966"/>
                </a:lnTo>
                <a:lnTo>
                  <a:pt x="142273" y="479754"/>
                </a:lnTo>
                <a:lnTo>
                  <a:pt x="142875" y="49072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SMARTInkAnnotation93"/>
          <p:cNvSpPr/>
          <p:nvPr/>
        </p:nvSpPr>
        <p:spPr>
          <a:xfrm>
            <a:off x="1285920" y="5626080"/>
            <a:ext cx="88920" cy="222120"/>
          </a:xfrm>
          <a:custGeom>
            <a:avLst/>
            <a:gdLst>
              <a:gd name="textAreaLeft" fmla="*/ 0 w 88920"/>
              <a:gd name="textAreaRight" fmla="*/ 89280 w 88920"/>
              <a:gd name="textAreaTop" fmla="*/ 0 h 222120"/>
              <a:gd name="textAreaBottom" fmla="*/ 222480 h 222120"/>
            </a:gdLst>
            <a:ahLst/>
            <a:rect l="textAreaLeft" t="textAreaTop" r="textAreaRight" b="textAreaBottom"/>
            <a:pathLst>
              <a:path w="89175" h="223125">
                <a:moveTo>
                  <a:pt x="89174" y="17741"/>
                </a:moveTo>
                <a:lnTo>
                  <a:pt x="89174" y="10053"/>
                </a:lnTo>
                <a:lnTo>
                  <a:pt x="86529" y="6717"/>
                </a:lnTo>
                <a:lnTo>
                  <a:pt x="81486" y="1232"/>
                </a:lnTo>
                <a:lnTo>
                  <a:pt x="80080" y="782"/>
                </a:lnTo>
                <a:lnTo>
                  <a:pt x="78151" y="482"/>
                </a:lnTo>
                <a:lnTo>
                  <a:pt x="75872" y="282"/>
                </a:lnTo>
                <a:lnTo>
                  <a:pt x="73361" y="149"/>
                </a:lnTo>
                <a:lnTo>
                  <a:pt x="67925" y="0"/>
                </a:lnTo>
                <a:lnTo>
                  <a:pt x="65086" y="953"/>
                </a:lnTo>
                <a:lnTo>
                  <a:pt x="62202" y="2580"/>
                </a:lnTo>
                <a:lnTo>
                  <a:pt x="59286" y="4657"/>
                </a:lnTo>
                <a:lnTo>
                  <a:pt x="56351" y="7034"/>
                </a:lnTo>
                <a:lnTo>
                  <a:pt x="53401" y="9611"/>
                </a:lnTo>
                <a:lnTo>
                  <a:pt x="50443" y="12321"/>
                </a:lnTo>
                <a:lnTo>
                  <a:pt x="44510" y="17978"/>
                </a:lnTo>
                <a:lnTo>
                  <a:pt x="41539" y="20876"/>
                </a:lnTo>
                <a:lnTo>
                  <a:pt x="38566" y="24792"/>
                </a:lnTo>
                <a:lnTo>
                  <a:pt x="35592" y="29387"/>
                </a:lnTo>
                <a:lnTo>
                  <a:pt x="32617" y="34435"/>
                </a:lnTo>
                <a:lnTo>
                  <a:pt x="29641" y="38792"/>
                </a:lnTo>
                <a:lnTo>
                  <a:pt x="26665" y="42689"/>
                </a:lnTo>
                <a:lnTo>
                  <a:pt x="23689" y="46279"/>
                </a:lnTo>
                <a:lnTo>
                  <a:pt x="20713" y="50658"/>
                </a:lnTo>
                <a:lnTo>
                  <a:pt x="17736" y="55560"/>
                </a:lnTo>
                <a:lnTo>
                  <a:pt x="14760" y="60814"/>
                </a:lnTo>
                <a:lnTo>
                  <a:pt x="12776" y="66300"/>
                </a:lnTo>
                <a:lnTo>
                  <a:pt x="11453" y="71942"/>
                </a:lnTo>
                <a:lnTo>
                  <a:pt x="10571" y="77688"/>
                </a:lnTo>
                <a:lnTo>
                  <a:pt x="8991" y="83502"/>
                </a:lnTo>
                <a:lnTo>
                  <a:pt x="6945" y="89363"/>
                </a:lnTo>
                <a:lnTo>
                  <a:pt x="4590" y="95255"/>
                </a:lnTo>
                <a:lnTo>
                  <a:pt x="3019" y="101167"/>
                </a:lnTo>
                <a:lnTo>
                  <a:pt x="1972" y="107093"/>
                </a:lnTo>
                <a:lnTo>
                  <a:pt x="1274" y="113028"/>
                </a:lnTo>
                <a:lnTo>
                  <a:pt x="808" y="118969"/>
                </a:lnTo>
                <a:lnTo>
                  <a:pt x="498" y="124914"/>
                </a:lnTo>
                <a:lnTo>
                  <a:pt x="154" y="136811"/>
                </a:lnTo>
                <a:lnTo>
                  <a:pt x="0" y="148713"/>
                </a:lnTo>
                <a:lnTo>
                  <a:pt x="951" y="154665"/>
                </a:lnTo>
                <a:lnTo>
                  <a:pt x="2578" y="160618"/>
                </a:lnTo>
                <a:lnTo>
                  <a:pt x="4654" y="166570"/>
                </a:lnTo>
                <a:lnTo>
                  <a:pt x="6039" y="171531"/>
                </a:lnTo>
                <a:lnTo>
                  <a:pt x="6962" y="175831"/>
                </a:lnTo>
                <a:lnTo>
                  <a:pt x="7577" y="179689"/>
                </a:lnTo>
                <a:lnTo>
                  <a:pt x="8979" y="184245"/>
                </a:lnTo>
                <a:lnTo>
                  <a:pt x="10906" y="189268"/>
                </a:lnTo>
                <a:lnTo>
                  <a:pt x="13183" y="194600"/>
                </a:lnTo>
                <a:lnTo>
                  <a:pt x="15693" y="199147"/>
                </a:lnTo>
                <a:lnTo>
                  <a:pt x="18359" y="203171"/>
                </a:lnTo>
                <a:lnTo>
                  <a:pt x="21128" y="206845"/>
                </a:lnTo>
                <a:lnTo>
                  <a:pt x="23966" y="209295"/>
                </a:lnTo>
                <a:lnTo>
                  <a:pt x="26851" y="210928"/>
                </a:lnTo>
                <a:lnTo>
                  <a:pt x="29766" y="212017"/>
                </a:lnTo>
                <a:lnTo>
                  <a:pt x="31709" y="213735"/>
                </a:lnTo>
                <a:lnTo>
                  <a:pt x="33005" y="215873"/>
                </a:lnTo>
                <a:lnTo>
                  <a:pt x="35085" y="221692"/>
                </a:lnTo>
                <a:lnTo>
                  <a:pt x="36247" y="222169"/>
                </a:lnTo>
                <a:lnTo>
                  <a:pt x="38015" y="222488"/>
                </a:lnTo>
                <a:lnTo>
                  <a:pt x="44526" y="22312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SMARTInkAnnotation94"/>
          <p:cNvSpPr/>
          <p:nvPr/>
        </p:nvSpPr>
        <p:spPr>
          <a:xfrm>
            <a:off x="1241280" y="5715000"/>
            <a:ext cx="125640" cy="36360"/>
          </a:xfrm>
          <a:custGeom>
            <a:avLst/>
            <a:gdLst>
              <a:gd name="textAreaLeft" fmla="*/ 0 w 125640"/>
              <a:gd name="textAreaRight" fmla="*/ 126000 w 125640"/>
              <a:gd name="textAreaTop" fmla="*/ 0 h 36360"/>
              <a:gd name="textAreaBottom" fmla="*/ 36720 h 36360"/>
            </a:gdLst>
            <a:ahLst/>
            <a:rect l="textAreaLeft" t="textAreaTop" r="textAreaRight" b="textAreaBottom"/>
            <a:pathLst>
              <a:path w="125017" h="35719">
                <a:moveTo>
                  <a:pt x="0" y="0"/>
                </a:moveTo>
                <a:lnTo>
                  <a:pt x="20991" y="0"/>
                </a:lnTo>
                <a:lnTo>
                  <a:pt x="23916" y="992"/>
                </a:lnTo>
                <a:lnTo>
                  <a:pt x="26858" y="2645"/>
                </a:lnTo>
                <a:lnTo>
                  <a:pt x="29812" y="4740"/>
                </a:lnTo>
                <a:lnTo>
                  <a:pt x="33765" y="6137"/>
                </a:lnTo>
                <a:lnTo>
                  <a:pt x="38385" y="7067"/>
                </a:lnTo>
                <a:lnTo>
                  <a:pt x="43450" y="7688"/>
                </a:lnTo>
                <a:lnTo>
                  <a:pt x="48810" y="9094"/>
                </a:lnTo>
                <a:lnTo>
                  <a:pt x="54368" y="11024"/>
                </a:lnTo>
                <a:lnTo>
                  <a:pt x="60058" y="13302"/>
                </a:lnTo>
                <a:lnTo>
                  <a:pt x="64843" y="14821"/>
                </a:lnTo>
                <a:lnTo>
                  <a:pt x="69026" y="15834"/>
                </a:lnTo>
                <a:lnTo>
                  <a:pt x="72806" y="16509"/>
                </a:lnTo>
                <a:lnTo>
                  <a:pt x="77311" y="17951"/>
                </a:lnTo>
                <a:lnTo>
                  <a:pt x="82298" y="19905"/>
                </a:lnTo>
                <a:lnTo>
                  <a:pt x="87608" y="22200"/>
                </a:lnTo>
                <a:lnTo>
                  <a:pt x="92140" y="23729"/>
                </a:lnTo>
                <a:lnTo>
                  <a:pt x="96153" y="24749"/>
                </a:lnTo>
                <a:lnTo>
                  <a:pt x="99821" y="25429"/>
                </a:lnTo>
                <a:lnTo>
                  <a:pt x="103258" y="26874"/>
                </a:lnTo>
                <a:lnTo>
                  <a:pt x="106542" y="28830"/>
                </a:lnTo>
                <a:lnTo>
                  <a:pt x="109723" y="31127"/>
                </a:lnTo>
                <a:lnTo>
                  <a:pt x="112836" y="32657"/>
                </a:lnTo>
                <a:lnTo>
                  <a:pt x="115904" y="33677"/>
                </a:lnTo>
                <a:lnTo>
                  <a:pt x="125016" y="35718"/>
                </a:lnTo>
              </a:path>
            </a:pathLst>
          </a:custGeom>
          <a:noFill/>
          <a:ln w="38160">
            <a:solidFill>
              <a:srgbClr val="009300"/>
            </a:solidFill>
            <a:round/>
          </a:ln>
        </p:spPr>
        <p:style>
          <a:lnRef idx="0"/>
          <a:fillRef idx="0"/>
          <a:effectRef idx="0"/>
          <a:fontRef idx="minor"/>
        </p:style>
        <p:txBody>
          <a:bodyPr lIns="90000" rIns="90000" tIns="-10080" bIns="-10080" anchor="ctr">
            <a:noAutofit/>
          </a:bodyPr>
          <a:p>
            <a:endParaRPr b="0" lang="en-US" sz="1800" spc="-1" strike="noStrike">
              <a:solidFill>
                <a:srgbClr val="ffffff"/>
              </a:solidFill>
              <a:latin typeface="Arial"/>
            </a:endParaRPr>
          </a:p>
        </p:txBody>
      </p:sp>
      <p:sp>
        <p:nvSpPr>
          <p:cNvPr id="314" name="SMARTInkAnnotation95"/>
          <p:cNvSpPr/>
          <p:nvPr/>
        </p:nvSpPr>
        <p:spPr>
          <a:xfrm>
            <a:off x="1463760" y="5688000"/>
            <a:ext cx="117360" cy="27000"/>
          </a:xfrm>
          <a:custGeom>
            <a:avLst/>
            <a:gdLst>
              <a:gd name="textAreaLeft" fmla="*/ 0 w 117360"/>
              <a:gd name="textAreaRight" fmla="*/ 117720 w 117360"/>
              <a:gd name="textAreaTop" fmla="*/ 0 h 27000"/>
              <a:gd name="textAreaBottom" fmla="*/ 27360 h 27000"/>
            </a:gdLst>
            <a:ahLst/>
            <a:rect l="textAreaLeft" t="textAreaTop" r="textAreaRight" b="textAreaBottom"/>
            <a:pathLst>
              <a:path w="116087" h="26790">
                <a:moveTo>
                  <a:pt x="0" y="0"/>
                </a:moveTo>
                <a:lnTo>
                  <a:pt x="34552" y="0"/>
                </a:lnTo>
                <a:lnTo>
                  <a:pt x="40894" y="992"/>
                </a:lnTo>
                <a:lnTo>
                  <a:pt x="48099" y="2645"/>
                </a:lnTo>
                <a:lnTo>
                  <a:pt x="55879" y="4740"/>
                </a:lnTo>
                <a:lnTo>
                  <a:pt x="63049" y="7129"/>
                </a:lnTo>
                <a:lnTo>
                  <a:pt x="69814" y="9713"/>
                </a:lnTo>
                <a:lnTo>
                  <a:pt x="76308" y="12429"/>
                </a:lnTo>
                <a:lnTo>
                  <a:pt x="81630" y="14238"/>
                </a:lnTo>
                <a:lnTo>
                  <a:pt x="86170" y="15445"/>
                </a:lnTo>
                <a:lnTo>
                  <a:pt x="90189" y="16250"/>
                </a:lnTo>
                <a:lnTo>
                  <a:pt x="93861" y="17779"/>
                </a:lnTo>
                <a:lnTo>
                  <a:pt x="97301" y="19790"/>
                </a:lnTo>
                <a:lnTo>
                  <a:pt x="100586" y="22123"/>
                </a:lnTo>
                <a:lnTo>
                  <a:pt x="103768" y="23678"/>
                </a:lnTo>
                <a:lnTo>
                  <a:pt x="106882" y="24715"/>
                </a:lnTo>
                <a:lnTo>
                  <a:pt x="116086" y="26789"/>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ffffff"/>
              </a:solidFill>
              <a:latin typeface="Arial"/>
            </a:endParaRPr>
          </a:p>
        </p:txBody>
      </p:sp>
      <p:sp>
        <p:nvSpPr>
          <p:cNvPr id="315" name="SMARTInkAnnotation96"/>
          <p:cNvSpPr/>
          <p:nvPr/>
        </p:nvSpPr>
        <p:spPr>
          <a:xfrm>
            <a:off x="1463760" y="5796000"/>
            <a:ext cx="135000" cy="17280"/>
          </a:xfrm>
          <a:custGeom>
            <a:avLst/>
            <a:gdLst>
              <a:gd name="textAreaLeft" fmla="*/ 0 w 135000"/>
              <a:gd name="textAreaRight" fmla="*/ 135360 w 135000"/>
              <a:gd name="textAreaTop" fmla="*/ 0 h 17280"/>
              <a:gd name="textAreaBottom" fmla="*/ 17640 h 17280"/>
            </a:gdLst>
            <a:ahLst/>
            <a:rect l="textAreaLeft" t="textAreaTop" r="textAreaRight" b="textAreaBottom"/>
            <a:pathLst>
              <a:path w="133947" h="17860">
                <a:moveTo>
                  <a:pt x="0" y="0"/>
                </a:moveTo>
                <a:lnTo>
                  <a:pt x="4741" y="4740"/>
                </a:lnTo>
                <a:lnTo>
                  <a:pt x="7129" y="6137"/>
                </a:lnTo>
                <a:lnTo>
                  <a:pt x="9714" y="7067"/>
                </a:lnTo>
                <a:lnTo>
                  <a:pt x="12429" y="7688"/>
                </a:lnTo>
                <a:lnTo>
                  <a:pt x="15232" y="8102"/>
                </a:lnTo>
                <a:lnTo>
                  <a:pt x="18092" y="8378"/>
                </a:lnTo>
                <a:lnTo>
                  <a:pt x="20991" y="8562"/>
                </a:lnTo>
                <a:lnTo>
                  <a:pt x="29504" y="8766"/>
                </a:lnTo>
                <a:lnTo>
                  <a:pt x="34552" y="8820"/>
                </a:lnTo>
                <a:lnTo>
                  <a:pt x="38910" y="9849"/>
                </a:lnTo>
                <a:lnTo>
                  <a:pt x="42807" y="11527"/>
                </a:lnTo>
                <a:lnTo>
                  <a:pt x="46398" y="13637"/>
                </a:lnTo>
                <a:lnTo>
                  <a:pt x="50776" y="15045"/>
                </a:lnTo>
                <a:lnTo>
                  <a:pt x="55679" y="15982"/>
                </a:lnTo>
                <a:lnTo>
                  <a:pt x="60932" y="16608"/>
                </a:lnTo>
                <a:lnTo>
                  <a:pt x="66418" y="17025"/>
                </a:lnTo>
                <a:lnTo>
                  <a:pt x="72060" y="17303"/>
                </a:lnTo>
                <a:lnTo>
                  <a:pt x="83621" y="17611"/>
                </a:lnTo>
                <a:lnTo>
                  <a:pt x="133946" y="17859"/>
                </a:lnTo>
              </a:path>
            </a:pathLst>
          </a:custGeom>
          <a:noFill/>
          <a:ln w="38160">
            <a:solidFill>
              <a:srgbClr val="009300"/>
            </a:solidFill>
            <a:roun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16" name="SMARTInkAnnotation97"/>
          <p:cNvSpPr/>
          <p:nvPr/>
        </p:nvSpPr>
        <p:spPr>
          <a:xfrm>
            <a:off x="1625760" y="5626080"/>
            <a:ext cx="214200" cy="258840"/>
          </a:xfrm>
          <a:custGeom>
            <a:avLst/>
            <a:gdLst>
              <a:gd name="textAreaLeft" fmla="*/ 0 w 214200"/>
              <a:gd name="textAreaRight" fmla="*/ 214560 w 214200"/>
              <a:gd name="textAreaTop" fmla="*/ 0 h 258840"/>
              <a:gd name="textAreaBottom" fmla="*/ 259200 h 258840"/>
            </a:gdLst>
            <a:ahLst/>
            <a:rect l="textAreaLeft" t="textAreaTop" r="textAreaRight" b="textAreaBottom"/>
            <a:pathLst>
              <a:path w="214313" h="258962">
                <a:moveTo>
                  <a:pt x="0" y="0"/>
                </a:moveTo>
                <a:lnTo>
                  <a:pt x="55240" y="0"/>
                </a:lnTo>
                <a:lnTo>
                  <a:pt x="60640" y="992"/>
                </a:lnTo>
                <a:lnTo>
                  <a:pt x="67215" y="2645"/>
                </a:lnTo>
                <a:lnTo>
                  <a:pt x="74575" y="4740"/>
                </a:lnTo>
                <a:lnTo>
                  <a:pt x="81467" y="7129"/>
                </a:lnTo>
                <a:lnTo>
                  <a:pt x="88046" y="9713"/>
                </a:lnTo>
                <a:lnTo>
                  <a:pt x="94416" y="12428"/>
                </a:lnTo>
                <a:lnTo>
                  <a:pt x="106785" y="18091"/>
                </a:lnTo>
                <a:lnTo>
                  <a:pt x="112862" y="20990"/>
                </a:lnTo>
                <a:lnTo>
                  <a:pt x="118897" y="24907"/>
                </a:lnTo>
                <a:lnTo>
                  <a:pt x="124906" y="29503"/>
                </a:lnTo>
                <a:lnTo>
                  <a:pt x="130895" y="34551"/>
                </a:lnTo>
                <a:lnTo>
                  <a:pt x="136873" y="39901"/>
                </a:lnTo>
                <a:lnTo>
                  <a:pt x="148806" y="51137"/>
                </a:lnTo>
                <a:lnTo>
                  <a:pt x="153774" y="56912"/>
                </a:lnTo>
                <a:lnTo>
                  <a:pt x="158079" y="62746"/>
                </a:lnTo>
                <a:lnTo>
                  <a:pt x="161940" y="68619"/>
                </a:lnTo>
                <a:lnTo>
                  <a:pt x="165507" y="74520"/>
                </a:lnTo>
                <a:lnTo>
                  <a:pt x="168877" y="80438"/>
                </a:lnTo>
                <a:lnTo>
                  <a:pt x="175267" y="92304"/>
                </a:lnTo>
                <a:lnTo>
                  <a:pt x="181415" y="104193"/>
                </a:lnTo>
                <a:lnTo>
                  <a:pt x="183451" y="111134"/>
                </a:lnTo>
                <a:lnTo>
                  <a:pt x="184808" y="118738"/>
                </a:lnTo>
                <a:lnTo>
                  <a:pt x="185713" y="126783"/>
                </a:lnTo>
                <a:lnTo>
                  <a:pt x="186316" y="134131"/>
                </a:lnTo>
                <a:lnTo>
                  <a:pt x="186719" y="141015"/>
                </a:lnTo>
                <a:lnTo>
                  <a:pt x="187166" y="153955"/>
                </a:lnTo>
                <a:lnTo>
                  <a:pt x="187364" y="166320"/>
                </a:lnTo>
                <a:lnTo>
                  <a:pt x="186425" y="172396"/>
                </a:lnTo>
                <a:lnTo>
                  <a:pt x="184807" y="178430"/>
                </a:lnTo>
                <a:lnTo>
                  <a:pt x="182736" y="184438"/>
                </a:lnTo>
                <a:lnTo>
                  <a:pt x="180363" y="190427"/>
                </a:lnTo>
                <a:lnTo>
                  <a:pt x="177789" y="196404"/>
                </a:lnTo>
                <a:lnTo>
                  <a:pt x="175080" y="202374"/>
                </a:lnTo>
                <a:lnTo>
                  <a:pt x="171290" y="207345"/>
                </a:lnTo>
                <a:lnTo>
                  <a:pt x="166780" y="211652"/>
                </a:lnTo>
                <a:lnTo>
                  <a:pt x="161788" y="215515"/>
                </a:lnTo>
                <a:lnTo>
                  <a:pt x="157468" y="220075"/>
                </a:lnTo>
                <a:lnTo>
                  <a:pt x="153595" y="225099"/>
                </a:lnTo>
                <a:lnTo>
                  <a:pt x="150022" y="230434"/>
                </a:lnTo>
                <a:lnTo>
                  <a:pt x="145655" y="233989"/>
                </a:lnTo>
                <a:lnTo>
                  <a:pt x="140760" y="236360"/>
                </a:lnTo>
                <a:lnTo>
                  <a:pt x="135512" y="237940"/>
                </a:lnTo>
                <a:lnTo>
                  <a:pt x="131021" y="239986"/>
                </a:lnTo>
                <a:lnTo>
                  <a:pt x="127035" y="242342"/>
                </a:lnTo>
                <a:lnTo>
                  <a:pt x="123385" y="244905"/>
                </a:lnTo>
                <a:lnTo>
                  <a:pt x="118967" y="246614"/>
                </a:lnTo>
                <a:lnTo>
                  <a:pt x="114038" y="247753"/>
                </a:lnTo>
                <a:lnTo>
                  <a:pt x="108767" y="248512"/>
                </a:lnTo>
                <a:lnTo>
                  <a:pt x="104262" y="248027"/>
                </a:lnTo>
                <a:lnTo>
                  <a:pt x="100265" y="246710"/>
                </a:lnTo>
                <a:lnTo>
                  <a:pt x="96609" y="244840"/>
                </a:lnTo>
                <a:lnTo>
                  <a:pt x="93179" y="243594"/>
                </a:lnTo>
                <a:lnTo>
                  <a:pt x="86723" y="242210"/>
                </a:lnTo>
                <a:lnTo>
                  <a:pt x="80546" y="238948"/>
                </a:lnTo>
                <a:lnTo>
                  <a:pt x="77510" y="236689"/>
                </a:lnTo>
                <a:lnTo>
                  <a:pt x="75486" y="234191"/>
                </a:lnTo>
                <a:lnTo>
                  <a:pt x="74136" y="231533"/>
                </a:lnTo>
                <a:lnTo>
                  <a:pt x="73236" y="228770"/>
                </a:lnTo>
                <a:lnTo>
                  <a:pt x="69591" y="223053"/>
                </a:lnTo>
                <a:lnTo>
                  <a:pt x="67230" y="220140"/>
                </a:lnTo>
                <a:lnTo>
                  <a:pt x="65656" y="217205"/>
                </a:lnTo>
                <a:lnTo>
                  <a:pt x="63907" y="211298"/>
                </a:lnTo>
                <a:lnTo>
                  <a:pt x="64433" y="208334"/>
                </a:lnTo>
                <a:lnTo>
                  <a:pt x="67662" y="202395"/>
                </a:lnTo>
                <a:lnTo>
                  <a:pt x="69760" y="196448"/>
                </a:lnTo>
                <a:lnTo>
                  <a:pt x="70319" y="193473"/>
                </a:lnTo>
                <a:lnTo>
                  <a:pt x="71684" y="191489"/>
                </a:lnTo>
                <a:lnTo>
                  <a:pt x="73586" y="190168"/>
                </a:lnTo>
                <a:lnTo>
                  <a:pt x="75846" y="189286"/>
                </a:lnTo>
                <a:lnTo>
                  <a:pt x="81003" y="185661"/>
                </a:lnTo>
                <a:lnTo>
                  <a:pt x="87658" y="179989"/>
                </a:lnTo>
                <a:lnTo>
                  <a:pt x="91214" y="179214"/>
                </a:lnTo>
                <a:lnTo>
                  <a:pt x="93552" y="179007"/>
                </a:lnTo>
                <a:lnTo>
                  <a:pt x="96102" y="179862"/>
                </a:lnTo>
                <a:lnTo>
                  <a:pt x="101582" y="183457"/>
                </a:lnTo>
                <a:lnTo>
                  <a:pt x="107324" y="185716"/>
                </a:lnTo>
                <a:lnTo>
                  <a:pt x="110245" y="186318"/>
                </a:lnTo>
                <a:lnTo>
                  <a:pt x="116136" y="189633"/>
                </a:lnTo>
                <a:lnTo>
                  <a:pt x="122061" y="194415"/>
                </a:lnTo>
                <a:lnTo>
                  <a:pt x="128002" y="199846"/>
                </a:lnTo>
                <a:lnTo>
                  <a:pt x="136924" y="208483"/>
                </a:lnTo>
                <a:lnTo>
                  <a:pt x="140892" y="211418"/>
                </a:lnTo>
                <a:lnTo>
                  <a:pt x="145522" y="214367"/>
                </a:lnTo>
                <a:lnTo>
                  <a:pt x="150593" y="217325"/>
                </a:lnTo>
                <a:lnTo>
                  <a:pt x="154965" y="220289"/>
                </a:lnTo>
                <a:lnTo>
                  <a:pt x="158873" y="223258"/>
                </a:lnTo>
                <a:lnTo>
                  <a:pt x="162470" y="226229"/>
                </a:lnTo>
                <a:lnTo>
                  <a:pt x="166852" y="229202"/>
                </a:lnTo>
                <a:lnTo>
                  <a:pt x="171758" y="232176"/>
                </a:lnTo>
                <a:lnTo>
                  <a:pt x="177013" y="235151"/>
                </a:lnTo>
                <a:lnTo>
                  <a:pt x="181509" y="237134"/>
                </a:lnTo>
                <a:lnTo>
                  <a:pt x="185498" y="238457"/>
                </a:lnTo>
                <a:lnTo>
                  <a:pt x="189150" y="239339"/>
                </a:lnTo>
                <a:lnTo>
                  <a:pt x="192576" y="240918"/>
                </a:lnTo>
                <a:lnTo>
                  <a:pt x="199029" y="245319"/>
                </a:lnTo>
                <a:lnTo>
                  <a:pt x="205205" y="247937"/>
                </a:lnTo>
                <a:lnTo>
                  <a:pt x="208240" y="248635"/>
                </a:lnTo>
                <a:lnTo>
                  <a:pt x="210265" y="250092"/>
                </a:lnTo>
                <a:lnTo>
                  <a:pt x="211614" y="252056"/>
                </a:lnTo>
                <a:lnTo>
                  <a:pt x="214312" y="25896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SMARTInkAnnotation98"/>
          <p:cNvSpPr/>
          <p:nvPr/>
        </p:nvSpPr>
        <p:spPr>
          <a:xfrm>
            <a:off x="1884240" y="5661000"/>
            <a:ext cx="196920" cy="295200"/>
          </a:xfrm>
          <a:custGeom>
            <a:avLst/>
            <a:gdLst>
              <a:gd name="textAreaLeft" fmla="*/ 0 w 196920"/>
              <a:gd name="textAreaRight" fmla="*/ 197280 w 196920"/>
              <a:gd name="textAreaTop" fmla="*/ 0 h 295200"/>
              <a:gd name="textAreaBottom" fmla="*/ 295560 h 295200"/>
            </a:gdLst>
            <a:ahLst/>
            <a:rect l="textAreaLeft" t="textAreaTop" r="textAreaRight" b="textAreaBottom"/>
            <a:pathLst>
              <a:path w="196454" h="294680">
                <a:moveTo>
                  <a:pt x="0" y="0"/>
                </a:moveTo>
                <a:lnTo>
                  <a:pt x="34628" y="0"/>
                </a:lnTo>
                <a:lnTo>
                  <a:pt x="39953" y="992"/>
                </a:lnTo>
                <a:lnTo>
                  <a:pt x="45486" y="2645"/>
                </a:lnTo>
                <a:lnTo>
                  <a:pt x="51160" y="4740"/>
                </a:lnTo>
                <a:lnTo>
                  <a:pt x="55935" y="7129"/>
                </a:lnTo>
                <a:lnTo>
                  <a:pt x="60110" y="9713"/>
                </a:lnTo>
                <a:lnTo>
                  <a:pt x="63886" y="12428"/>
                </a:lnTo>
                <a:lnTo>
                  <a:pt x="68387" y="15231"/>
                </a:lnTo>
                <a:lnTo>
                  <a:pt x="73373" y="18091"/>
                </a:lnTo>
                <a:lnTo>
                  <a:pt x="84204" y="23915"/>
                </a:lnTo>
                <a:lnTo>
                  <a:pt x="95632" y="29811"/>
                </a:lnTo>
                <a:lnTo>
                  <a:pt x="100466" y="33765"/>
                </a:lnTo>
                <a:lnTo>
                  <a:pt x="104680" y="38385"/>
                </a:lnTo>
                <a:lnTo>
                  <a:pt x="108482" y="43449"/>
                </a:lnTo>
                <a:lnTo>
                  <a:pt x="113001" y="48810"/>
                </a:lnTo>
                <a:lnTo>
                  <a:pt x="117998" y="54368"/>
                </a:lnTo>
                <a:lnTo>
                  <a:pt x="131866" y="69025"/>
                </a:lnTo>
                <a:lnTo>
                  <a:pt x="135535" y="72805"/>
                </a:lnTo>
                <a:lnTo>
                  <a:pt x="138974" y="77310"/>
                </a:lnTo>
                <a:lnTo>
                  <a:pt x="142259" y="82298"/>
                </a:lnTo>
                <a:lnTo>
                  <a:pt x="145440" y="87608"/>
                </a:lnTo>
                <a:lnTo>
                  <a:pt x="148554" y="94123"/>
                </a:lnTo>
                <a:lnTo>
                  <a:pt x="151622" y="101444"/>
                </a:lnTo>
                <a:lnTo>
                  <a:pt x="154659" y="109301"/>
                </a:lnTo>
                <a:lnTo>
                  <a:pt x="156684" y="116524"/>
                </a:lnTo>
                <a:lnTo>
                  <a:pt x="158034" y="123323"/>
                </a:lnTo>
                <a:lnTo>
                  <a:pt x="158934" y="129840"/>
                </a:lnTo>
                <a:lnTo>
                  <a:pt x="159534" y="136169"/>
                </a:lnTo>
                <a:lnTo>
                  <a:pt x="159934" y="142373"/>
                </a:lnTo>
                <a:lnTo>
                  <a:pt x="160200" y="148493"/>
                </a:lnTo>
                <a:lnTo>
                  <a:pt x="160497" y="160585"/>
                </a:lnTo>
                <a:lnTo>
                  <a:pt x="160687" y="189258"/>
                </a:lnTo>
                <a:lnTo>
                  <a:pt x="159711" y="196617"/>
                </a:lnTo>
                <a:lnTo>
                  <a:pt x="158067" y="203507"/>
                </a:lnTo>
                <a:lnTo>
                  <a:pt x="155980" y="210085"/>
                </a:lnTo>
                <a:lnTo>
                  <a:pt x="153596" y="215463"/>
                </a:lnTo>
                <a:lnTo>
                  <a:pt x="148301" y="224084"/>
                </a:lnTo>
                <a:lnTo>
                  <a:pt x="144508" y="227772"/>
                </a:lnTo>
                <a:lnTo>
                  <a:pt x="139995" y="231223"/>
                </a:lnTo>
                <a:lnTo>
                  <a:pt x="135002" y="234515"/>
                </a:lnTo>
                <a:lnTo>
                  <a:pt x="130681" y="237703"/>
                </a:lnTo>
                <a:lnTo>
                  <a:pt x="126808" y="240820"/>
                </a:lnTo>
                <a:lnTo>
                  <a:pt x="123234" y="243890"/>
                </a:lnTo>
                <a:lnTo>
                  <a:pt x="118867" y="246930"/>
                </a:lnTo>
                <a:lnTo>
                  <a:pt x="113971" y="249948"/>
                </a:lnTo>
                <a:lnTo>
                  <a:pt x="108723" y="252952"/>
                </a:lnTo>
                <a:lnTo>
                  <a:pt x="104232" y="254954"/>
                </a:lnTo>
                <a:lnTo>
                  <a:pt x="100246" y="256290"/>
                </a:lnTo>
                <a:lnTo>
                  <a:pt x="96596" y="257181"/>
                </a:lnTo>
                <a:lnTo>
                  <a:pt x="92178" y="257774"/>
                </a:lnTo>
                <a:lnTo>
                  <a:pt x="87249" y="258169"/>
                </a:lnTo>
                <a:lnTo>
                  <a:pt x="81978" y="258433"/>
                </a:lnTo>
                <a:lnTo>
                  <a:pt x="70831" y="258727"/>
                </a:lnTo>
                <a:lnTo>
                  <a:pt x="42159" y="258947"/>
                </a:lnTo>
                <a:lnTo>
                  <a:pt x="39020" y="257959"/>
                </a:lnTo>
                <a:lnTo>
                  <a:pt x="32886" y="254216"/>
                </a:lnTo>
                <a:lnTo>
                  <a:pt x="30854" y="251829"/>
                </a:lnTo>
                <a:lnTo>
                  <a:pt x="29499" y="249245"/>
                </a:lnTo>
                <a:lnTo>
                  <a:pt x="28595" y="246530"/>
                </a:lnTo>
                <a:lnTo>
                  <a:pt x="24946" y="240868"/>
                </a:lnTo>
                <a:lnTo>
                  <a:pt x="22583" y="237969"/>
                </a:lnTo>
                <a:lnTo>
                  <a:pt x="21009" y="235045"/>
                </a:lnTo>
                <a:lnTo>
                  <a:pt x="19259" y="229149"/>
                </a:lnTo>
                <a:lnTo>
                  <a:pt x="19784" y="226188"/>
                </a:lnTo>
                <a:lnTo>
                  <a:pt x="24272" y="217280"/>
                </a:lnTo>
                <a:lnTo>
                  <a:pt x="25670" y="211332"/>
                </a:lnTo>
                <a:lnTo>
                  <a:pt x="28937" y="205380"/>
                </a:lnTo>
                <a:lnTo>
                  <a:pt x="31198" y="202404"/>
                </a:lnTo>
                <a:lnTo>
                  <a:pt x="33697" y="200420"/>
                </a:lnTo>
                <a:lnTo>
                  <a:pt x="36355" y="199098"/>
                </a:lnTo>
                <a:lnTo>
                  <a:pt x="39119" y="198217"/>
                </a:lnTo>
                <a:lnTo>
                  <a:pt x="44837" y="194590"/>
                </a:lnTo>
                <a:lnTo>
                  <a:pt x="47751" y="192235"/>
                </a:lnTo>
                <a:lnTo>
                  <a:pt x="51677" y="191656"/>
                </a:lnTo>
                <a:lnTo>
                  <a:pt x="56279" y="192263"/>
                </a:lnTo>
                <a:lnTo>
                  <a:pt x="61332" y="193660"/>
                </a:lnTo>
                <a:lnTo>
                  <a:pt x="65693" y="194591"/>
                </a:lnTo>
                <a:lnTo>
                  <a:pt x="69592" y="195211"/>
                </a:lnTo>
                <a:lnTo>
                  <a:pt x="73184" y="195625"/>
                </a:lnTo>
                <a:lnTo>
                  <a:pt x="76570" y="196893"/>
                </a:lnTo>
                <a:lnTo>
                  <a:pt x="79820" y="198731"/>
                </a:lnTo>
                <a:lnTo>
                  <a:pt x="82979" y="200948"/>
                </a:lnTo>
                <a:lnTo>
                  <a:pt x="87069" y="202426"/>
                </a:lnTo>
                <a:lnTo>
                  <a:pt x="91780" y="203412"/>
                </a:lnTo>
                <a:lnTo>
                  <a:pt x="96906" y="204068"/>
                </a:lnTo>
                <a:lnTo>
                  <a:pt x="101315" y="205498"/>
                </a:lnTo>
                <a:lnTo>
                  <a:pt x="105246" y="207444"/>
                </a:lnTo>
                <a:lnTo>
                  <a:pt x="108859" y="209733"/>
                </a:lnTo>
                <a:lnTo>
                  <a:pt x="113253" y="213244"/>
                </a:lnTo>
                <a:lnTo>
                  <a:pt x="118165" y="217569"/>
                </a:lnTo>
                <a:lnTo>
                  <a:pt x="127924" y="226674"/>
                </a:lnTo>
                <a:lnTo>
                  <a:pt x="135568" y="234027"/>
                </a:lnTo>
                <a:lnTo>
                  <a:pt x="139988" y="237378"/>
                </a:lnTo>
                <a:lnTo>
                  <a:pt x="144919" y="240603"/>
                </a:lnTo>
                <a:lnTo>
                  <a:pt x="150191" y="243746"/>
                </a:lnTo>
                <a:lnTo>
                  <a:pt x="154697" y="246833"/>
                </a:lnTo>
                <a:lnTo>
                  <a:pt x="158694" y="249883"/>
                </a:lnTo>
                <a:lnTo>
                  <a:pt x="162351" y="252909"/>
                </a:lnTo>
                <a:lnTo>
                  <a:pt x="165780" y="255918"/>
                </a:lnTo>
                <a:lnTo>
                  <a:pt x="169059" y="258917"/>
                </a:lnTo>
                <a:lnTo>
                  <a:pt x="172237" y="261908"/>
                </a:lnTo>
                <a:lnTo>
                  <a:pt x="174356" y="264894"/>
                </a:lnTo>
                <a:lnTo>
                  <a:pt x="178330" y="273838"/>
                </a:lnTo>
                <a:lnTo>
                  <a:pt x="182776" y="279794"/>
                </a:lnTo>
                <a:lnTo>
                  <a:pt x="188059" y="285748"/>
                </a:lnTo>
                <a:lnTo>
                  <a:pt x="196453" y="29467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SMARTInkAnnotation99"/>
          <p:cNvSpPr/>
          <p:nvPr/>
        </p:nvSpPr>
        <p:spPr>
          <a:xfrm>
            <a:off x="2133720" y="5848200"/>
            <a:ext cx="260280" cy="142920"/>
          </a:xfrm>
          <a:custGeom>
            <a:avLst/>
            <a:gdLst>
              <a:gd name="textAreaLeft" fmla="*/ 0 w 260280"/>
              <a:gd name="textAreaRight" fmla="*/ 260640 w 260280"/>
              <a:gd name="textAreaTop" fmla="*/ 0 h 142920"/>
              <a:gd name="textAreaBottom" fmla="*/ 143280 h 142920"/>
            </a:gdLst>
            <a:ahLst/>
            <a:rect l="textAreaLeft" t="textAreaTop" r="textAreaRight" b="textAreaBottom"/>
            <a:pathLst>
              <a:path w="258962" h="142754">
                <a:moveTo>
                  <a:pt x="8930" y="17737"/>
                </a:moveTo>
                <a:lnTo>
                  <a:pt x="8930" y="30166"/>
                </a:lnTo>
                <a:lnTo>
                  <a:pt x="9922" y="32968"/>
                </a:lnTo>
                <a:lnTo>
                  <a:pt x="11575" y="35829"/>
                </a:lnTo>
                <a:lnTo>
                  <a:pt x="13670" y="38728"/>
                </a:lnTo>
                <a:lnTo>
                  <a:pt x="15066" y="41653"/>
                </a:lnTo>
                <a:lnTo>
                  <a:pt x="15998" y="44595"/>
                </a:lnTo>
                <a:lnTo>
                  <a:pt x="16618" y="47549"/>
                </a:lnTo>
                <a:lnTo>
                  <a:pt x="16040" y="50510"/>
                </a:lnTo>
                <a:lnTo>
                  <a:pt x="14662" y="53476"/>
                </a:lnTo>
                <a:lnTo>
                  <a:pt x="12751" y="56446"/>
                </a:lnTo>
                <a:lnTo>
                  <a:pt x="11477" y="59418"/>
                </a:lnTo>
                <a:lnTo>
                  <a:pt x="10628" y="62392"/>
                </a:lnTo>
                <a:lnTo>
                  <a:pt x="10062" y="65366"/>
                </a:lnTo>
                <a:lnTo>
                  <a:pt x="9684" y="68341"/>
                </a:lnTo>
                <a:lnTo>
                  <a:pt x="9433" y="71318"/>
                </a:lnTo>
                <a:lnTo>
                  <a:pt x="9265" y="74293"/>
                </a:lnTo>
                <a:lnTo>
                  <a:pt x="9079" y="82892"/>
                </a:lnTo>
                <a:lnTo>
                  <a:pt x="9029" y="87962"/>
                </a:lnTo>
                <a:lnTo>
                  <a:pt x="8004" y="91343"/>
                </a:lnTo>
                <a:lnTo>
                  <a:pt x="6328" y="93597"/>
                </a:lnTo>
                <a:lnTo>
                  <a:pt x="4219" y="95100"/>
                </a:lnTo>
                <a:lnTo>
                  <a:pt x="2812" y="97093"/>
                </a:lnTo>
                <a:lnTo>
                  <a:pt x="1875" y="99415"/>
                </a:lnTo>
                <a:lnTo>
                  <a:pt x="1250" y="101955"/>
                </a:lnTo>
                <a:lnTo>
                  <a:pt x="833" y="104640"/>
                </a:lnTo>
                <a:lnTo>
                  <a:pt x="555" y="107422"/>
                </a:lnTo>
                <a:lnTo>
                  <a:pt x="370" y="110270"/>
                </a:lnTo>
                <a:lnTo>
                  <a:pt x="247" y="113160"/>
                </a:lnTo>
                <a:lnTo>
                  <a:pt x="0" y="124881"/>
                </a:lnTo>
                <a:lnTo>
                  <a:pt x="0" y="112463"/>
                </a:lnTo>
                <a:lnTo>
                  <a:pt x="992" y="109661"/>
                </a:lnTo>
                <a:lnTo>
                  <a:pt x="2646" y="106801"/>
                </a:lnTo>
                <a:lnTo>
                  <a:pt x="4740" y="103902"/>
                </a:lnTo>
                <a:lnTo>
                  <a:pt x="7129" y="100977"/>
                </a:lnTo>
                <a:lnTo>
                  <a:pt x="9713" y="98035"/>
                </a:lnTo>
                <a:lnTo>
                  <a:pt x="12429" y="95082"/>
                </a:lnTo>
                <a:lnTo>
                  <a:pt x="14239" y="91128"/>
                </a:lnTo>
                <a:lnTo>
                  <a:pt x="15446" y="86508"/>
                </a:lnTo>
                <a:lnTo>
                  <a:pt x="16250" y="81444"/>
                </a:lnTo>
                <a:lnTo>
                  <a:pt x="17779" y="77076"/>
                </a:lnTo>
                <a:lnTo>
                  <a:pt x="19790" y="73171"/>
                </a:lnTo>
                <a:lnTo>
                  <a:pt x="22123" y="69576"/>
                </a:lnTo>
                <a:lnTo>
                  <a:pt x="24671" y="65195"/>
                </a:lnTo>
                <a:lnTo>
                  <a:pt x="27361" y="60290"/>
                </a:lnTo>
                <a:lnTo>
                  <a:pt x="30147" y="55036"/>
                </a:lnTo>
                <a:lnTo>
                  <a:pt x="32996" y="50540"/>
                </a:lnTo>
                <a:lnTo>
                  <a:pt x="35888" y="46552"/>
                </a:lnTo>
                <a:lnTo>
                  <a:pt x="38808" y="42900"/>
                </a:lnTo>
                <a:lnTo>
                  <a:pt x="41747" y="39473"/>
                </a:lnTo>
                <a:lnTo>
                  <a:pt x="44698" y="36197"/>
                </a:lnTo>
                <a:lnTo>
                  <a:pt x="50624" y="29910"/>
                </a:lnTo>
                <a:lnTo>
                  <a:pt x="65487" y="14796"/>
                </a:lnTo>
                <a:lnTo>
                  <a:pt x="68463" y="12800"/>
                </a:lnTo>
                <a:lnTo>
                  <a:pt x="74415" y="10582"/>
                </a:lnTo>
                <a:lnTo>
                  <a:pt x="76399" y="8999"/>
                </a:lnTo>
                <a:lnTo>
                  <a:pt x="77722" y="6951"/>
                </a:lnTo>
                <a:lnTo>
                  <a:pt x="78603" y="4593"/>
                </a:lnTo>
                <a:lnTo>
                  <a:pt x="80183" y="3022"/>
                </a:lnTo>
                <a:lnTo>
                  <a:pt x="82229" y="1973"/>
                </a:lnTo>
                <a:lnTo>
                  <a:pt x="87148" y="809"/>
                </a:lnTo>
                <a:lnTo>
                  <a:pt x="94503" y="153"/>
                </a:lnTo>
                <a:lnTo>
                  <a:pt x="96571" y="0"/>
                </a:lnTo>
                <a:lnTo>
                  <a:pt x="97123" y="952"/>
                </a:lnTo>
                <a:lnTo>
                  <a:pt x="97736" y="4654"/>
                </a:lnTo>
                <a:lnTo>
                  <a:pt x="98892" y="6039"/>
                </a:lnTo>
                <a:lnTo>
                  <a:pt x="100654" y="6961"/>
                </a:lnTo>
                <a:lnTo>
                  <a:pt x="102821" y="7577"/>
                </a:lnTo>
                <a:lnTo>
                  <a:pt x="104266" y="8979"/>
                </a:lnTo>
                <a:lnTo>
                  <a:pt x="105230" y="10906"/>
                </a:lnTo>
                <a:lnTo>
                  <a:pt x="105871" y="13183"/>
                </a:lnTo>
                <a:lnTo>
                  <a:pt x="106300" y="15694"/>
                </a:lnTo>
                <a:lnTo>
                  <a:pt x="106586" y="18359"/>
                </a:lnTo>
                <a:lnTo>
                  <a:pt x="106776" y="21128"/>
                </a:lnTo>
                <a:lnTo>
                  <a:pt x="106903" y="24959"/>
                </a:lnTo>
                <a:lnTo>
                  <a:pt x="107123" y="46298"/>
                </a:lnTo>
                <a:lnTo>
                  <a:pt x="108126" y="50669"/>
                </a:lnTo>
                <a:lnTo>
                  <a:pt x="109787" y="55566"/>
                </a:lnTo>
                <a:lnTo>
                  <a:pt x="111887" y="60816"/>
                </a:lnTo>
                <a:lnTo>
                  <a:pt x="113286" y="65308"/>
                </a:lnTo>
                <a:lnTo>
                  <a:pt x="114219" y="69294"/>
                </a:lnTo>
                <a:lnTo>
                  <a:pt x="114841" y="72945"/>
                </a:lnTo>
                <a:lnTo>
                  <a:pt x="115256" y="76370"/>
                </a:lnTo>
                <a:lnTo>
                  <a:pt x="115533" y="79646"/>
                </a:lnTo>
                <a:lnTo>
                  <a:pt x="115717" y="82822"/>
                </a:lnTo>
                <a:lnTo>
                  <a:pt x="115922" y="88998"/>
                </a:lnTo>
                <a:lnTo>
                  <a:pt x="116037" y="100698"/>
                </a:lnTo>
                <a:lnTo>
                  <a:pt x="116086" y="142749"/>
                </a:lnTo>
                <a:lnTo>
                  <a:pt x="116086" y="138011"/>
                </a:lnTo>
                <a:lnTo>
                  <a:pt x="117078" y="135623"/>
                </a:lnTo>
                <a:lnTo>
                  <a:pt x="118732" y="133039"/>
                </a:lnTo>
                <a:lnTo>
                  <a:pt x="120826" y="130324"/>
                </a:lnTo>
                <a:lnTo>
                  <a:pt x="122223" y="126529"/>
                </a:lnTo>
                <a:lnTo>
                  <a:pt x="123154" y="122015"/>
                </a:lnTo>
                <a:lnTo>
                  <a:pt x="123774" y="117022"/>
                </a:lnTo>
                <a:lnTo>
                  <a:pt x="125180" y="112700"/>
                </a:lnTo>
                <a:lnTo>
                  <a:pt x="127110" y="108827"/>
                </a:lnTo>
                <a:lnTo>
                  <a:pt x="129388" y="105253"/>
                </a:lnTo>
                <a:lnTo>
                  <a:pt x="131899" y="100886"/>
                </a:lnTo>
                <a:lnTo>
                  <a:pt x="137335" y="90742"/>
                </a:lnTo>
                <a:lnTo>
                  <a:pt x="140174" y="86251"/>
                </a:lnTo>
                <a:lnTo>
                  <a:pt x="143059" y="82265"/>
                </a:lnTo>
                <a:lnTo>
                  <a:pt x="145974" y="78615"/>
                </a:lnTo>
                <a:lnTo>
                  <a:pt x="148910" y="75189"/>
                </a:lnTo>
                <a:lnTo>
                  <a:pt x="151859" y="71914"/>
                </a:lnTo>
                <a:lnTo>
                  <a:pt x="157782" y="65628"/>
                </a:lnTo>
                <a:lnTo>
                  <a:pt x="172644" y="50514"/>
                </a:lnTo>
                <a:lnTo>
                  <a:pt x="175619" y="48518"/>
                </a:lnTo>
                <a:lnTo>
                  <a:pt x="181571" y="46300"/>
                </a:lnTo>
                <a:lnTo>
                  <a:pt x="187524" y="42669"/>
                </a:lnTo>
                <a:lnTo>
                  <a:pt x="190500" y="40312"/>
                </a:lnTo>
                <a:lnTo>
                  <a:pt x="193477" y="38740"/>
                </a:lnTo>
                <a:lnTo>
                  <a:pt x="199430" y="36994"/>
                </a:lnTo>
                <a:lnTo>
                  <a:pt x="205383" y="36217"/>
                </a:lnTo>
                <a:lnTo>
                  <a:pt x="208360" y="36010"/>
                </a:lnTo>
                <a:lnTo>
                  <a:pt x="210344" y="36865"/>
                </a:lnTo>
                <a:lnTo>
                  <a:pt x="211667" y="38427"/>
                </a:lnTo>
                <a:lnTo>
                  <a:pt x="212548" y="40460"/>
                </a:lnTo>
                <a:lnTo>
                  <a:pt x="214129" y="41815"/>
                </a:lnTo>
                <a:lnTo>
                  <a:pt x="216174" y="42719"/>
                </a:lnTo>
                <a:lnTo>
                  <a:pt x="218530" y="43321"/>
                </a:lnTo>
                <a:lnTo>
                  <a:pt x="220101" y="44715"/>
                </a:lnTo>
                <a:lnTo>
                  <a:pt x="221148" y="46637"/>
                </a:lnTo>
                <a:lnTo>
                  <a:pt x="221846" y="48910"/>
                </a:lnTo>
                <a:lnTo>
                  <a:pt x="223304" y="50425"/>
                </a:lnTo>
                <a:lnTo>
                  <a:pt x="225267" y="51435"/>
                </a:lnTo>
                <a:lnTo>
                  <a:pt x="227569" y="52109"/>
                </a:lnTo>
                <a:lnTo>
                  <a:pt x="232772" y="55503"/>
                </a:lnTo>
                <a:lnTo>
                  <a:pt x="235548" y="57797"/>
                </a:lnTo>
                <a:lnTo>
                  <a:pt x="237399" y="60319"/>
                </a:lnTo>
                <a:lnTo>
                  <a:pt x="238634" y="62992"/>
                </a:lnTo>
                <a:lnTo>
                  <a:pt x="239456" y="65766"/>
                </a:lnTo>
                <a:lnTo>
                  <a:pt x="240997" y="68608"/>
                </a:lnTo>
                <a:lnTo>
                  <a:pt x="243016" y="71495"/>
                </a:lnTo>
                <a:lnTo>
                  <a:pt x="245354" y="74412"/>
                </a:lnTo>
                <a:lnTo>
                  <a:pt x="246913" y="77348"/>
                </a:lnTo>
                <a:lnTo>
                  <a:pt x="247953" y="80298"/>
                </a:lnTo>
                <a:lnTo>
                  <a:pt x="248645" y="83258"/>
                </a:lnTo>
                <a:lnTo>
                  <a:pt x="249107" y="86222"/>
                </a:lnTo>
                <a:lnTo>
                  <a:pt x="249415" y="89191"/>
                </a:lnTo>
                <a:lnTo>
                  <a:pt x="249621" y="92162"/>
                </a:lnTo>
                <a:lnTo>
                  <a:pt x="249757" y="95135"/>
                </a:lnTo>
                <a:lnTo>
                  <a:pt x="249910" y="101084"/>
                </a:lnTo>
                <a:lnTo>
                  <a:pt x="250021" y="114200"/>
                </a:lnTo>
                <a:lnTo>
                  <a:pt x="252672" y="117826"/>
                </a:lnTo>
                <a:lnTo>
                  <a:pt x="257719" y="123498"/>
                </a:lnTo>
                <a:lnTo>
                  <a:pt x="258409" y="126919"/>
                </a:lnTo>
                <a:lnTo>
                  <a:pt x="258852" y="132459"/>
                </a:lnTo>
                <a:lnTo>
                  <a:pt x="258912" y="135863"/>
                </a:lnTo>
                <a:lnTo>
                  <a:pt x="258961" y="14275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SMARTInkAnnotation100"/>
          <p:cNvSpPr/>
          <p:nvPr/>
        </p:nvSpPr>
        <p:spPr>
          <a:xfrm>
            <a:off x="1152360" y="5892840"/>
            <a:ext cx="214560" cy="420480"/>
          </a:xfrm>
          <a:custGeom>
            <a:avLst/>
            <a:gdLst>
              <a:gd name="textAreaLeft" fmla="*/ 0 w 214560"/>
              <a:gd name="textAreaRight" fmla="*/ 214920 w 214560"/>
              <a:gd name="textAreaTop" fmla="*/ 0 h 420480"/>
              <a:gd name="textAreaBottom" fmla="*/ 420840 h 420480"/>
            </a:gdLst>
            <a:ahLst/>
            <a:rect l="textAreaLeft" t="textAreaTop" r="textAreaRight" b="textAreaBottom"/>
            <a:pathLst>
              <a:path w="214314" h="419538">
                <a:moveTo>
                  <a:pt x="0" y="0"/>
                </a:moveTo>
                <a:lnTo>
                  <a:pt x="0" y="4740"/>
                </a:lnTo>
                <a:lnTo>
                  <a:pt x="992" y="7129"/>
                </a:lnTo>
                <a:lnTo>
                  <a:pt x="6137" y="15231"/>
                </a:lnTo>
                <a:lnTo>
                  <a:pt x="7689" y="20990"/>
                </a:lnTo>
                <a:lnTo>
                  <a:pt x="8378" y="29503"/>
                </a:lnTo>
                <a:lnTo>
                  <a:pt x="8685" y="38910"/>
                </a:lnTo>
                <a:lnTo>
                  <a:pt x="8821" y="46398"/>
                </a:lnTo>
                <a:lnTo>
                  <a:pt x="11527" y="58325"/>
                </a:lnTo>
                <a:lnTo>
                  <a:pt x="13638" y="65672"/>
                </a:lnTo>
                <a:lnTo>
                  <a:pt x="15045" y="72555"/>
                </a:lnTo>
                <a:lnTo>
                  <a:pt x="16609" y="85494"/>
                </a:lnTo>
                <a:lnTo>
                  <a:pt x="17304" y="97859"/>
                </a:lnTo>
                <a:lnTo>
                  <a:pt x="17489" y="103935"/>
                </a:lnTo>
                <a:lnTo>
                  <a:pt x="19597" y="116915"/>
                </a:lnTo>
                <a:lnTo>
                  <a:pt x="27231" y="155150"/>
                </a:lnTo>
                <a:lnTo>
                  <a:pt x="30060" y="171894"/>
                </a:lnTo>
                <a:lnTo>
                  <a:pt x="31947" y="186034"/>
                </a:lnTo>
                <a:lnTo>
                  <a:pt x="33204" y="198437"/>
                </a:lnTo>
                <a:lnTo>
                  <a:pt x="35034" y="209682"/>
                </a:lnTo>
                <a:lnTo>
                  <a:pt x="37247" y="220155"/>
                </a:lnTo>
                <a:lnTo>
                  <a:pt x="39714" y="230114"/>
                </a:lnTo>
                <a:lnTo>
                  <a:pt x="42351" y="238738"/>
                </a:lnTo>
                <a:lnTo>
                  <a:pt x="45102" y="246472"/>
                </a:lnTo>
                <a:lnTo>
                  <a:pt x="47927" y="253612"/>
                </a:lnTo>
                <a:lnTo>
                  <a:pt x="53713" y="269482"/>
                </a:lnTo>
                <a:lnTo>
                  <a:pt x="65511" y="303924"/>
                </a:lnTo>
                <a:lnTo>
                  <a:pt x="67487" y="311756"/>
                </a:lnTo>
                <a:lnTo>
                  <a:pt x="68804" y="318963"/>
                </a:lnTo>
                <a:lnTo>
                  <a:pt x="69682" y="325751"/>
                </a:lnTo>
                <a:lnTo>
                  <a:pt x="73303" y="338585"/>
                </a:lnTo>
                <a:lnTo>
                  <a:pt x="75658" y="344786"/>
                </a:lnTo>
                <a:lnTo>
                  <a:pt x="79212" y="350905"/>
                </a:lnTo>
                <a:lnTo>
                  <a:pt x="83566" y="356967"/>
                </a:lnTo>
                <a:lnTo>
                  <a:pt x="88453" y="362994"/>
                </a:lnTo>
                <a:lnTo>
                  <a:pt x="92703" y="368996"/>
                </a:lnTo>
                <a:lnTo>
                  <a:pt x="96529" y="374982"/>
                </a:lnTo>
                <a:lnTo>
                  <a:pt x="100071" y="380957"/>
                </a:lnTo>
                <a:lnTo>
                  <a:pt x="106653" y="390242"/>
                </a:lnTo>
                <a:lnTo>
                  <a:pt x="112886" y="397675"/>
                </a:lnTo>
                <a:lnTo>
                  <a:pt x="118963" y="404286"/>
                </a:lnTo>
                <a:lnTo>
                  <a:pt x="127963" y="413587"/>
                </a:lnTo>
                <a:lnTo>
                  <a:pt x="130949" y="415623"/>
                </a:lnTo>
                <a:lnTo>
                  <a:pt x="136913" y="417886"/>
                </a:lnTo>
                <a:lnTo>
                  <a:pt x="142871" y="418891"/>
                </a:lnTo>
                <a:lnTo>
                  <a:pt x="150040" y="419537"/>
                </a:lnTo>
                <a:lnTo>
                  <a:pt x="153666" y="416979"/>
                </a:lnTo>
                <a:lnTo>
                  <a:pt x="156022" y="414908"/>
                </a:lnTo>
                <a:lnTo>
                  <a:pt x="158585" y="413528"/>
                </a:lnTo>
                <a:lnTo>
                  <a:pt x="164079" y="411994"/>
                </a:lnTo>
                <a:lnTo>
                  <a:pt x="165941" y="410592"/>
                </a:lnTo>
                <a:lnTo>
                  <a:pt x="167182" y="408666"/>
                </a:lnTo>
                <a:lnTo>
                  <a:pt x="171575" y="398568"/>
                </a:lnTo>
                <a:lnTo>
                  <a:pt x="181948" y="377378"/>
                </a:lnTo>
                <a:lnTo>
                  <a:pt x="185046" y="365831"/>
                </a:lnTo>
                <a:lnTo>
                  <a:pt x="187414" y="353091"/>
                </a:lnTo>
                <a:lnTo>
                  <a:pt x="189435" y="345527"/>
                </a:lnTo>
                <a:lnTo>
                  <a:pt x="191775" y="337508"/>
                </a:lnTo>
                <a:lnTo>
                  <a:pt x="193334" y="330177"/>
                </a:lnTo>
                <a:lnTo>
                  <a:pt x="194374" y="323306"/>
                </a:lnTo>
                <a:lnTo>
                  <a:pt x="196521" y="310379"/>
                </a:lnTo>
                <a:lnTo>
                  <a:pt x="200783" y="298019"/>
                </a:lnTo>
                <a:lnTo>
                  <a:pt x="202316" y="290953"/>
                </a:lnTo>
                <a:lnTo>
                  <a:pt x="203339" y="283266"/>
                </a:lnTo>
                <a:lnTo>
                  <a:pt x="204020" y="275164"/>
                </a:lnTo>
                <a:lnTo>
                  <a:pt x="204474" y="267778"/>
                </a:lnTo>
                <a:lnTo>
                  <a:pt x="204979" y="254281"/>
                </a:lnTo>
                <a:lnTo>
                  <a:pt x="205263" y="235525"/>
                </a:lnTo>
                <a:lnTo>
                  <a:pt x="206295" y="230439"/>
                </a:lnTo>
                <a:lnTo>
                  <a:pt x="210088" y="222141"/>
                </a:lnTo>
                <a:lnTo>
                  <a:pt x="210504" y="217547"/>
                </a:lnTo>
                <a:lnTo>
                  <a:pt x="208321" y="207151"/>
                </a:lnTo>
                <a:lnTo>
                  <a:pt x="206688" y="195917"/>
                </a:lnTo>
                <a:lnTo>
                  <a:pt x="206254" y="190143"/>
                </a:lnTo>
                <a:lnTo>
                  <a:pt x="206955" y="185300"/>
                </a:lnTo>
                <a:lnTo>
                  <a:pt x="211692" y="173746"/>
                </a:lnTo>
                <a:lnTo>
                  <a:pt x="213536" y="164038"/>
                </a:lnTo>
                <a:lnTo>
                  <a:pt x="214159" y="151870"/>
                </a:lnTo>
                <a:lnTo>
                  <a:pt x="214313" y="13394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SMARTInkAnnotation101"/>
          <p:cNvSpPr/>
          <p:nvPr/>
        </p:nvSpPr>
        <p:spPr>
          <a:xfrm>
            <a:off x="1419120" y="6224760"/>
            <a:ext cx="98640" cy="187200"/>
          </a:xfrm>
          <a:custGeom>
            <a:avLst/>
            <a:gdLst>
              <a:gd name="textAreaLeft" fmla="*/ 0 w 98640"/>
              <a:gd name="textAreaRight" fmla="*/ 99000 w 98640"/>
              <a:gd name="textAreaTop" fmla="*/ 0 h 187200"/>
              <a:gd name="textAreaBottom" fmla="*/ 187560 h 187200"/>
            </a:gdLst>
            <a:ahLst/>
            <a:rect l="textAreaLeft" t="textAreaTop" r="textAreaRight" b="textAreaBottom"/>
            <a:pathLst>
              <a:path w="98223" h="187406">
                <a:moveTo>
                  <a:pt x="98222" y="53459"/>
                </a:moveTo>
                <a:lnTo>
                  <a:pt x="98222" y="40156"/>
                </a:lnTo>
                <a:lnTo>
                  <a:pt x="97230" y="37645"/>
                </a:lnTo>
                <a:lnTo>
                  <a:pt x="95577" y="34979"/>
                </a:lnTo>
                <a:lnTo>
                  <a:pt x="90534" y="28311"/>
                </a:lnTo>
                <a:lnTo>
                  <a:pt x="89844" y="24753"/>
                </a:lnTo>
                <a:lnTo>
                  <a:pt x="89660" y="22415"/>
                </a:lnTo>
                <a:lnTo>
                  <a:pt x="88546" y="20857"/>
                </a:lnTo>
                <a:lnTo>
                  <a:pt x="86810" y="19818"/>
                </a:lnTo>
                <a:lnTo>
                  <a:pt x="84661" y="19126"/>
                </a:lnTo>
                <a:lnTo>
                  <a:pt x="82236" y="17671"/>
                </a:lnTo>
                <a:lnTo>
                  <a:pt x="79628" y="15710"/>
                </a:lnTo>
                <a:lnTo>
                  <a:pt x="76896" y="13410"/>
                </a:lnTo>
                <a:lnTo>
                  <a:pt x="74083" y="11876"/>
                </a:lnTo>
                <a:lnTo>
                  <a:pt x="71216" y="10855"/>
                </a:lnTo>
                <a:lnTo>
                  <a:pt x="68312" y="10173"/>
                </a:lnTo>
                <a:lnTo>
                  <a:pt x="65383" y="8727"/>
                </a:lnTo>
                <a:lnTo>
                  <a:pt x="62439" y="6771"/>
                </a:lnTo>
                <a:lnTo>
                  <a:pt x="55325" y="1241"/>
                </a:lnTo>
                <a:lnTo>
                  <a:pt x="53749" y="788"/>
                </a:lnTo>
                <a:lnTo>
                  <a:pt x="51706" y="486"/>
                </a:lnTo>
                <a:lnTo>
                  <a:pt x="49352" y="284"/>
                </a:lnTo>
                <a:lnTo>
                  <a:pt x="46791" y="149"/>
                </a:lnTo>
                <a:lnTo>
                  <a:pt x="41299" y="0"/>
                </a:lnTo>
                <a:lnTo>
                  <a:pt x="38445" y="953"/>
                </a:lnTo>
                <a:lnTo>
                  <a:pt x="35551" y="2579"/>
                </a:lnTo>
                <a:lnTo>
                  <a:pt x="32629" y="4657"/>
                </a:lnTo>
                <a:lnTo>
                  <a:pt x="29688" y="6041"/>
                </a:lnTo>
                <a:lnTo>
                  <a:pt x="26736" y="6964"/>
                </a:lnTo>
                <a:lnTo>
                  <a:pt x="23776" y="7580"/>
                </a:lnTo>
                <a:lnTo>
                  <a:pt x="20810" y="8982"/>
                </a:lnTo>
                <a:lnTo>
                  <a:pt x="17841" y="10909"/>
                </a:lnTo>
                <a:lnTo>
                  <a:pt x="14869" y="13186"/>
                </a:lnTo>
                <a:lnTo>
                  <a:pt x="11896" y="15696"/>
                </a:lnTo>
                <a:lnTo>
                  <a:pt x="8921" y="18362"/>
                </a:lnTo>
                <a:lnTo>
                  <a:pt x="5946" y="21131"/>
                </a:lnTo>
                <a:lnTo>
                  <a:pt x="3963" y="23970"/>
                </a:lnTo>
                <a:lnTo>
                  <a:pt x="1759" y="29769"/>
                </a:lnTo>
                <a:lnTo>
                  <a:pt x="1171" y="32705"/>
                </a:lnTo>
                <a:lnTo>
                  <a:pt x="779" y="35654"/>
                </a:lnTo>
                <a:lnTo>
                  <a:pt x="518" y="38612"/>
                </a:lnTo>
                <a:lnTo>
                  <a:pt x="344" y="41577"/>
                </a:lnTo>
                <a:lnTo>
                  <a:pt x="151" y="47516"/>
                </a:lnTo>
                <a:lnTo>
                  <a:pt x="26" y="60406"/>
                </a:lnTo>
                <a:lnTo>
                  <a:pt x="0" y="81984"/>
                </a:lnTo>
                <a:lnTo>
                  <a:pt x="991" y="85374"/>
                </a:lnTo>
                <a:lnTo>
                  <a:pt x="2643" y="88626"/>
                </a:lnTo>
                <a:lnTo>
                  <a:pt x="4737" y="91787"/>
                </a:lnTo>
                <a:lnTo>
                  <a:pt x="6133" y="95878"/>
                </a:lnTo>
                <a:lnTo>
                  <a:pt x="7064" y="100590"/>
                </a:lnTo>
                <a:lnTo>
                  <a:pt x="7685" y="105715"/>
                </a:lnTo>
                <a:lnTo>
                  <a:pt x="9090" y="110125"/>
                </a:lnTo>
                <a:lnTo>
                  <a:pt x="11020" y="114057"/>
                </a:lnTo>
                <a:lnTo>
                  <a:pt x="13298" y="117670"/>
                </a:lnTo>
                <a:lnTo>
                  <a:pt x="14817" y="121071"/>
                </a:lnTo>
                <a:lnTo>
                  <a:pt x="15830" y="124331"/>
                </a:lnTo>
                <a:lnTo>
                  <a:pt x="16505" y="127496"/>
                </a:lnTo>
                <a:lnTo>
                  <a:pt x="17947" y="130598"/>
                </a:lnTo>
                <a:lnTo>
                  <a:pt x="19901" y="133658"/>
                </a:lnTo>
                <a:lnTo>
                  <a:pt x="22196" y="136691"/>
                </a:lnTo>
                <a:lnTo>
                  <a:pt x="24718" y="139705"/>
                </a:lnTo>
                <a:lnTo>
                  <a:pt x="27391" y="142706"/>
                </a:lnTo>
                <a:lnTo>
                  <a:pt x="33007" y="148687"/>
                </a:lnTo>
                <a:lnTo>
                  <a:pt x="38811" y="154652"/>
                </a:lnTo>
                <a:lnTo>
                  <a:pt x="40755" y="157632"/>
                </a:lnTo>
                <a:lnTo>
                  <a:pt x="42051" y="160611"/>
                </a:lnTo>
                <a:lnTo>
                  <a:pt x="42916" y="163589"/>
                </a:lnTo>
                <a:lnTo>
                  <a:pt x="44484" y="165574"/>
                </a:lnTo>
                <a:lnTo>
                  <a:pt x="46522" y="166898"/>
                </a:lnTo>
                <a:lnTo>
                  <a:pt x="48873" y="167780"/>
                </a:lnTo>
                <a:lnTo>
                  <a:pt x="51432" y="169361"/>
                </a:lnTo>
                <a:lnTo>
                  <a:pt x="54130" y="171406"/>
                </a:lnTo>
                <a:lnTo>
                  <a:pt x="60850" y="177078"/>
                </a:lnTo>
                <a:lnTo>
                  <a:pt x="64414" y="180500"/>
                </a:lnTo>
                <a:lnTo>
                  <a:pt x="71433" y="18740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SMARTInkAnnotation102"/>
          <p:cNvSpPr/>
          <p:nvPr/>
        </p:nvSpPr>
        <p:spPr>
          <a:xfrm>
            <a:off x="1384200" y="6276960"/>
            <a:ext cx="152640" cy="36360"/>
          </a:xfrm>
          <a:custGeom>
            <a:avLst/>
            <a:gdLst>
              <a:gd name="textAreaLeft" fmla="*/ 0 w 152640"/>
              <a:gd name="textAreaRight" fmla="*/ 153000 w 152640"/>
              <a:gd name="textAreaTop" fmla="*/ 0 h 36360"/>
              <a:gd name="textAreaBottom" fmla="*/ 36720 h 36360"/>
            </a:gdLst>
            <a:ahLst/>
            <a:rect l="textAreaLeft" t="textAreaTop" r="textAreaRight" b="textAreaBottom"/>
            <a:pathLst>
              <a:path w="151806" h="35720">
                <a:moveTo>
                  <a:pt x="0" y="0"/>
                </a:moveTo>
                <a:lnTo>
                  <a:pt x="7688" y="0"/>
                </a:lnTo>
                <a:lnTo>
                  <a:pt x="9094" y="992"/>
                </a:lnTo>
                <a:lnTo>
                  <a:pt x="11024" y="2646"/>
                </a:lnTo>
                <a:lnTo>
                  <a:pt x="16509" y="7688"/>
                </a:lnTo>
                <a:lnTo>
                  <a:pt x="19905" y="8378"/>
                </a:lnTo>
                <a:lnTo>
                  <a:pt x="25429" y="8821"/>
                </a:lnTo>
                <a:lnTo>
                  <a:pt x="28830" y="8881"/>
                </a:lnTo>
                <a:lnTo>
                  <a:pt x="79188" y="8930"/>
                </a:lnTo>
                <a:lnTo>
                  <a:pt x="83550" y="9922"/>
                </a:lnTo>
                <a:lnTo>
                  <a:pt x="87450" y="11575"/>
                </a:lnTo>
                <a:lnTo>
                  <a:pt x="91042" y="13670"/>
                </a:lnTo>
                <a:lnTo>
                  <a:pt x="94429" y="15067"/>
                </a:lnTo>
                <a:lnTo>
                  <a:pt x="97679" y="15998"/>
                </a:lnTo>
                <a:lnTo>
                  <a:pt x="100838" y="16619"/>
                </a:lnTo>
                <a:lnTo>
                  <a:pt x="103936" y="17032"/>
                </a:lnTo>
                <a:lnTo>
                  <a:pt x="106994" y="17308"/>
                </a:lnTo>
                <a:lnTo>
                  <a:pt x="110025" y="17492"/>
                </a:lnTo>
                <a:lnTo>
                  <a:pt x="113038" y="18606"/>
                </a:lnTo>
                <a:lnTo>
                  <a:pt x="116038" y="20342"/>
                </a:lnTo>
                <a:lnTo>
                  <a:pt x="119030" y="22491"/>
                </a:lnTo>
                <a:lnTo>
                  <a:pt x="122018" y="23924"/>
                </a:lnTo>
                <a:lnTo>
                  <a:pt x="125002" y="24879"/>
                </a:lnTo>
                <a:lnTo>
                  <a:pt x="127983" y="25515"/>
                </a:lnTo>
                <a:lnTo>
                  <a:pt x="130962" y="26932"/>
                </a:lnTo>
                <a:lnTo>
                  <a:pt x="133941" y="28869"/>
                </a:lnTo>
                <a:lnTo>
                  <a:pt x="141110" y="34366"/>
                </a:lnTo>
                <a:lnTo>
                  <a:pt x="144736" y="35118"/>
                </a:lnTo>
                <a:lnTo>
                  <a:pt x="151805" y="35719"/>
                </a:lnTo>
              </a:path>
            </a:pathLst>
          </a:custGeom>
          <a:noFill/>
          <a:ln w="38160">
            <a:solidFill>
              <a:srgbClr val="009300"/>
            </a:solidFill>
            <a:round/>
          </a:ln>
        </p:spPr>
        <p:style>
          <a:lnRef idx="0"/>
          <a:fillRef idx="0"/>
          <a:effectRef idx="0"/>
          <a:fontRef idx="minor"/>
        </p:style>
        <p:txBody>
          <a:bodyPr lIns="90000" rIns="90000" tIns="-10080" bIns="-10080" anchor="ctr">
            <a:noAutofit/>
          </a:bodyPr>
          <a:p>
            <a:endParaRPr b="0" lang="en-US" sz="1800" spc="-1" strike="noStrike">
              <a:solidFill>
                <a:srgbClr val="ffffff"/>
              </a:solidFill>
              <a:latin typeface="Arial"/>
            </a:endParaRPr>
          </a:p>
        </p:txBody>
      </p:sp>
      <p:sp>
        <p:nvSpPr>
          <p:cNvPr id="322" name="SMARTInkAnnotation103"/>
          <p:cNvSpPr/>
          <p:nvPr/>
        </p:nvSpPr>
        <p:spPr>
          <a:xfrm>
            <a:off x="1625760" y="6205680"/>
            <a:ext cx="150480" cy="27000"/>
          </a:xfrm>
          <a:custGeom>
            <a:avLst/>
            <a:gdLst>
              <a:gd name="textAreaLeft" fmla="*/ 0 w 150480"/>
              <a:gd name="textAreaRight" fmla="*/ 150840 w 150480"/>
              <a:gd name="textAreaTop" fmla="*/ 0 h 27000"/>
              <a:gd name="textAreaBottom" fmla="*/ 27360 h 27000"/>
            </a:gdLst>
            <a:ahLst/>
            <a:rect l="textAreaLeft" t="textAreaTop" r="textAreaRight" b="textAreaBottom"/>
            <a:pathLst>
              <a:path w="151805" h="26790">
                <a:moveTo>
                  <a:pt x="0" y="0"/>
                </a:moveTo>
                <a:lnTo>
                  <a:pt x="13302" y="0"/>
                </a:lnTo>
                <a:lnTo>
                  <a:pt x="15813" y="993"/>
                </a:lnTo>
                <a:lnTo>
                  <a:pt x="18480" y="2646"/>
                </a:lnTo>
                <a:lnTo>
                  <a:pt x="21249" y="4740"/>
                </a:lnTo>
                <a:lnTo>
                  <a:pt x="25080" y="6138"/>
                </a:lnTo>
                <a:lnTo>
                  <a:pt x="29618" y="7068"/>
                </a:lnTo>
                <a:lnTo>
                  <a:pt x="34628" y="7689"/>
                </a:lnTo>
                <a:lnTo>
                  <a:pt x="38960" y="8103"/>
                </a:lnTo>
                <a:lnTo>
                  <a:pt x="42841" y="8378"/>
                </a:lnTo>
                <a:lnTo>
                  <a:pt x="46420" y="8563"/>
                </a:lnTo>
                <a:lnTo>
                  <a:pt x="53042" y="8766"/>
                </a:lnTo>
                <a:lnTo>
                  <a:pt x="70119" y="8898"/>
                </a:lnTo>
                <a:lnTo>
                  <a:pt x="86811" y="8921"/>
                </a:lnTo>
                <a:lnTo>
                  <a:pt x="91608" y="9916"/>
                </a:lnTo>
                <a:lnTo>
                  <a:pt x="95799" y="11571"/>
                </a:lnTo>
                <a:lnTo>
                  <a:pt x="99584" y="13668"/>
                </a:lnTo>
                <a:lnTo>
                  <a:pt x="103101" y="15065"/>
                </a:lnTo>
                <a:lnTo>
                  <a:pt x="106437" y="15996"/>
                </a:lnTo>
                <a:lnTo>
                  <a:pt x="109653" y="16618"/>
                </a:lnTo>
                <a:lnTo>
                  <a:pt x="113782" y="17032"/>
                </a:lnTo>
                <a:lnTo>
                  <a:pt x="118518" y="17308"/>
                </a:lnTo>
                <a:lnTo>
                  <a:pt x="123660" y="17491"/>
                </a:lnTo>
                <a:lnTo>
                  <a:pt x="128081" y="18607"/>
                </a:lnTo>
                <a:lnTo>
                  <a:pt x="132020" y="20342"/>
                </a:lnTo>
                <a:lnTo>
                  <a:pt x="140730" y="25516"/>
                </a:lnTo>
                <a:lnTo>
                  <a:pt x="144567" y="26224"/>
                </a:lnTo>
                <a:lnTo>
                  <a:pt x="151804" y="26789"/>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ffffff"/>
              </a:solidFill>
              <a:latin typeface="Arial"/>
            </a:endParaRPr>
          </a:p>
        </p:txBody>
      </p:sp>
      <p:sp>
        <p:nvSpPr>
          <p:cNvPr id="323" name="SMARTInkAnnotation104"/>
          <p:cNvSpPr/>
          <p:nvPr/>
        </p:nvSpPr>
        <p:spPr>
          <a:xfrm>
            <a:off x="1616040" y="6276960"/>
            <a:ext cx="169920" cy="54000"/>
          </a:xfrm>
          <a:custGeom>
            <a:avLst/>
            <a:gdLst>
              <a:gd name="textAreaLeft" fmla="*/ 0 w 169920"/>
              <a:gd name="textAreaRight" fmla="*/ 170280 w 169920"/>
              <a:gd name="textAreaTop" fmla="*/ 0 h 54000"/>
              <a:gd name="textAreaBottom" fmla="*/ 54360 h 54000"/>
            </a:gdLst>
            <a:ahLst/>
            <a:rect l="textAreaLeft" t="textAreaTop" r="textAreaRight" b="textAreaBottom"/>
            <a:pathLst>
              <a:path w="169665" h="53579">
                <a:moveTo>
                  <a:pt x="0" y="0"/>
                </a:moveTo>
                <a:lnTo>
                  <a:pt x="12429" y="0"/>
                </a:lnTo>
                <a:lnTo>
                  <a:pt x="15231" y="992"/>
                </a:lnTo>
                <a:lnTo>
                  <a:pt x="18092" y="2646"/>
                </a:lnTo>
                <a:lnTo>
                  <a:pt x="20991" y="4740"/>
                </a:lnTo>
                <a:lnTo>
                  <a:pt x="23916" y="6137"/>
                </a:lnTo>
                <a:lnTo>
                  <a:pt x="26858" y="7068"/>
                </a:lnTo>
                <a:lnTo>
                  <a:pt x="29811" y="7688"/>
                </a:lnTo>
                <a:lnTo>
                  <a:pt x="32773" y="9095"/>
                </a:lnTo>
                <a:lnTo>
                  <a:pt x="35739" y="11024"/>
                </a:lnTo>
                <a:lnTo>
                  <a:pt x="38709" y="13302"/>
                </a:lnTo>
                <a:lnTo>
                  <a:pt x="42673" y="14821"/>
                </a:lnTo>
                <a:lnTo>
                  <a:pt x="47300" y="15834"/>
                </a:lnTo>
                <a:lnTo>
                  <a:pt x="52369" y="16509"/>
                </a:lnTo>
                <a:lnTo>
                  <a:pt x="56741" y="16960"/>
                </a:lnTo>
                <a:lnTo>
                  <a:pt x="60648" y="17260"/>
                </a:lnTo>
                <a:lnTo>
                  <a:pt x="64244" y="17460"/>
                </a:lnTo>
                <a:lnTo>
                  <a:pt x="68626" y="18585"/>
                </a:lnTo>
                <a:lnTo>
                  <a:pt x="73532" y="20327"/>
                </a:lnTo>
                <a:lnTo>
                  <a:pt x="78787" y="22481"/>
                </a:lnTo>
                <a:lnTo>
                  <a:pt x="83283" y="24909"/>
                </a:lnTo>
                <a:lnTo>
                  <a:pt x="87272" y="27520"/>
                </a:lnTo>
                <a:lnTo>
                  <a:pt x="90923" y="30253"/>
                </a:lnTo>
                <a:lnTo>
                  <a:pt x="95342" y="32075"/>
                </a:lnTo>
                <a:lnTo>
                  <a:pt x="100272" y="33290"/>
                </a:lnTo>
                <a:lnTo>
                  <a:pt x="105543" y="34100"/>
                </a:lnTo>
                <a:lnTo>
                  <a:pt x="110050" y="35632"/>
                </a:lnTo>
                <a:lnTo>
                  <a:pt x="114046" y="37645"/>
                </a:lnTo>
                <a:lnTo>
                  <a:pt x="117703" y="39979"/>
                </a:lnTo>
                <a:lnTo>
                  <a:pt x="121132" y="41536"/>
                </a:lnTo>
                <a:lnTo>
                  <a:pt x="124411" y="42574"/>
                </a:lnTo>
                <a:lnTo>
                  <a:pt x="127589" y="43265"/>
                </a:lnTo>
                <a:lnTo>
                  <a:pt x="130700" y="43727"/>
                </a:lnTo>
                <a:lnTo>
                  <a:pt x="133766" y="44034"/>
                </a:lnTo>
                <a:lnTo>
                  <a:pt x="136802" y="44239"/>
                </a:lnTo>
                <a:lnTo>
                  <a:pt x="139819" y="45367"/>
                </a:lnTo>
                <a:lnTo>
                  <a:pt x="142822" y="47112"/>
                </a:lnTo>
                <a:lnTo>
                  <a:pt x="145816" y="49268"/>
                </a:lnTo>
                <a:lnTo>
                  <a:pt x="148805" y="50704"/>
                </a:lnTo>
                <a:lnTo>
                  <a:pt x="151789" y="51662"/>
                </a:lnTo>
                <a:lnTo>
                  <a:pt x="154771" y="52301"/>
                </a:lnTo>
                <a:lnTo>
                  <a:pt x="157751" y="52727"/>
                </a:lnTo>
                <a:lnTo>
                  <a:pt x="160730" y="53011"/>
                </a:lnTo>
                <a:lnTo>
                  <a:pt x="169664" y="53578"/>
                </a:lnTo>
              </a:path>
            </a:pathLst>
          </a:custGeom>
          <a:noFill/>
          <a:ln w="38160">
            <a:solidFill>
              <a:srgbClr val="009300"/>
            </a:solidFill>
            <a:round/>
          </a:ln>
        </p:spPr>
        <p:style>
          <a:lnRef idx="0"/>
          <a:fillRef idx="0"/>
          <a:effectRef idx="0"/>
          <a:fontRef idx="minor"/>
        </p:style>
        <p:txBody>
          <a:bodyPr lIns="90000" rIns="90000" tIns="7560" bIns="7560" anchor="ctr">
            <a:noAutofit/>
          </a:bodyPr>
          <a:p>
            <a:endParaRPr b="0" lang="en-US" sz="1800" spc="-1" strike="noStrike">
              <a:solidFill>
                <a:srgbClr val="ffffff"/>
              </a:solidFill>
              <a:latin typeface="Arial"/>
            </a:endParaRPr>
          </a:p>
        </p:txBody>
      </p:sp>
      <p:sp>
        <p:nvSpPr>
          <p:cNvPr id="324" name="SMARTInkAnnotation106"/>
          <p:cNvSpPr/>
          <p:nvPr/>
        </p:nvSpPr>
        <p:spPr>
          <a:xfrm>
            <a:off x="2643120" y="1581120"/>
            <a:ext cx="258840" cy="204840"/>
          </a:xfrm>
          <a:custGeom>
            <a:avLst/>
            <a:gdLst>
              <a:gd name="textAreaLeft" fmla="*/ 0 w 258840"/>
              <a:gd name="textAreaRight" fmla="*/ 259200 w 258840"/>
              <a:gd name="textAreaTop" fmla="*/ 0 h 204840"/>
              <a:gd name="textAreaBottom" fmla="*/ 205200 h 204840"/>
            </a:gdLst>
            <a:ahLst/>
            <a:rect l="textAreaLeft" t="textAreaTop" r="textAreaRight" b="textAreaBottom"/>
            <a:pathLst>
              <a:path w="258270" h="205226">
                <a:moveTo>
                  <a:pt x="169508" y="8930"/>
                </a:moveTo>
                <a:lnTo>
                  <a:pt x="160027" y="4189"/>
                </a:lnTo>
                <a:lnTo>
                  <a:pt x="155250" y="2793"/>
                </a:lnTo>
                <a:lnTo>
                  <a:pt x="150081" y="1862"/>
                </a:lnTo>
                <a:lnTo>
                  <a:pt x="144650" y="1241"/>
                </a:lnTo>
                <a:lnTo>
                  <a:pt x="139046" y="828"/>
                </a:lnTo>
                <a:lnTo>
                  <a:pt x="133325" y="552"/>
                </a:lnTo>
                <a:lnTo>
                  <a:pt x="127527" y="368"/>
                </a:lnTo>
                <a:lnTo>
                  <a:pt x="121677" y="1238"/>
                </a:lnTo>
                <a:lnTo>
                  <a:pt x="115792" y="2810"/>
                </a:lnTo>
                <a:lnTo>
                  <a:pt x="109886" y="4850"/>
                </a:lnTo>
                <a:lnTo>
                  <a:pt x="103963" y="7202"/>
                </a:lnTo>
                <a:lnTo>
                  <a:pt x="98030" y="9762"/>
                </a:lnTo>
                <a:lnTo>
                  <a:pt x="86147" y="15253"/>
                </a:lnTo>
                <a:lnTo>
                  <a:pt x="74251" y="21001"/>
                </a:lnTo>
                <a:lnTo>
                  <a:pt x="69292" y="22930"/>
                </a:lnTo>
                <a:lnTo>
                  <a:pt x="64994" y="24216"/>
                </a:lnTo>
                <a:lnTo>
                  <a:pt x="61137" y="25074"/>
                </a:lnTo>
                <a:lnTo>
                  <a:pt x="56581" y="27630"/>
                </a:lnTo>
                <a:lnTo>
                  <a:pt x="51560" y="31319"/>
                </a:lnTo>
                <a:lnTo>
                  <a:pt x="46227" y="35762"/>
                </a:lnTo>
                <a:lnTo>
                  <a:pt x="41680" y="39716"/>
                </a:lnTo>
                <a:lnTo>
                  <a:pt x="37657" y="43345"/>
                </a:lnTo>
                <a:lnTo>
                  <a:pt x="33983" y="46756"/>
                </a:lnTo>
                <a:lnTo>
                  <a:pt x="30541" y="51015"/>
                </a:lnTo>
                <a:lnTo>
                  <a:pt x="27254" y="55838"/>
                </a:lnTo>
                <a:lnTo>
                  <a:pt x="24070" y="61038"/>
                </a:lnTo>
                <a:lnTo>
                  <a:pt x="20956" y="66489"/>
                </a:lnTo>
                <a:lnTo>
                  <a:pt x="14849" y="77837"/>
                </a:lnTo>
                <a:lnTo>
                  <a:pt x="5834" y="95382"/>
                </a:lnTo>
                <a:lnTo>
                  <a:pt x="3837" y="101291"/>
                </a:lnTo>
                <a:lnTo>
                  <a:pt x="2506" y="107215"/>
                </a:lnTo>
                <a:lnTo>
                  <a:pt x="1619" y="113149"/>
                </a:lnTo>
                <a:lnTo>
                  <a:pt x="1027" y="118097"/>
                </a:lnTo>
                <a:lnTo>
                  <a:pt x="633" y="122387"/>
                </a:lnTo>
                <a:lnTo>
                  <a:pt x="370" y="126240"/>
                </a:lnTo>
                <a:lnTo>
                  <a:pt x="195" y="130793"/>
                </a:lnTo>
                <a:lnTo>
                  <a:pt x="0" y="141143"/>
                </a:lnTo>
                <a:lnTo>
                  <a:pt x="940" y="145689"/>
                </a:lnTo>
                <a:lnTo>
                  <a:pt x="2559" y="149712"/>
                </a:lnTo>
                <a:lnTo>
                  <a:pt x="4631" y="153386"/>
                </a:lnTo>
                <a:lnTo>
                  <a:pt x="9578" y="162760"/>
                </a:lnTo>
                <a:lnTo>
                  <a:pt x="12287" y="168038"/>
                </a:lnTo>
                <a:lnTo>
                  <a:pt x="16077" y="172549"/>
                </a:lnTo>
                <a:lnTo>
                  <a:pt x="20588" y="176549"/>
                </a:lnTo>
                <a:lnTo>
                  <a:pt x="25579" y="180207"/>
                </a:lnTo>
                <a:lnTo>
                  <a:pt x="29900" y="183638"/>
                </a:lnTo>
                <a:lnTo>
                  <a:pt x="33772" y="186917"/>
                </a:lnTo>
                <a:lnTo>
                  <a:pt x="37345" y="190096"/>
                </a:lnTo>
                <a:lnTo>
                  <a:pt x="42705" y="193208"/>
                </a:lnTo>
                <a:lnTo>
                  <a:pt x="49253" y="196274"/>
                </a:lnTo>
                <a:lnTo>
                  <a:pt x="56596" y="199310"/>
                </a:lnTo>
                <a:lnTo>
                  <a:pt x="63476" y="201334"/>
                </a:lnTo>
                <a:lnTo>
                  <a:pt x="70047" y="202684"/>
                </a:lnTo>
                <a:lnTo>
                  <a:pt x="76411" y="203584"/>
                </a:lnTo>
                <a:lnTo>
                  <a:pt x="83631" y="204183"/>
                </a:lnTo>
                <a:lnTo>
                  <a:pt x="91421" y="204583"/>
                </a:lnTo>
                <a:lnTo>
                  <a:pt x="107022" y="205028"/>
                </a:lnTo>
                <a:lnTo>
                  <a:pt x="120570" y="205225"/>
                </a:lnTo>
                <a:lnTo>
                  <a:pt x="127953" y="204285"/>
                </a:lnTo>
                <a:lnTo>
                  <a:pt x="135852" y="202667"/>
                </a:lnTo>
                <a:lnTo>
                  <a:pt x="144094" y="200596"/>
                </a:lnTo>
                <a:lnTo>
                  <a:pt x="151573" y="199215"/>
                </a:lnTo>
                <a:lnTo>
                  <a:pt x="158544" y="198294"/>
                </a:lnTo>
                <a:lnTo>
                  <a:pt x="165175" y="197681"/>
                </a:lnTo>
                <a:lnTo>
                  <a:pt x="171580" y="196279"/>
                </a:lnTo>
                <a:lnTo>
                  <a:pt x="177835" y="194353"/>
                </a:lnTo>
                <a:lnTo>
                  <a:pt x="183989" y="192077"/>
                </a:lnTo>
                <a:lnTo>
                  <a:pt x="190076" y="188575"/>
                </a:lnTo>
                <a:lnTo>
                  <a:pt x="196119" y="184256"/>
                </a:lnTo>
                <a:lnTo>
                  <a:pt x="202131" y="179392"/>
                </a:lnTo>
                <a:lnTo>
                  <a:pt x="208124" y="175157"/>
                </a:lnTo>
                <a:lnTo>
                  <a:pt x="214104" y="171342"/>
                </a:lnTo>
                <a:lnTo>
                  <a:pt x="220074" y="167806"/>
                </a:lnTo>
                <a:lnTo>
                  <a:pt x="225047" y="164457"/>
                </a:lnTo>
                <a:lnTo>
                  <a:pt x="229355" y="161232"/>
                </a:lnTo>
                <a:lnTo>
                  <a:pt x="233218" y="158090"/>
                </a:lnTo>
                <a:lnTo>
                  <a:pt x="236786" y="154010"/>
                </a:lnTo>
                <a:lnTo>
                  <a:pt x="240157" y="149306"/>
                </a:lnTo>
                <a:lnTo>
                  <a:pt x="243397" y="144186"/>
                </a:lnTo>
                <a:lnTo>
                  <a:pt x="246548" y="138788"/>
                </a:lnTo>
                <a:lnTo>
                  <a:pt x="249642" y="133205"/>
                </a:lnTo>
                <a:lnTo>
                  <a:pt x="252696" y="127499"/>
                </a:lnTo>
                <a:lnTo>
                  <a:pt x="254733" y="121710"/>
                </a:lnTo>
                <a:lnTo>
                  <a:pt x="256090" y="115867"/>
                </a:lnTo>
                <a:lnTo>
                  <a:pt x="256995" y="109987"/>
                </a:lnTo>
                <a:lnTo>
                  <a:pt x="257598" y="104082"/>
                </a:lnTo>
                <a:lnTo>
                  <a:pt x="258001" y="98162"/>
                </a:lnTo>
                <a:lnTo>
                  <a:pt x="258269" y="92230"/>
                </a:lnTo>
                <a:lnTo>
                  <a:pt x="257455" y="87284"/>
                </a:lnTo>
                <a:lnTo>
                  <a:pt x="255921" y="82994"/>
                </a:lnTo>
                <a:lnTo>
                  <a:pt x="249021" y="69570"/>
                </a:lnTo>
                <a:lnTo>
                  <a:pt x="237800" y="47256"/>
                </a:lnTo>
                <a:lnTo>
                  <a:pt x="233888" y="42418"/>
                </a:lnTo>
                <a:lnTo>
                  <a:pt x="229295" y="38201"/>
                </a:lnTo>
                <a:lnTo>
                  <a:pt x="224249" y="34397"/>
                </a:lnTo>
                <a:lnTo>
                  <a:pt x="218900" y="30869"/>
                </a:lnTo>
                <a:lnTo>
                  <a:pt x="213351" y="27525"/>
                </a:lnTo>
                <a:lnTo>
                  <a:pt x="207666" y="24303"/>
                </a:lnTo>
                <a:lnTo>
                  <a:pt x="202884" y="21163"/>
                </a:lnTo>
                <a:lnTo>
                  <a:pt x="194926" y="15028"/>
                </a:lnTo>
                <a:lnTo>
                  <a:pt x="188081" y="8994"/>
                </a:lnTo>
                <a:lnTo>
                  <a:pt x="184866" y="5996"/>
                </a:lnTo>
                <a:lnTo>
                  <a:pt x="181732" y="3998"/>
                </a:lnTo>
                <a:lnTo>
                  <a:pt x="178649" y="2665"/>
                </a:lnTo>
                <a:lnTo>
                  <a:pt x="169508" y="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7T23:34:38Z</dcterms:created>
  <dc:creator>Owner</dc:creator>
  <dc:description/>
  <dc:language>en-US</dc:language>
  <cp:lastModifiedBy>Administrator</cp:lastModifiedBy>
  <dcterms:modified xsi:type="dcterms:W3CDTF">2011-04-26T11:15:43Z</dcterms:modified>
  <cp:revision>14</cp:revision>
  <dc:subject/>
  <dc:title>Mechanical Energy</dc:title>
</cp:coreProperties>
</file>